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4.wmf" ContentType="image/x-wmf"/>
  <Override PartName="/ppt/media/image28.gif" ContentType="image/gif"/>
  <Override PartName="/ppt/media/image22.wmf" ContentType="image/x-wmf"/>
  <Override PartName="/ppt/media/image21.wmf" ContentType="image/x-wmf"/>
  <Override PartName="/ppt/media/image17.gif" ContentType="image/gif"/>
  <Override PartName="/ppt/media/image16.jpeg" ContentType="image/jpeg"/>
  <Override PartName="/ppt/media/image5.wmf" ContentType="image/x-wmf"/>
  <Override PartName="/ppt/media/image35.wmf" ContentType="image/x-wmf"/>
  <Override PartName="/ppt/media/image14.png" ContentType="image/png"/>
  <Override PartName="/ppt/media/image19.gif" ContentType="image/gif"/>
  <Override PartName="/ppt/media/image15.wmf" ContentType="image/x-wmf"/>
  <Override PartName="/ppt/media/image1.png" ContentType="image/png"/>
  <Override PartName="/ppt/media/image2.png" ContentType="image/png"/>
  <Override PartName="/ppt/media/image23.wmf" ContentType="image/x-wmf"/>
  <Override PartName="/ppt/media/image27.gif" ContentType="image/gif"/>
  <Override PartName="/ppt/media/image39.wmf" ContentType="image/x-wmf"/>
  <Override PartName="/ppt/media/image30.gif" ContentType="image/gif"/>
  <Override PartName="/ppt/media/image41.wmf" ContentType="image/x-wmf"/>
  <Override PartName="/ppt/media/image8.png" ContentType="image/png"/>
  <Override PartName="/ppt/media/image45.gif" ContentType="image/gif"/>
  <Override PartName="/ppt/media/image36.wmf" ContentType="image/x-wmf"/>
  <Override PartName="/ppt/media/image38.wmf" ContentType="image/x-wmf"/>
  <Override PartName="/ppt/media/image42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13.jpeg" ContentType="image/jpeg"/>
  <Override PartName="/ppt/media/image18.gif" ContentType="image/gif"/>
  <Override PartName="/ppt/media/image20.gif" ContentType="image/gif"/>
  <Override PartName="/ppt/media/image32.wmf" ContentType="image/x-wmf"/>
  <Override PartName="/ppt/media/image12.png" ContentType="image/png"/>
  <Override PartName="/ppt/media/image44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F8D-0FEE-4A85-B1DC-D67F2FEA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8AD-5FA9-440D-ABAE-D429C31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195-BE4D-4EE7-8227-E17606F2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9F8-467F-4B3A-A1B8-81D986CA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60C-70DA-43B6-95E7-4CADBB9F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83A-71B3-4A34-BC86-B95FDF8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6F9-ACBF-4BAB-B20C-1256183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600-B583-4158-8D60-9B1EEFD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93E-9C4E-4B25-BA64-D9DCA4D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11E-1610-4584-A0DB-E89EB10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077-5CD4-4917-9580-E30BD00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5FD-6567-4FD7-954E-F9AD6F5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990720"/>
            <a:ext cx="7696080" cy="75960"/>
          </a:xfrm>
          <a:prstGeom prst="rect">
            <a:avLst/>
          </a:prstGeom>
          <a:gradFill rotWithShape="0">
            <a:gsLst>
              <a:gs pos="0">
                <a:srgbClr val="006462"/>
              </a:gs>
              <a:gs pos="100000">
                <a:srgbClr val="78b8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6F7-0E30-4283-888B-CB61824D0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371600" cy="1366920"/>
            <a:chOff x="0" y="0"/>
            <a:chExt cx="1371600" cy="1366920"/>
          </a:xfrm>
        </p:grpSpPr>
        <p:sp>
          <p:nvSpPr>
            <p:cNvPr id="7" name=""/>
            <p:cNvSpPr/>
            <p:nvPr/>
          </p:nvSpPr>
          <p:spPr>
            <a:xfrm>
              <a:off x="0" y="0"/>
              <a:ext cx="1371600" cy="1366920"/>
            </a:xfrm>
            <a:custGeom>
              <a:avLst/>
              <a:gdLst/>
              <a:ahLst/>
              <a:rect l="l" t="t" r="r" b="b"/>
              <a:pathLst>
                <a:path w="2592" h="2583">
                  <a:moveTo>
                    <a:pt x="1180" y="546"/>
                  </a:moveTo>
                  <a:lnTo>
                    <a:pt x="1192" y="542"/>
                  </a:lnTo>
                  <a:lnTo>
                    <a:pt x="1205" y="538"/>
                  </a:lnTo>
                  <a:lnTo>
                    <a:pt x="1218" y="534"/>
                  </a:lnTo>
                  <a:lnTo>
                    <a:pt x="1229" y="530"/>
                  </a:lnTo>
                  <a:lnTo>
                    <a:pt x="1242" y="528"/>
                  </a:lnTo>
                  <a:lnTo>
                    <a:pt x="1255" y="524"/>
                  </a:lnTo>
                  <a:lnTo>
                    <a:pt x="1268" y="521"/>
                  </a:lnTo>
                  <a:lnTo>
                    <a:pt x="1281" y="519"/>
                  </a:lnTo>
                  <a:lnTo>
                    <a:pt x="1294" y="517"/>
                  </a:lnTo>
                  <a:lnTo>
                    <a:pt x="1307" y="515"/>
                  </a:lnTo>
                  <a:lnTo>
                    <a:pt x="1320" y="513"/>
                  </a:lnTo>
                  <a:lnTo>
                    <a:pt x="1333" y="512"/>
                  </a:lnTo>
                  <a:lnTo>
                    <a:pt x="1347" y="511"/>
                  </a:lnTo>
                  <a:lnTo>
                    <a:pt x="1360" y="510"/>
                  </a:lnTo>
                  <a:lnTo>
                    <a:pt x="1374" y="510"/>
                  </a:lnTo>
                  <a:lnTo>
                    <a:pt x="1387" y="510"/>
                  </a:lnTo>
                  <a:lnTo>
                    <a:pt x="1448" y="512"/>
                  </a:lnTo>
                  <a:lnTo>
                    <a:pt x="1508" y="521"/>
                  </a:lnTo>
                  <a:lnTo>
                    <a:pt x="1565" y="537"/>
                  </a:lnTo>
                  <a:lnTo>
                    <a:pt x="1621" y="556"/>
                  </a:lnTo>
                  <a:lnTo>
                    <a:pt x="1673" y="582"/>
                  </a:lnTo>
                  <a:lnTo>
                    <a:pt x="1723" y="612"/>
                  </a:lnTo>
                  <a:lnTo>
                    <a:pt x="1769" y="647"/>
                  </a:lnTo>
                  <a:lnTo>
                    <a:pt x="1811" y="686"/>
                  </a:lnTo>
                  <a:lnTo>
                    <a:pt x="1850" y="729"/>
                  </a:lnTo>
                  <a:lnTo>
                    <a:pt x="1885" y="775"/>
                  </a:lnTo>
                  <a:lnTo>
                    <a:pt x="1915" y="825"/>
                  </a:lnTo>
                  <a:lnTo>
                    <a:pt x="1941" y="877"/>
                  </a:lnTo>
                  <a:lnTo>
                    <a:pt x="1961" y="932"/>
                  </a:lnTo>
                  <a:lnTo>
                    <a:pt x="1976" y="991"/>
                  </a:lnTo>
                  <a:lnTo>
                    <a:pt x="1985" y="1050"/>
                  </a:lnTo>
                  <a:lnTo>
                    <a:pt x="1988" y="1111"/>
                  </a:lnTo>
                  <a:lnTo>
                    <a:pt x="1985" y="1161"/>
                  </a:lnTo>
                  <a:lnTo>
                    <a:pt x="1980" y="1210"/>
                  </a:lnTo>
                  <a:lnTo>
                    <a:pt x="1970" y="1258"/>
                  </a:lnTo>
                  <a:lnTo>
                    <a:pt x="1957" y="1303"/>
                  </a:lnTo>
                  <a:lnTo>
                    <a:pt x="1940" y="1347"/>
                  </a:lnTo>
                  <a:lnTo>
                    <a:pt x="1919" y="1390"/>
                  </a:lnTo>
                  <a:lnTo>
                    <a:pt x="1897" y="1430"/>
                  </a:lnTo>
                  <a:lnTo>
                    <a:pt x="1870" y="1469"/>
                  </a:lnTo>
                  <a:lnTo>
                    <a:pt x="1841" y="1505"/>
                  </a:lnTo>
                  <a:lnTo>
                    <a:pt x="1809" y="1539"/>
                  </a:lnTo>
                  <a:lnTo>
                    <a:pt x="1775" y="1572"/>
                  </a:lnTo>
                  <a:lnTo>
                    <a:pt x="1739" y="1600"/>
                  </a:lnTo>
                  <a:lnTo>
                    <a:pt x="1700" y="1626"/>
                  </a:lnTo>
                  <a:lnTo>
                    <a:pt x="1658" y="1648"/>
                  </a:lnTo>
                  <a:lnTo>
                    <a:pt x="1616" y="1668"/>
                  </a:lnTo>
                  <a:lnTo>
                    <a:pt x="1572" y="1684"/>
                  </a:lnTo>
                  <a:lnTo>
                    <a:pt x="1570" y="1683"/>
                  </a:lnTo>
                  <a:lnTo>
                    <a:pt x="1570" y="1682"/>
                  </a:lnTo>
                  <a:lnTo>
                    <a:pt x="1569" y="1681"/>
                  </a:lnTo>
                  <a:lnTo>
                    <a:pt x="1569" y="1679"/>
                  </a:lnTo>
                  <a:lnTo>
                    <a:pt x="1568" y="1675"/>
                  </a:lnTo>
                  <a:lnTo>
                    <a:pt x="1569" y="1673"/>
                  </a:lnTo>
                  <a:lnTo>
                    <a:pt x="1573" y="1673"/>
                  </a:lnTo>
                  <a:lnTo>
                    <a:pt x="1579" y="1674"/>
                  </a:lnTo>
                  <a:lnTo>
                    <a:pt x="1583" y="1674"/>
                  </a:lnTo>
                  <a:lnTo>
                    <a:pt x="1586" y="1671"/>
                  </a:lnTo>
                  <a:lnTo>
                    <a:pt x="1586" y="1668"/>
                  </a:lnTo>
                  <a:lnTo>
                    <a:pt x="1587" y="1662"/>
                  </a:lnTo>
                  <a:lnTo>
                    <a:pt x="1587" y="1656"/>
                  </a:lnTo>
                  <a:lnTo>
                    <a:pt x="1588" y="1653"/>
                  </a:lnTo>
                  <a:lnTo>
                    <a:pt x="1592" y="1652"/>
                  </a:lnTo>
                  <a:lnTo>
                    <a:pt x="1600" y="1651"/>
                  </a:lnTo>
                  <a:lnTo>
                    <a:pt x="1608" y="1649"/>
                  </a:lnTo>
                  <a:lnTo>
                    <a:pt x="1612" y="1648"/>
                  </a:lnTo>
                  <a:lnTo>
                    <a:pt x="1616" y="1645"/>
                  </a:lnTo>
                  <a:lnTo>
                    <a:pt x="1618" y="1642"/>
                  </a:lnTo>
                  <a:lnTo>
                    <a:pt x="1622" y="1638"/>
                  </a:lnTo>
                  <a:lnTo>
                    <a:pt x="1626" y="1636"/>
                  </a:lnTo>
                  <a:lnTo>
                    <a:pt x="1630" y="1635"/>
                  </a:lnTo>
                  <a:lnTo>
                    <a:pt x="1632" y="1634"/>
                  </a:lnTo>
                  <a:lnTo>
                    <a:pt x="1634" y="1631"/>
                  </a:lnTo>
                  <a:lnTo>
                    <a:pt x="1632" y="1627"/>
                  </a:lnTo>
                  <a:lnTo>
                    <a:pt x="1629" y="1622"/>
                  </a:lnTo>
                  <a:lnTo>
                    <a:pt x="1622" y="1617"/>
                  </a:lnTo>
                  <a:lnTo>
                    <a:pt x="1618" y="1613"/>
                  </a:lnTo>
                  <a:lnTo>
                    <a:pt x="1623" y="1612"/>
                  </a:lnTo>
                  <a:lnTo>
                    <a:pt x="1632" y="1612"/>
                  </a:lnTo>
                  <a:lnTo>
                    <a:pt x="1645" y="1612"/>
                  </a:lnTo>
                  <a:lnTo>
                    <a:pt x="1656" y="1610"/>
                  </a:lnTo>
                  <a:lnTo>
                    <a:pt x="1660" y="1608"/>
                  </a:lnTo>
                  <a:lnTo>
                    <a:pt x="1661" y="1604"/>
                  </a:lnTo>
                  <a:lnTo>
                    <a:pt x="1662" y="1598"/>
                  </a:lnTo>
                  <a:lnTo>
                    <a:pt x="1665" y="1591"/>
                  </a:lnTo>
                  <a:lnTo>
                    <a:pt x="1669" y="1587"/>
                  </a:lnTo>
                  <a:lnTo>
                    <a:pt x="1673" y="1583"/>
                  </a:lnTo>
                  <a:lnTo>
                    <a:pt x="1678" y="1578"/>
                  </a:lnTo>
                  <a:lnTo>
                    <a:pt x="1680" y="1574"/>
                  </a:lnTo>
                  <a:lnTo>
                    <a:pt x="1680" y="1572"/>
                  </a:lnTo>
                  <a:lnTo>
                    <a:pt x="1680" y="1569"/>
                  </a:lnTo>
                  <a:lnTo>
                    <a:pt x="1686" y="1563"/>
                  </a:lnTo>
                  <a:lnTo>
                    <a:pt x="1687" y="1561"/>
                  </a:lnTo>
                  <a:lnTo>
                    <a:pt x="1691" y="1555"/>
                  </a:lnTo>
                  <a:lnTo>
                    <a:pt x="1695" y="1546"/>
                  </a:lnTo>
                  <a:lnTo>
                    <a:pt x="1696" y="1533"/>
                  </a:lnTo>
                  <a:lnTo>
                    <a:pt x="1697" y="1526"/>
                  </a:lnTo>
                  <a:lnTo>
                    <a:pt x="1701" y="1520"/>
                  </a:lnTo>
                  <a:lnTo>
                    <a:pt x="1708" y="1515"/>
                  </a:lnTo>
                  <a:lnTo>
                    <a:pt x="1715" y="1509"/>
                  </a:lnTo>
                  <a:lnTo>
                    <a:pt x="1725" y="1505"/>
                  </a:lnTo>
                  <a:lnTo>
                    <a:pt x="1734" y="1503"/>
                  </a:lnTo>
                  <a:lnTo>
                    <a:pt x="1743" y="1500"/>
                  </a:lnTo>
                  <a:lnTo>
                    <a:pt x="1752" y="1499"/>
                  </a:lnTo>
                  <a:lnTo>
                    <a:pt x="1758" y="1498"/>
                  </a:lnTo>
                  <a:lnTo>
                    <a:pt x="1761" y="1495"/>
                  </a:lnTo>
                  <a:lnTo>
                    <a:pt x="1761" y="1491"/>
                  </a:lnTo>
                  <a:lnTo>
                    <a:pt x="1761" y="1486"/>
                  </a:lnTo>
                  <a:lnTo>
                    <a:pt x="1763" y="1481"/>
                  </a:lnTo>
                  <a:lnTo>
                    <a:pt x="1766" y="1477"/>
                  </a:lnTo>
                  <a:lnTo>
                    <a:pt x="1769" y="1474"/>
                  </a:lnTo>
                  <a:lnTo>
                    <a:pt x="1770" y="1472"/>
                  </a:lnTo>
                  <a:lnTo>
                    <a:pt x="1771" y="1467"/>
                  </a:lnTo>
                  <a:lnTo>
                    <a:pt x="1774" y="1460"/>
                  </a:lnTo>
                  <a:lnTo>
                    <a:pt x="1775" y="1455"/>
                  </a:lnTo>
                  <a:lnTo>
                    <a:pt x="1778" y="1450"/>
                  </a:lnTo>
                  <a:lnTo>
                    <a:pt x="1779" y="1445"/>
                  </a:lnTo>
                  <a:lnTo>
                    <a:pt x="1779" y="1441"/>
                  </a:lnTo>
                  <a:lnTo>
                    <a:pt x="1778" y="1438"/>
                  </a:lnTo>
                  <a:lnTo>
                    <a:pt x="1775" y="1435"/>
                  </a:lnTo>
                  <a:lnTo>
                    <a:pt x="1775" y="1433"/>
                  </a:lnTo>
                  <a:lnTo>
                    <a:pt x="1776" y="1430"/>
                  </a:lnTo>
                  <a:lnTo>
                    <a:pt x="1778" y="1429"/>
                  </a:lnTo>
                  <a:lnTo>
                    <a:pt x="1778" y="1426"/>
                  </a:lnTo>
                  <a:lnTo>
                    <a:pt x="1775" y="1425"/>
                  </a:lnTo>
                  <a:lnTo>
                    <a:pt x="1774" y="1422"/>
                  </a:lnTo>
                  <a:lnTo>
                    <a:pt x="1774" y="1419"/>
                  </a:lnTo>
                  <a:lnTo>
                    <a:pt x="1776" y="1416"/>
                  </a:lnTo>
                  <a:lnTo>
                    <a:pt x="1780" y="1415"/>
                  </a:lnTo>
                  <a:lnTo>
                    <a:pt x="1785" y="1412"/>
                  </a:lnTo>
                  <a:lnTo>
                    <a:pt x="1788" y="1408"/>
                  </a:lnTo>
                  <a:lnTo>
                    <a:pt x="1791" y="1403"/>
                  </a:lnTo>
                  <a:lnTo>
                    <a:pt x="1792" y="1397"/>
                  </a:lnTo>
                  <a:lnTo>
                    <a:pt x="1795" y="1391"/>
                  </a:lnTo>
                  <a:lnTo>
                    <a:pt x="1798" y="1387"/>
                  </a:lnTo>
                  <a:lnTo>
                    <a:pt x="1802" y="1384"/>
                  </a:lnTo>
                  <a:lnTo>
                    <a:pt x="1806" y="1378"/>
                  </a:lnTo>
                  <a:lnTo>
                    <a:pt x="1809" y="1372"/>
                  </a:lnTo>
                  <a:lnTo>
                    <a:pt x="1810" y="1367"/>
                  </a:lnTo>
                  <a:lnTo>
                    <a:pt x="1813" y="1364"/>
                  </a:lnTo>
                  <a:lnTo>
                    <a:pt x="1813" y="1362"/>
                  </a:lnTo>
                  <a:lnTo>
                    <a:pt x="1809" y="1351"/>
                  </a:lnTo>
                  <a:lnTo>
                    <a:pt x="1804" y="1343"/>
                  </a:lnTo>
                  <a:lnTo>
                    <a:pt x="1800" y="1342"/>
                  </a:lnTo>
                  <a:lnTo>
                    <a:pt x="1796" y="1343"/>
                  </a:lnTo>
                  <a:lnTo>
                    <a:pt x="1791" y="1342"/>
                  </a:lnTo>
                  <a:lnTo>
                    <a:pt x="1783" y="1337"/>
                  </a:lnTo>
                  <a:lnTo>
                    <a:pt x="1776" y="1332"/>
                  </a:lnTo>
                  <a:lnTo>
                    <a:pt x="1770" y="1329"/>
                  </a:lnTo>
                  <a:lnTo>
                    <a:pt x="1765" y="1327"/>
                  </a:lnTo>
                  <a:lnTo>
                    <a:pt x="1761" y="1325"/>
                  </a:lnTo>
                  <a:lnTo>
                    <a:pt x="1757" y="1324"/>
                  </a:lnTo>
                  <a:lnTo>
                    <a:pt x="1753" y="1324"/>
                  </a:lnTo>
                  <a:lnTo>
                    <a:pt x="1749" y="1324"/>
                  </a:lnTo>
                  <a:lnTo>
                    <a:pt x="1743" y="1324"/>
                  </a:lnTo>
                  <a:lnTo>
                    <a:pt x="1739" y="1323"/>
                  </a:lnTo>
                  <a:lnTo>
                    <a:pt x="1734" y="1321"/>
                  </a:lnTo>
                  <a:lnTo>
                    <a:pt x="1728" y="1320"/>
                  </a:lnTo>
                  <a:lnTo>
                    <a:pt x="1726" y="1319"/>
                  </a:lnTo>
                  <a:lnTo>
                    <a:pt x="1725" y="1316"/>
                  </a:lnTo>
                  <a:lnTo>
                    <a:pt x="1723" y="1314"/>
                  </a:lnTo>
                  <a:lnTo>
                    <a:pt x="1719" y="1312"/>
                  </a:lnTo>
                  <a:lnTo>
                    <a:pt x="1713" y="1311"/>
                  </a:lnTo>
                  <a:lnTo>
                    <a:pt x="1708" y="1310"/>
                  </a:lnTo>
                  <a:lnTo>
                    <a:pt x="1702" y="1307"/>
                  </a:lnTo>
                  <a:lnTo>
                    <a:pt x="1697" y="1307"/>
                  </a:lnTo>
                  <a:lnTo>
                    <a:pt x="1688" y="1308"/>
                  </a:lnTo>
                  <a:lnTo>
                    <a:pt x="1684" y="1307"/>
                  </a:lnTo>
                  <a:lnTo>
                    <a:pt x="1679" y="1304"/>
                  </a:lnTo>
                  <a:lnTo>
                    <a:pt x="1666" y="1303"/>
                  </a:lnTo>
                  <a:lnTo>
                    <a:pt x="1674" y="1297"/>
                  </a:lnTo>
                  <a:lnTo>
                    <a:pt x="1677" y="1293"/>
                  </a:lnTo>
                  <a:lnTo>
                    <a:pt x="1675" y="1286"/>
                  </a:lnTo>
                  <a:lnTo>
                    <a:pt x="1671" y="1280"/>
                  </a:lnTo>
                  <a:lnTo>
                    <a:pt x="1669" y="1273"/>
                  </a:lnTo>
                  <a:lnTo>
                    <a:pt x="1667" y="1269"/>
                  </a:lnTo>
                  <a:lnTo>
                    <a:pt x="1666" y="1267"/>
                  </a:lnTo>
                  <a:lnTo>
                    <a:pt x="1666" y="1266"/>
                  </a:lnTo>
                  <a:lnTo>
                    <a:pt x="1664" y="1263"/>
                  </a:lnTo>
                  <a:lnTo>
                    <a:pt x="1660" y="1260"/>
                  </a:lnTo>
                  <a:lnTo>
                    <a:pt x="1657" y="1256"/>
                  </a:lnTo>
                  <a:lnTo>
                    <a:pt x="1655" y="1254"/>
                  </a:lnTo>
                  <a:lnTo>
                    <a:pt x="1651" y="1251"/>
                  </a:lnTo>
                  <a:lnTo>
                    <a:pt x="1647" y="1250"/>
                  </a:lnTo>
                  <a:lnTo>
                    <a:pt x="1644" y="1250"/>
                  </a:lnTo>
                  <a:lnTo>
                    <a:pt x="1643" y="1251"/>
                  </a:lnTo>
                  <a:lnTo>
                    <a:pt x="1640" y="1250"/>
                  </a:lnTo>
                  <a:lnTo>
                    <a:pt x="1636" y="1249"/>
                  </a:lnTo>
                  <a:lnTo>
                    <a:pt x="1631" y="1249"/>
                  </a:lnTo>
                  <a:lnTo>
                    <a:pt x="1625" y="1250"/>
                  </a:lnTo>
                  <a:lnTo>
                    <a:pt x="1620" y="1251"/>
                  </a:lnTo>
                  <a:lnTo>
                    <a:pt x="1616" y="1253"/>
                  </a:lnTo>
                  <a:lnTo>
                    <a:pt x="1614" y="1253"/>
                  </a:lnTo>
                  <a:lnTo>
                    <a:pt x="1613" y="1251"/>
                  </a:lnTo>
                  <a:lnTo>
                    <a:pt x="1613" y="1249"/>
                  </a:lnTo>
                  <a:lnTo>
                    <a:pt x="1613" y="1247"/>
                  </a:lnTo>
                  <a:lnTo>
                    <a:pt x="1613" y="1246"/>
                  </a:lnTo>
                  <a:lnTo>
                    <a:pt x="1612" y="1245"/>
                  </a:lnTo>
                  <a:lnTo>
                    <a:pt x="1609" y="1244"/>
                  </a:lnTo>
                  <a:lnTo>
                    <a:pt x="1607" y="1241"/>
                  </a:lnTo>
                  <a:lnTo>
                    <a:pt x="1604" y="1238"/>
                  </a:lnTo>
                  <a:lnTo>
                    <a:pt x="1601" y="1234"/>
                  </a:lnTo>
                  <a:lnTo>
                    <a:pt x="1600" y="1229"/>
                  </a:lnTo>
                  <a:lnTo>
                    <a:pt x="1597" y="1227"/>
                  </a:lnTo>
                  <a:lnTo>
                    <a:pt x="1595" y="1225"/>
                  </a:lnTo>
                  <a:lnTo>
                    <a:pt x="1591" y="1225"/>
                  </a:lnTo>
                  <a:lnTo>
                    <a:pt x="1587" y="1224"/>
                  </a:lnTo>
                  <a:lnTo>
                    <a:pt x="1585" y="1221"/>
                  </a:lnTo>
                  <a:lnTo>
                    <a:pt x="1583" y="1219"/>
                  </a:lnTo>
                  <a:lnTo>
                    <a:pt x="1582" y="1218"/>
                  </a:lnTo>
                  <a:lnTo>
                    <a:pt x="1579" y="1215"/>
                  </a:lnTo>
                  <a:lnTo>
                    <a:pt x="1574" y="1214"/>
                  </a:lnTo>
                  <a:lnTo>
                    <a:pt x="1570" y="1211"/>
                  </a:lnTo>
                  <a:lnTo>
                    <a:pt x="1568" y="1210"/>
                  </a:lnTo>
                  <a:lnTo>
                    <a:pt x="1565" y="1209"/>
                  </a:lnTo>
                  <a:lnTo>
                    <a:pt x="1562" y="1207"/>
                  </a:lnTo>
                  <a:lnTo>
                    <a:pt x="1559" y="1206"/>
                  </a:lnTo>
                  <a:lnTo>
                    <a:pt x="1555" y="1206"/>
                  </a:lnTo>
                  <a:lnTo>
                    <a:pt x="1551" y="1207"/>
                  </a:lnTo>
                  <a:lnTo>
                    <a:pt x="1547" y="1209"/>
                  </a:lnTo>
                  <a:lnTo>
                    <a:pt x="1544" y="1211"/>
                  </a:lnTo>
                  <a:lnTo>
                    <a:pt x="1540" y="1211"/>
                  </a:lnTo>
                  <a:lnTo>
                    <a:pt x="1535" y="1211"/>
                  </a:lnTo>
                  <a:lnTo>
                    <a:pt x="1530" y="1210"/>
                  </a:lnTo>
                  <a:lnTo>
                    <a:pt x="1527" y="1210"/>
                  </a:lnTo>
                  <a:lnTo>
                    <a:pt x="1524" y="1210"/>
                  </a:lnTo>
                  <a:lnTo>
                    <a:pt x="1520" y="1210"/>
                  </a:lnTo>
                  <a:lnTo>
                    <a:pt x="1517" y="1209"/>
                  </a:lnTo>
                  <a:lnTo>
                    <a:pt x="1517" y="1207"/>
                  </a:lnTo>
                  <a:lnTo>
                    <a:pt x="1516" y="1205"/>
                  </a:lnTo>
                  <a:lnTo>
                    <a:pt x="1511" y="1201"/>
                  </a:lnTo>
                  <a:lnTo>
                    <a:pt x="1504" y="1197"/>
                  </a:lnTo>
                  <a:lnTo>
                    <a:pt x="1502" y="1194"/>
                  </a:lnTo>
                  <a:lnTo>
                    <a:pt x="1500" y="1193"/>
                  </a:lnTo>
                  <a:lnTo>
                    <a:pt x="1500" y="1193"/>
                  </a:lnTo>
                  <a:lnTo>
                    <a:pt x="1500" y="1194"/>
                  </a:lnTo>
                  <a:lnTo>
                    <a:pt x="1500" y="1197"/>
                  </a:lnTo>
                  <a:lnTo>
                    <a:pt x="1498" y="1199"/>
                  </a:lnTo>
                  <a:lnTo>
                    <a:pt x="1492" y="1202"/>
                  </a:lnTo>
                  <a:lnTo>
                    <a:pt x="1487" y="1202"/>
                  </a:lnTo>
                  <a:lnTo>
                    <a:pt x="1487" y="1199"/>
                  </a:lnTo>
                  <a:lnTo>
                    <a:pt x="1487" y="1197"/>
                  </a:lnTo>
                  <a:lnTo>
                    <a:pt x="1489" y="1194"/>
                  </a:lnTo>
                  <a:lnTo>
                    <a:pt x="1490" y="1192"/>
                  </a:lnTo>
                  <a:lnTo>
                    <a:pt x="1489" y="1189"/>
                  </a:lnTo>
                  <a:lnTo>
                    <a:pt x="1485" y="1190"/>
                  </a:lnTo>
                  <a:lnTo>
                    <a:pt x="1477" y="1198"/>
                  </a:lnTo>
                  <a:lnTo>
                    <a:pt x="1468" y="1205"/>
                  </a:lnTo>
                  <a:lnTo>
                    <a:pt x="1463" y="1203"/>
                  </a:lnTo>
                  <a:lnTo>
                    <a:pt x="1457" y="1203"/>
                  </a:lnTo>
                  <a:lnTo>
                    <a:pt x="1452" y="1210"/>
                  </a:lnTo>
                  <a:lnTo>
                    <a:pt x="1441" y="1228"/>
                  </a:lnTo>
                  <a:lnTo>
                    <a:pt x="1439" y="1228"/>
                  </a:lnTo>
                  <a:lnTo>
                    <a:pt x="1438" y="1227"/>
                  </a:lnTo>
                  <a:lnTo>
                    <a:pt x="1435" y="1224"/>
                  </a:lnTo>
                  <a:lnTo>
                    <a:pt x="1433" y="1221"/>
                  </a:lnTo>
                  <a:lnTo>
                    <a:pt x="1426" y="1218"/>
                  </a:lnTo>
                  <a:lnTo>
                    <a:pt x="1421" y="1215"/>
                  </a:lnTo>
                  <a:lnTo>
                    <a:pt x="1416" y="1215"/>
                  </a:lnTo>
                  <a:lnTo>
                    <a:pt x="1412" y="1216"/>
                  </a:lnTo>
                  <a:lnTo>
                    <a:pt x="1409" y="1218"/>
                  </a:lnTo>
                  <a:lnTo>
                    <a:pt x="1408" y="1220"/>
                  </a:lnTo>
                  <a:lnTo>
                    <a:pt x="1406" y="1220"/>
                  </a:lnTo>
                  <a:lnTo>
                    <a:pt x="1402" y="1220"/>
                  </a:lnTo>
                  <a:lnTo>
                    <a:pt x="1396" y="1219"/>
                  </a:lnTo>
                  <a:lnTo>
                    <a:pt x="1391" y="1214"/>
                  </a:lnTo>
                  <a:lnTo>
                    <a:pt x="1386" y="1207"/>
                  </a:lnTo>
                  <a:lnTo>
                    <a:pt x="1384" y="1201"/>
                  </a:lnTo>
                  <a:lnTo>
                    <a:pt x="1382" y="1194"/>
                  </a:lnTo>
                  <a:lnTo>
                    <a:pt x="1384" y="1189"/>
                  </a:lnTo>
                  <a:lnTo>
                    <a:pt x="1385" y="1183"/>
                  </a:lnTo>
                  <a:lnTo>
                    <a:pt x="1386" y="1175"/>
                  </a:lnTo>
                  <a:lnTo>
                    <a:pt x="1386" y="1167"/>
                  </a:lnTo>
                  <a:lnTo>
                    <a:pt x="1386" y="1163"/>
                  </a:lnTo>
                  <a:lnTo>
                    <a:pt x="1382" y="1162"/>
                  </a:lnTo>
                  <a:lnTo>
                    <a:pt x="1374" y="1162"/>
                  </a:lnTo>
                  <a:lnTo>
                    <a:pt x="1354" y="1162"/>
                  </a:lnTo>
                  <a:lnTo>
                    <a:pt x="1346" y="1158"/>
                  </a:lnTo>
                  <a:lnTo>
                    <a:pt x="1343" y="1154"/>
                  </a:lnTo>
                  <a:lnTo>
                    <a:pt x="1345" y="1149"/>
                  </a:lnTo>
                  <a:lnTo>
                    <a:pt x="1347" y="1142"/>
                  </a:lnTo>
                  <a:lnTo>
                    <a:pt x="1350" y="1132"/>
                  </a:lnTo>
                  <a:lnTo>
                    <a:pt x="1354" y="1123"/>
                  </a:lnTo>
                  <a:lnTo>
                    <a:pt x="1358" y="1116"/>
                  </a:lnTo>
                  <a:lnTo>
                    <a:pt x="1359" y="1114"/>
                  </a:lnTo>
                  <a:lnTo>
                    <a:pt x="1359" y="1111"/>
                  </a:lnTo>
                  <a:lnTo>
                    <a:pt x="1355" y="1111"/>
                  </a:lnTo>
                  <a:lnTo>
                    <a:pt x="1350" y="1111"/>
                  </a:lnTo>
                  <a:lnTo>
                    <a:pt x="1342" y="1111"/>
                  </a:lnTo>
                  <a:lnTo>
                    <a:pt x="1336" y="1111"/>
                  </a:lnTo>
                  <a:lnTo>
                    <a:pt x="1329" y="1114"/>
                  </a:lnTo>
                  <a:lnTo>
                    <a:pt x="1323" y="1120"/>
                  </a:lnTo>
                  <a:lnTo>
                    <a:pt x="1317" y="1129"/>
                  </a:lnTo>
                  <a:lnTo>
                    <a:pt x="1315" y="1132"/>
                  </a:lnTo>
                  <a:lnTo>
                    <a:pt x="1312" y="1132"/>
                  </a:lnTo>
                  <a:lnTo>
                    <a:pt x="1306" y="1136"/>
                  </a:lnTo>
                  <a:lnTo>
                    <a:pt x="1297" y="1140"/>
                  </a:lnTo>
                  <a:lnTo>
                    <a:pt x="1289" y="1138"/>
                  </a:lnTo>
                  <a:lnTo>
                    <a:pt x="1282" y="1135"/>
                  </a:lnTo>
                  <a:lnTo>
                    <a:pt x="1276" y="1129"/>
                  </a:lnTo>
                  <a:lnTo>
                    <a:pt x="1272" y="1124"/>
                  </a:lnTo>
                  <a:lnTo>
                    <a:pt x="1272" y="1120"/>
                  </a:lnTo>
                  <a:lnTo>
                    <a:pt x="1272" y="1116"/>
                  </a:lnTo>
                  <a:lnTo>
                    <a:pt x="1269" y="1113"/>
                  </a:lnTo>
                  <a:lnTo>
                    <a:pt x="1266" y="1107"/>
                  </a:lnTo>
                  <a:lnTo>
                    <a:pt x="1263" y="1101"/>
                  </a:lnTo>
                  <a:lnTo>
                    <a:pt x="1263" y="1094"/>
                  </a:lnTo>
                  <a:lnTo>
                    <a:pt x="1266" y="1087"/>
                  </a:lnTo>
                  <a:lnTo>
                    <a:pt x="1267" y="1079"/>
                  </a:lnTo>
                  <a:lnTo>
                    <a:pt x="1268" y="1075"/>
                  </a:lnTo>
                  <a:lnTo>
                    <a:pt x="1269" y="1072"/>
                  </a:lnTo>
                  <a:lnTo>
                    <a:pt x="1271" y="1067"/>
                  </a:lnTo>
                  <a:lnTo>
                    <a:pt x="1271" y="1062"/>
                  </a:lnTo>
                  <a:lnTo>
                    <a:pt x="1272" y="1058"/>
                  </a:lnTo>
                  <a:lnTo>
                    <a:pt x="1275" y="1053"/>
                  </a:lnTo>
                  <a:lnTo>
                    <a:pt x="1284" y="1046"/>
                  </a:lnTo>
                  <a:lnTo>
                    <a:pt x="1294" y="1040"/>
                  </a:lnTo>
                  <a:lnTo>
                    <a:pt x="1302" y="1037"/>
                  </a:lnTo>
                  <a:lnTo>
                    <a:pt x="1310" y="1037"/>
                  </a:lnTo>
                  <a:lnTo>
                    <a:pt x="1319" y="1037"/>
                  </a:lnTo>
                  <a:lnTo>
                    <a:pt x="1328" y="1039"/>
                  </a:lnTo>
                  <a:lnTo>
                    <a:pt x="1333" y="1039"/>
                  </a:lnTo>
                  <a:lnTo>
                    <a:pt x="1337" y="1037"/>
                  </a:lnTo>
                  <a:lnTo>
                    <a:pt x="1339" y="1036"/>
                  </a:lnTo>
                  <a:lnTo>
                    <a:pt x="1341" y="1033"/>
                  </a:lnTo>
                  <a:lnTo>
                    <a:pt x="1343" y="1032"/>
                  </a:lnTo>
                  <a:lnTo>
                    <a:pt x="1349" y="1031"/>
                  </a:lnTo>
                  <a:lnTo>
                    <a:pt x="1359" y="1031"/>
                  </a:lnTo>
                  <a:lnTo>
                    <a:pt x="1367" y="1030"/>
                  </a:lnTo>
                  <a:lnTo>
                    <a:pt x="1369" y="1027"/>
                  </a:lnTo>
                  <a:lnTo>
                    <a:pt x="1369" y="1027"/>
                  </a:lnTo>
                  <a:lnTo>
                    <a:pt x="1372" y="1030"/>
                  </a:lnTo>
                  <a:lnTo>
                    <a:pt x="1376" y="1032"/>
                  </a:lnTo>
                  <a:lnTo>
                    <a:pt x="1380" y="1033"/>
                  </a:lnTo>
                  <a:lnTo>
                    <a:pt x="1384" y="1033"/>
                  </a:lnTo>
                  <a:lnTo>
                    <a:pt x="1390" y="1033"/>
                  </a:lnTo>
                  <a:lnTo>
                    <a:pt x="1398" y="1037"/>
                  </a:lnTo>
                  <a:lnTo>
                    <a:pt x="1400" y="1046"/>
                  </a:lnTo>
                  <a:lnTo>
                    <a:pt x="1402" y="1057"/>
                  </a:lnTo>
                  <a:lnTo>
                    <a:pt x="1406" y="1067"/>
                  </a:lnTo>
                  <a:lnTo>
                    <a:pt x="1411" y="1074"/>
                  </a:lnTo>
                  <a:lnTo>
                    <a:pt x="1413" y="1076"/>
                  </a:lnTo>
                  <a:lnTo>
                    <a:pt x="1416" y="1074"/>
                  </a:lnTo>
                  <a:lnTo>
                    <a:pt x="1420" y="1068"/>
                  </a:lnTo>
                  <a:lnTo>
                    <a:pt x="1422" y="1063"/>
                  </a:lnTo>
                  <a:lnTo>
                    <a:pt x="1422" y="1058"/>
                  </a:lnTo>
                  <a:lnTo>
                    <a:pt x="1421" y="1053"/>
                  </a:lnTo>
                  <a:lnTo>
                    <a:pt x="1417" y="1044"/>
                  </a:lnTo>
                  <a:lnTo>
                    <a:pt x="1413" y="1035"/>
                  </a:lnTo>
                  <a:lnTo>
                    <a:pt x="1413" y="1027"/>
                  </a:lnTo>
                  <a:lnTo>
                    <a:pt x="1415" y="1022"/>
                  </a:lnTo>
                  <a:lnTo>
                    <a:pt x="1419" y="1018"/>
                  </a:lnTo>
                  <a:lnTo>
                    <a:pt x="1421" y="1014"/>
                  </a:lnTo>
                  <a:lnTo>
                    <a:pt x="1421" y="1013"/>
                  </a:lnTo>
                  <a:lnTo>
                    <a:pt x="1421" y="1010"/>
                  </a:lnTo>
                  <a:lnTo>
                    <a:pt x="1425" y="1006"/>
                  </a:lnTo>
                  <a:lnTo>
                    <a:pt x="1431" y="1001"/>
                  </a:lnTo>
                  <a:lnTo>
                    <a:pt x="1438" y="998"/>
                  </a:lnTo>
                  <a:lnTo>
                    <a:pt x="1444" y="995"/>
                  </a:lnTo>
                  <a:lnTo>
                    <a:pt x="1452" y="991"/>
                  </a:lnTo>
                  <a:lnTo>
                    <a:pt x="1457" y="987"/>
                  </a:lnTo>
                  <a:lnTo>
                    <a:pt x="1459" y="984"/>
                  </a:lnTo>
                  <a:lnTo>
                    <a:pt x="1459" y="983"/>
                  </a:lnTo>
                  <a:lnTo>
                    <a:pt x="1460" y="978"/>
                  </a:lnTo>
                  <a:lnTo>
                    <a:pt x="1463" y="973"/>
                  </a:lnTo>
                  <a:lnTo>
                    <a:pt x="1464" y="971"/>
                  </a:lnTo>
                  <a:lnTo>
                    <a:pt x="1464" y="970"/>
                  </a:lnTo>
                  <a:lnTo>
                    <a:pt x="1464" y="967"/>
                  </a:lnTo>
                  <a:lnTo>
                    <a:pt x="1463" y="963"/>
                  </a:lnTo>
                  <a:lnTo>
                    <a:pt x="1461" y="961"/>
                  </a:lnTo>
                  <a:lnTo>
                    <a:pt x="1461" y="958"/>
                  </a:lnTo>
                  <a:lnTo>
                    <a:pt x="1465" y="957"/>
                  </a:lnTo>
                  <a:lnTo>
                    <a:pt x="1470" y="956"/>
                  </a:lnTo>
                  <a:lnTo>
                    <a:pt x="1473" y="954"/>
                  </a:lnTo>
                  <a:lnTo>
                    <a:pt x="1474" y="950"/>
                  </a:lnTo>
                  <a:lnTo>
                    <a:pt x="1477" y="944"/>
                  </a:lnTo>
                  <a:lnTo>
                    <a:pt x="1478" y="941"/>
                  </a:lnTo>
                  <a:lnTo>
                    <a:pt x="1481" y="941"/>
                  </a:lnTo>
                  <a:lnTo>
                    <a:pt x="1485" y="939"/>
                  </a:lnTo>
                  <a:lnTo>
                    <a:pt x="1489" y="932"/>
                  </a:lnTo>
                  <a:lnTo>
                    <a:pt x="1492" y="926"/>
                  </a:lnTo>
                  <a:lnTo>
                    <a:pt x="1499" y="922"/>
                  </a:lnTo>
                  <a:lnTo>
                    <a:pt x="1507" y="921"/>
                  </a:lnTo>
                  <a:lnTo>
                    <a:pt x="1516" y="921"/>
                  </a:lnTo>
                  <a:lnTo>
                    <a:pt x="1521" y="919"/>
                  </a:lnTo>
                  <a:lnTo>
                    <a:pt x="1521" y="917"/>
                  </a:lnTo>
                  <a:lnTo>
                    <a:pt x="1521" y="913"/>
                  </a:lnTo>
                  <a:lnTo>
                    <a:pt x="1521" y="908"/>
                  </a:lnTo>
                  <a:lnTo>
                    <a:pt x="1522" y="902"/>
                  </a:lnTo>
                  <a:lnTo>
                    <a:pt x="1522" y="900"/>
                  </a:lnTo>
                  <a:lnTo>
                    <a:pt x="1525" y="899"/>
                  </a:lnTo>
                  <a:lnTo>
                    <a:pt x="1527" y="897"/>
                  </a:lnTo>
                  <a:lnTo>
                    <a:pt x="1531" y="896"/>
                  </a:lnTo>
                  <a:lnTo>
                    <a:pt x="1534" y="893"/>
                  </a:lnTo>
                  <a:lnTo>
                    <a:pt x="1538" y="891"/>
                  </a:lnTo>
                  <a:lnTo>
                    <a:pt x="1543" y="890"/>
                  </a:lnTo>
                  <a:lnTo>
                    <a:pt x="1548" y="890"/>
                  </a:lnTo>
                  <a:lnTo>
                    <a:pt x="1553" y="887"/>
                  </a:lnTo>
                  <a:lnTo>
                    <a:pt x="1559" y="886"/>
                  </a:lnTo>
                  <a:lnTo>
                    <a:pt x="1564" y="884"/>
                  </a:lnTo>
                  <a:lnTo>
                    <a:pt x="1570" y="883"/>
                  </a:lnTo>
                  <a:lnTo>
                    <a:pt x="1573" y="880"/>
                  </a:lnTo>
                  <a:lnTo>
                    <a:pt x="1574" y="879"/>
                  </a:lnTo>
                  <a:lnTo>
                    <a:pt x="1574" y="879"/>
                  </a:lnTo>
                  <a:lnTo>
                    <a:pt x="1575" y="878"/>
                  </a:lnTo>
                  <a:lnTo>
                    <a:pt x="1578" y="877"/>
                  </a:lnTo>
                  <a:lnTo>
                    <a:pt x="1581" y="874"/>
                  </a:lnTo>
                  <a:lnTo>
                    <a:pt x="1578" y="870"/>
                  </a:lnTo>
                  <a:lnTo>
                    <a:pt x="1574" y="866"/>
                  </a:lnTo>
                  <a:lnTo>
                    <a:pt x="1573" y="862"/>
                  </a:lnTo>
                  <a:lnTo>
                    <a:pt x="1573" y="858"/>
                  </a:lnTo>
                  <a:lnTo>
                    <a:pt x="1572" y="855"/>
                  </a:lnTo>
                  <a:lnTo>
                    <a:pt x="1570" y="852"/>
                  </a:lnTo>
                  <a:lnTo>
                    <a:pt x="1572" y="851"/>
                  </a:lnTo>
                  <a:lnTo>
                    <a:pt x="1574" y="849"/>
                  </a:lnTo>
                  <a:lnTo>
                    <a:pt x="1578" y="848"/>
                  </a:lnTo>
                  <a:lnTo>
                    <a:pt x="1581" y="847"/>
                  </a:lnTo>
                  <a:lnTo>
                    <a:pt x="1581" y="845"/>
                  </a:lnTo>
                  <a:lnTo>
                    <a:pt x="1581" y="843"/>
                  </a:lnTo>
                  <a:lnTo>
                    <a:pt x="1579" y="840"/>
                  </a:lnTo>
                  <a:lnTo>
                    <a:pt x="1575" y="839"/>
                  </a:lnTo>
                  <a:lnTo>
                    <a:pt x="1568" y="839"/>
                  </a:lnTo>
                  <a:lnTo>
                    <a:pt x="1556" y="842"/>
                  </a:lnTo>
                  <a:lnTo>
                    <a:pt x="1543" y="848"/>
                  </a:lnTo>
                  <a:lnTo>
                    <a:pt x="1539" y="851"/>
                  </a:lnTo>
                  <a:lnTo>
                    <a:pt x="1535" y="853"/>
                  </a:lnTo>
                  <a:lnTo>
                    <a:pt x="1530" y="856"/>
                  </a:lnTo>
                  <a:lnTo>
                    <a:pt x="1525" y="858"/>
                  </a:lnTo>
                  <a:lnTo>
                    <a:pt x="1520" y="862"/>
                  </a:lnTo>
                  <a:lnTo>
                    <a:pt x="1514" y="866"/>
                  </a:lnTo>
                  <a:lnTo>
                    <a:pt x="1508" y="869"/>
                  </a:lnTo>
                  <a:lnTo>
                    <a:pt x="1503" y="873"/>
                  </a:lnTo>
                  <a:lnTo>
                    <a:pt x="1509" y="869"/>
                  </a:lnTo>
                  <a:lnTo>
                    <a:pt x="1514" y="865"/>
                  </a:lnTo>
                  <a:lnTo>
                    <a:pt x="1521" y="860"/>
                  </a:lnTo>
                  <a:lnTo>
                    <a:pt x="1527" y="856"/>
                  </a:lnTo>
                  <a:lnTo>
                    <a:pt x="1533" y="851"/>
                  </a:lnTo>
                  <a:lnTo>
                    <a:pt x="1538" y="847"/>
                  </a:lnTo>
                  <a:lnTo>
                    <a:pt x="1543" y="842"/>
                  </a:lnTo>
                  <a:lnTo>
                    <a:pt x="1548" y="838"/>
                  </a:lnTo>
                  <a:lnTo>
                    <a:pt x="1552" y="835"/>
                  </a:lnTo>
                  <a:lnTo>
                    <a:pt x="1556" y="834"/>
                  </a:lnTo>
                  <a:lnTo>
                    <a:pt x="1560" y="832"/>
                  </a:lnTo>
                  <a:lnTo>
                    <a:pt x="1564" y="830"/>
                  </a:lnTo>
                  <a:lnTo>
                    <a:pt x="1566" y="829"/>
                  </a:lnTo>
                  <a:lnTo>
                    <a:pt x="1572" y="827"/>
                  </a:lnTo>
                  <a:lnTo>
                    <a:pt x="1578" y="827"/>
                  </a:lnTo>
                  <a:lnTo>
                    <a:pt x="1586" y="826"/>
                  </a:lnTo>
                  <a:lnTo>
                    <a:pt x="1594" y="826"/>
                  </a:lnTo>
                  <a:lnTo>
                    <a:pt x="1603" y="826"/>
                  </a:lnTo>
                  <a:lnTo>
                    <a:pt x="1610" y="826"/>
                  </a:lnTo>
                  <a:lnTo>
                    <a:pt x="1617" y="825"/>
                  </a:lnTo>
                  <a:lnTo>
                    <a:pt x="1625" y="822"/>
                  </a:lnTo>
                  <a:lnTo>
                    <a:pt x="1627" y="818"/>
                  </a:lnTo>
                  <a:lnTo>
                    <a:pt x="1630" y="816"/>
                  </a:lnTo>
                  <a:lnTo>
                    <a:pt x="1639" y="813"/>
                  </a:lnTo>
                  <a:lnTo>
                    <a:pt x="1649" y="810"/>
                  </a:lnTo>
                  <a:lnTo>
                    <a:pt x="1655" y="808"/>
                  </a:lnTo>
                  <a:lnTo>
                    <a:pt x="1656" y="803"/>
                  </a:lnTo>
                  <a:lnTo>
                    <a:pt x="1656" y="799"/>
                  </a:lnTo>
                  <a:lnTo>
                    <a:pt x="1656" y="796"/>
                  </a:lnTo>
                  <a:lnTo>
                    <a:pt x="1657" y="794"/>
                  </a:lnTo>
                  <a:lnTo>
                    <a:pt x="1656" y="792"/>
                  </a:lnTo>
                  <a:lnTo>
                    <a:pt x="1653" y="791"/>
                  </a:lnTo>
                  <a:lnTo>
                    <a:pt x="1649" y="790"/>
                  </a:lnTo>
                  <a:lnTo>
                    <a:pt x="1647" y="787"/>
                  </a:lnTo>
                  <a:lnTo>
                    <a:pt x="1644" y="783"/>
                  </a:lnTo>
                  <a:lnTo>
                    <a:pt x="1640" y="779"/>
                  </a:lnTo>
                  <a:lnTo>
                    <a:pt x="1635" y="774"/>
                  </a:lnTo>
                  <a:lnTo>
                    <a:pt x="1629" y="770"/>
                  </a:lnTo>
                  <a:lnTo>
                    <a:pt x="1623" y="769"/>
                  </a:lnTo>
                  <a:lnTo>
                    <a:pt x="1618" y="766"/>
                  </a:lnTo>
                  <a:lnTo>
                    <a:pt x="1616" y="762"/>
                  </a:lnTo>
                  <a:lnTo>
                    <a:pt x="1614" y="756"/>
                  </a:lnTo>
                  <a:lnTo>
                    <a:pt x="1612" y="747"/>
                  </a:lnTo>
                  <a:lnTo>
                    <a:pt x="1608" y="734"/>
                  </a:lnTo>
                  <a:lnTo>
                    <a:pt x="1603" y="722"/>
                  </a:lnTo>
                  <a:lnTo>
                    <a:pt x="1599" y="716"/>
                  </a:lnTo>
                  <a:lnTo>
                    <a:pt x="1597" y="713"/>
                  </a:lnTo>
                  <a:lnTo>
                    <a:pt x="1597" y="712"/>
                  </a:lnTo>
                  <a:lnTo>
                    <a:pt x="1595" y="714"/>
                  </a:lnTo>
                  <a:lnTo>
                    <a:pt x="1590" y="721"/>
                  </a:lnTo>
                  <a:lnTo>
                    <a:pt x="1582" y="730"/>
                  </a:lnTo>
                  <a:lnTo>
                    <a:pt x="1573" y="738"/>
                  </a:lnTo>
                  <a:lnTo>
                    <a:pt x="1568" y="742"/>
                  </a:lnTo>
                  <a:lnTo>
                    <a:pt x="1566" y="742"/>
                  </a:lnTo>
                  <a:lnTo>
                    <a:pt x="1565" y="738"/>
                  </a:lnTo>
                  <a:lnTo>
                    <a:pt x="1562" y="735"/>
                  </a:lnTo>
                  <a:lnTo>
                    <a:pt x="1559" y="733"/>
                  </a:lnTo>
                  <a:lnTo>
                    <a:pt x="1555" y="730"/>
                  </a:lnTo>
                  <a:lnTo>
                    <a:pt x="1553" y="726"/>
                  </a:lnTo>
                  <a:lnTo>
                    <a:pt x="1555" y="718"/>
                  </a:lnTo>
                  <a:lnTo>
                    <a:pt x="1556" y="712"/>
                  </a:lnTo>
                  <a:lnTo>
                    <a:pt x="1556" y="708"/>
                  </a:lnTo>
                  <a:lnTo>
                    <a:pt x="1552" y="707"/>
                  </a:lnTo>
                  <a:lnTo>
                    <a:pt x="1547" y="704"/>
                  </a:lnTo>
                  <a:lnTo>
                    <a:pt x="1542" y="700"/>
                  </a:lnTo>
                  <a:lnTo>
                    <a:pt x="1537" y="698"/>
                  </a:lnTo>
                  <a:lnTo>
                    <a:pt x="1530" y="694"/>
                  </a:lnTo>
                  <a:lnTo>
                    <a:pt x="1516" y="691"/>
                  </a:lnTo>
                  <a:lnTo>
                    <a:pt x="1495" y="691"/>
                  </a:lnTo>
                  <a:lnTo>
                    <a:pt x="1495" y="704"/>
                  </a:lnTo>
                  <a:lnTo>
                    <a:pt x="1490" y="717"/>
                  </a:lnTo>
                  <a:lnTo>
                    <a:pt x="1486" y="730"/>
                  </a:lnTo>
                  <a:lnTo>
                    <a:pt x="1487" y="744"/>
                  </a:lnTo>
                  <a:lnTo>
                    <a:pt x="1489" y="751"/>
                  </a:lnTo>
                  <a:lnTo>
                    <a:pt x="1490" y="757"/>
                  </a:lnTo>
                  <a:lnTo>
                    <a:pt x="1487" y="764"/>
                  </a:lnTo>
                  <a:lnTo>
                    <a:pt x="1481" y="769"/>
                  </a:lnTo>
                  <a:lnTo>
                    <a:pt x="1473" y="774"/>
                  </a:lnTo>
                  <a:lnTo>
                    <a:pt x="1469" y="778"/>
                  </a:lnTo>
                  <a:lnTo>
                    <a:pt x="1468" y="786"/>
                  </a:lnTo>
                  <a:lnTo>
                    <a:pt x="1468" y="800"/>
                  </a:lnTo>
                  <a:lnTo>
                    <a:pt x="1467" y="813"/>
                  </a:lnTo>
                  <a:lnTo>
                    <a:pt x="1463" y="818"/>
                  </a:lnTo>
                  <a:lnTo>
                    <a:pt x="1457" y="820"/>
                  </a:lnTo>
                  <a:lnTo>
                    <a:pt x="1451" y="816"/>
                  </a:lnTo>
                  <a:lnTo>
                    <a:pt x="1444" y="809"/>
                  </a:lnTo>
                  <a:lnTo>
                    <a:pt x="1441" y="801"/>
                  </a:lnTo>
                  <a:lnTo>
                    <a:pt x="1439" y="792"/>
                  </a:lnTo>
                  <a:lnTo>
                    <a:pt x="1441" y="786"/>
                  </a:lnTo>
                  <a:lnTo>
                    <a:pt x="1443" y="781"/>
                  </a:lnTo>
                  <a:lnTo>
                    <a:pt x="1442" y="778"/>
                  </a:lnTo>
                  <a:lnTo>
                    <a:pt x="1439" y="777"/>
                  </a:lnTo>
                  <a:lnTo>
                    <a:pt x="1434" y="775"/>
                  </a:lnTo>
                  <a:lnTo>
                    <a:pt x="1428" y="775"/>
                  </a:lnTo>
                  <a:lnTo>
                    <a:pt x="1422" y="775"/>
                  </a:lnTo>
                  <a:lnTo>
                    <a:pt x="1416" y="775"/>
                  </a:lnTo>
                  <a:lnTo>
                    <a:pt x="1412" y="773"/>
                  </a:lnTo>
                  <a:lnTo>
                    <a:pt x="1406" y="766"/>
                  </a:lnTo>
                  <a:lnTo>
                    <a:pt x="1399" y="761"/>
                  </a:lnTo>
                  <a:lnTo>
                    <a:pt x="1391" y="756"/>
                  </a:lnTo>
                  <a:lnTo>
                    <a:pt x="1382" y="753"/>
                  </a:lnTo>
                  <a:lnTo>
                    <a:pt x="1374" y="751"/>
                  </a:lnTo>
                  <a:lnTo>
                    <a:pt x="1372" y="749"/>
                  </a:lnTo>
                  <a:lnTo>
                    <a:pt x="1368" y="744"/>
                  </a:lnTo>
                  <a:lnTo>
                    <a:pt x="1360" y="735"/>
                  </a:lnTo>
                  <a:lnTo>
                    <a:pt x="1356" y="729"/>
                  </a:lnTo>
                  <a:lnTo>
                    <a:pt x="1358" y="720"/>
                  </a:lnTo>
                  <a:lnTo>
                    <a:pt x="1363" y="712"/>
                  </a:lnTo>
                  <a:lnTo>
                    <a:pt x="1369" y="703"/>
                  </a:lnTo>
                  <a:lnTo>
                    <a:pt x="1377" y="694"/>
                  </a:lnTo>
                  <a:lnTo>
                    <a:pt x="1386" y="686"/>
                  </a:lnTo>
                  <a:lnTo>
                    <a:pt x="1394" y="679"/>
                  </a:lnTo>
                  <a:lnTo>
                    <a:pt x="1399" y="674"/>
                  </a:lnTo>
                  <a:lnTo>
                    <a:pt x="1409" y="668"/>
                  </a:lnTo>
                  <a:lnTo>
                    <a:pt x="1420" y="664"/>
                  </a:lnTo>
                  <a:lnTo>
                    <a:pt x="1425" y="661"/>
                  </a:lnTo>
                  <a:lnTo>
                    <a:pt x="1419" y="657"/>
                  </a:lnTo>
                  <a:lnTo>
                    <a:pt x="1411" y="655"/>
                  </a:lnTo>
                  <a:lnTo>
                    <a:pt x="1408" y="654"/>
                  </a:lnTo>
                  <a:lnTo>
                    <a:pt x="1412" y="654"/>
                  </a:lnTo>
                  <a:lnTo>
                    <a:pt x="1417" y="654"/>
                  </a:lnTo>
                  <a:lnTo>
                    <a:pt x="1424" y="654"/>
                  </a:lnTo>
                  <a:lnTo>
                    <a:pt x="1430" y="652"/>
                  </a:lnTo>
                  <a:lnTo>
                    <a:pt x="1435" y="650"/>
                  </a:lnTo>
                  <a:lnTo>
                    <a:pt x="1435" y="644"/>
                  </a:lnTo>
                  <a:lnTo>
                    <a:pt x="1435" y="642"/>
                  </a:lnTo>
                  <a:lnTo>
                    <a:pt x="1438" y="641"/>
                  </a:lnTo>
                  <a:lnTo>
                    <a:pt x="1441" y="642"/>
                  </a:lnTo>
                  <a:lnTo>
                    <a:pt x="1446" y="642"/>
                  </a:lnTo>
                  <a:lnTo>
                    <a:pt x="1452" y="642"/>
                  </a:lnTo>
                  <a:lnTo>
                    <a:pt x="1460" y="642"/>
                  </a:lnTo>
                  <a:lnTo>
                    <a:pt x="1468" y="638"/>
                  </a:lnTo>
                  <a:lnTo>
                    <a:pt x="1476" y="633"/>
                  </a:lnTo>
                  <a:lnTo>
                    <a:pt x="1479" y="628"/>
                  </a:lnTo>
                  <a:lnTo>
                    <a:pt x="1478" y="625"/>
                  </a:lnTo>
                  <a:lnTo>
                    <a:pt x="1476" y="622"/>
                  </a:lnTo>
                  <a:lnTo>
                    <a:pt x="1477" y="619"/>
                  </a:lnTo>
                  <a:lnTo>
                    <a:pt x="1481" y="612"/>
                  </a:lnTo>
                  <a:lnTo>
                    <a:pt x="1482" y="607"/>
                  </a:lnTo>
                  <a:lnTo>
                    <a:pt x="1479" y="603"/>
                  </a:lnTo>
                  <a:lnTo>
                    <a:pt x="1470" y="600"/>
                  </a:lnTo>
                  <a:lnTo>
                    <a:pt x="1461" y="600"/>
                  </a:lnTo>
                  <a:lnTo>
                    <a:pt x="1456" y="604"/>
                  </a:lnTo>
                  <a:lnTo>
                    <a:pt x="1452" y="609"/>
                  </a:lnTo>
                  <a:lnTo>
                    <a:pt x="1446" y="619"/>
                  </a:lnTo>
                  <a:lnTo>
                    <a:pt x="1438" y="628"/>
                  </a:lnTo>
                  <a:lnTo>
                    <a:pt x="1434" y="630"/>
                  </a:lnTo>
                  <a:lnTo>
                    <a:pt x="1431" y="628"/>
                  </a:lnTo>
                  <a:lnTo>
                    <a:pt x="1431" y="616"/>
                  </a:lnTo>
                  <a:lnTo>
                    <a:pt x="1429" y="607"/>
                  </a:lnTo>
                  <a:lnTo>
                    <a:pt x="1424" y="609"/>
                  </a:lnTo>
                  <a:lnTo>
                    <a:pt x="1417" y="615"/>
                  </a:lnTo>
                  <a:lnTo>
                    <a:pt x="1415" y="619"/>
                  </a:lnTo>
                  <a:lnTo>
                    <a:pt x="1413" y="616"/>
                  </a:lnTo>
                  <a:lnTo>
                    <a:pt x="1411" y="609"/>
                  </a:lnTo>
                  <a:lnTo>
                    <a:pt x="1408" y="600"/>
                  </a:lnTo>
                  <a:lnTo>
                    <a:pt x="1406" y="590"/>
                  </a:lnTo>
                  <a:lnTo>
                    <a:pt x="1404" y="582"/>
                  </a:lnTo>
                  <a:lnTo>
                    <a:pt x="1404" y="577"/>
                  </a:lnTo>
                  <a:lnTo>
                    <a:pt x="1403" y="573"/>
                  </a:lnTo>
                  <a:lnTo>
                    <a:pt x="1402" y="567"/>
                  </a:lnTo>
                  <a:lnTo>
                    <a:pt x="1400" y="559"/>
                  </a:lnTo>
                  <a:lnTo>
                    <a:pt x="1404" y="558"/>
                  </a:lnTo>
                  <a:lnTo>
                    <a:pt x="1413" y="558"/>
                  </a:lnTo>
                  <a:lnTo>
                    <a:pt x="1425" y="551"/>
                  </a:lnTo>
                  <a:lnTo>
                    <a:pt x="1428" y="546"/>
                  </a:lnTo>
                  <a:lnTo>
                    <a:pt x="1424" y="542"/>
                  </a:lnTo>
                  <a:lnTo>
                    <a:pt x="1417" y="539"/>
                  </a:lnTo>
                  <a:lnTo>
                    <a:pt x="1411" y="541"/>
                  </a:lnTo>
                  <a:lnTo>
                    <a:pt x="1402" y="545"/>
                  </a:lnTo>
                  <a:lnTo>
                    <a:pt x="1394" y="550"/>
                  </a:lnTo>
                  <a:lnTo>
                    <a:pt x="1389" y="555"/>
                  </a:lnTo>
                  <a:lnTo>
                    <a:pt x="1391" y="563"/>
                  </a:lnTo>
                  <a:lnTo>
                    <a:pt x="1394" y="569"/>
                  </a:lnTo>
                  <a:lnTo>
                    <a:pt x="1391" y="574"/>
                  </a:lnTo>
                  <a:lnTo>
                    <a:pt x="1386" y="580"/>
                  </a:lnTo>
                  <a:lnTo>
                    <a:pt x="1381" y="585"/>
                  </a:lnTo>
                  <a:lnTo>
                    <a:pt x="1377" y="591"/>
                  </a:lnTo>
                  <a:lnTo>
                    <a:pt x="1374" y="595"/>
                  </a:lnTo>
                  <a:lnTo>
                    <a:pt x="1376" y="598"/>
                  </a:lnTo>
                  <a:lnTo>
                    <a:pt x="1380" y="602"/>
                  </a:lnTo>
                  <a:lnTo>
                    <a:pt x="1384" y="604"/>
                  </a:lnTo>
                  <a:lnTo>
                    <a:pt x="1387" y="604"/>
                  </a:lnTo>
                  <a:lnTo>
                    <a:pt x="1389" y="604"/>
                  </a:lnTo>
                  <a:lnTo>
                    <a:pt x="1387" y="606"/>
                  </a:lnTo>
                  <a:lnTo>
                    <a:pt x="1386" y="609"/>
                  </a:lnTo>
                  <a:lnTo>
                    <a:pt x="1386" y="613"/>
                  </a:lnTo>
                  <a:lnTo>
                    <a:pt x="1386" y="619"/>
                  </a:lnTo>
                  <a:lnTo>
                    <a:pt x="1384" y="622"/>
                  </a:lnTo>
                  <a:lnTo>
                    <a:pt x="1380" y="625"/>
                  </a:lnTo>
                  <a:lnTo>
                    <a:pt x="1376" y="625"/>
                  </a:lnTo>
                  <a:lnTo>
                    <a:pt x="1374" y="626"/>
                  </a:lnTo>
                  <a:lnTo>
                    <a:pt x="1372" y="629"/>
                  </a:lnTo>
                  <a:lnTo>
                    <a:pt x="1371" y="631"/>
                  </a:lnTo>
                  <a:lnTo>
                    <a:pt x="1368" y="635"/>
                  </a:lnTo>
                  <a:lnTo>
                    <a:pt x="1365" y="635"/>
                  </a:lnTo>
                  <a:lnTo>
                    <a:pt x="1367" y="629"/>
                  </a:lnTo>
                  <a:lnTo>
                    <a:pt x="1365" y="622"/>
                  </a:lnTo>
                  <a:lnTo>
                    <a:pt x="1360" y="621"/>
                  </a:lnTo>
                  <a:lnTo>
                    <a:pt x="1354" y="622"/>
                  </a:lnTo>
                  <a:lnTo>
                    <a:pt x="1347" y="626"/>
                  </a:lnTo>
                  <a:lnTo>
                    <a:pt x="1343" y="628"/>
                  </a:lnTo>
                  <a:lnTo>
                    <a:pt x="1338" y="629"/>
                  </a:lnTo>
                  <a:lnTo>
                    <a:pt x="1332" y="629"/>
                  </a:lnTo>
                  <a:lnTo>
                    <a:pt x="1325" y="628"/>
                  </a:lnTo>
                  <a:lnTo>
                    <a:pt x="1319" y="628"/>
                  </a:lnTo>
                  <a:lnTo>
                    <a:pt x="1312" y="626"/>
                  </a:lnTo>
                  <a:lnTo>
                    <a:pt x="1307" y="625"/>
                  </a:lnTo>
                  <a:lnTo>
                    <a:pt x="1303" y="624"/>
                  </a:lnTo>
                  <a:lnTo>
                    <a:pt x="1298" y="621"/>
                  </a:lnTo>
                  <a:lnTo>
                    <a:pt x="1295" y="619"/>
                  </a:lnTo>
                  <a:lnTo>
                    <a:pt x="1293" y="617"/>
                  </a:lnTo>
                  <a:lnTo>
                    <a:pt x="1288" y="617"/>
                  </a:lnTo>
                  <a:lnTo>
                    <a:pt x="1282" y="621"/>
                  </a:lnTo>
                  <a:lnTo>
                    <a:pt x="1280" y="625"/>
                  </a:lnTo>
                  <a:lnTo>
                    <a:pt x="1278" y="630"/>
                  </a:lnTo>
                  <a:lnTo>
                    <a:pt x="1277" y="635"/>
                  </a:lnTo>
                  <a:lnTo>
                    <a:pt x="1276" y="639"/>
                  </a:lnTo>
                  <a:lnTo>
                    <a:pt x="1276" y="641"/>
                  </a:lnTo>
                  <a:lnTo>
                    <a:pt x="1275" y="641"/>
                  </a:lnTo>
                  <a:lnTo>
                    <a:pt x="1275" y="641"/>
                  </a:lnTo>
                  <a:lnTo>
                    <a:pt x="1275" y="641"/>
                  </a:lnTo>
                  <a:lnTo>
                    <a:pt x="1273" y="641"/>
                  </a:lnTo>
                  <a:lnTo>
                    <a:pt x="1272" y="638"/>
                  </a:lnTo>
                  <a:lnTo>
                    <a:pt x="1268" y="634"/>
                  </a:lnTo>
                  <a:lnTo>
                    <a:pt x="1262" y="630"/>
                  </a:lnTo>
                  <a:lnTo>
                    <a:pt x="1255" y="630"/>
                  </a:lnTo>
                  <a:lnTo>
                    <a:pt x="1246" y="630"/>
                  </a:lnTo>
                  <a:lnTo>
                    <a:pt x="1238" y="630"/>
                  </a:lnTo>
                  <a:lnTo>
                    <a:pt x="1232" y="630"/>
                  </a:lnTo>
                  <a:lnTo>
                    <a:pt x="1225" y="629"/>
                  </a:lnTo>
                  <a:lnTo>
                    <a:pt x="1221" y="626"/>
                  </a:lnTo>
                  <a:lnTo>
                    <a:pt x="1221" y="625"/>
                  </a:lnTo>
                  <a:lnTo>
                    <a:pt x="1223" y="622"/>
                  </a:lnTo>
                  <a:lnTo>
                    <a:pt x="1224" y="621"/>
                  </a:lnTo>
                  <a:lnTo>
                    <a:pt x="1224" y="619"/>
                  </a:lnTo>
                  <a:lnTo>
                    <a:pt x="1223" y="615"/>
                  </a:lnTo>
                  <a:lnTo>
                    <a:pt x="1221" y="613"/>
                  </a:lnTo>
                  <a:lnTo>
                    <a:pt x="1219" y="615"/>
                  </a:lnTo>
                  <a:lnTo>
                    <a:pt x="1211" y="616"/>
                  </a:lnTo>
                  <a:lnTo>
                    <a:pt x="1198" y="612"/>
                  </a:lnTo>
                  <a:lnTo>
                    <a:pt x="1185" y="607"/>
                  </a:lnTo>
                  <a:lnTo>
                    <a:pt x="1177" y="604"/>
                  </a:lnTo>
                  <a:lnTo>
                    <a:pt x="1172" y="604"/>
                  </a:lnTo>
                  <a:lnTo>
                    <a:pt x="1166" y="607"/>
                  </a:lnTo>
                  <a:lnTo>
                    <a:pt x="1159" y="608"/>
                  </a:lnTo>
                  <a:lnTo>
                    <a:pt x="1157" y="606"/>
                  </a:lnTo>
                  <a:lnTo>
                    <a:pt x="1157" y="603"/>
                  </a:lnTo>
                  <a:lnTo>
                    <a:pt x="1157" y="602"/>
                  </a:lnTo>
                  <a:lnTo>
                    <a:pt x="1155" y="603"/>
                  </a:lnTo>
                  <a:lnTo>
                    <a:pt x="1150" y="603"/>
                  </a:lnTo>
                  <a:lnTo>
                    <a:pt x="1144" y="604"/>
                  </a:lnTo>
                  <a:lnTo>
                    <a:pt x="1138" y="602"/>
                  </a:lnTo>
                  <a:lnTo>
                    <a:pt x="1136" y="599"/>
                  </a:lnTo>
                  <a:lnTo>
                    <a:pt x="1135" y="596"/>
                  </a:lnTo>
                  <a:lnTo>
                    <a:pt x="1133" y="595"/>
                  </a:lnTo>
                  <a:lnTo>
                    <a:pt x="1133" y="595"/>
                  </a:lnTo>
                  <a:lnTo>
                    <a:pt x="1133" y="595"/>
                  </a:lnTo>
                  <a:lnTo>
                    <a:pt x="1133" y="596"/>
                  </a:lnTo>
                  <a:lnTo>
                    <a:pt x="1132" y="598"/>
                  </a:lnTo>
                  <a:lnTo>
                    <a:pt x="1131" y="602"/>
                  </a:lnTo>
                  <a:lnTo>
                    <a:pt x="1125" y="606"/>
                  </a:lnTo>
                  <a:lnTo>
                    <a:pt x="1118" y="607"/>
                  </a:lnTo>
                  <a:lnTo>
                    <a:pt x="1109" y="607"/>
                  </a:lnTo>
                  <a:lnTo>
                    <a:pt x="1102" y="608"/>
                  </a:lnTo>
                  <a:lnTo>
                    <a:pt x="1097" y="608"/>
                  </a:lnTo>
                  <a:lnTo>
                    <a:pt x="1092" y="608"/>
                  </a:lnTo>
                  <a:lnTo>
                    <a:pt x="1085" y="607"/>
                  </a:lnTo>
                  <a:lnTo>
                    <a:pt x="1081" y="608"/>
                  </a:lnTo>
                  <a:lnTo>
                    <a:pt x="1076" y="611"/>
                  </a:lnTo>
                  <a:lnTo>
                    <a:pt x="1071" y="613"/>
                  </a:lnTo>
                  <a:lnTo>
                    <a:pt x="1065" y="615"/>
                  </a:lnTo>
                  <a:lnTo>
                    <a:pt x="1057" y="615"/>
                  </a:lnTo>
                  <a:lnTo>
                    <a:pt x="1055" y="615"/>
                  </a:lnTo>
                  <a:lnTo>
                    <a:pt x="1053" y="613"/>
                  </a:lnTo>
                  <a:lnTo>
                    <a:pt x="1052" y="613"/>
                  </a:lnTo>
                  <a:lnTo>
                    <a:pt x="1050" y="613"/>
                  </a:lnTo>
                  <a:lnTo>
                    <a:pt x="1066" y="603"/>
                  </a:lnTo>
                  <a:lnTo>
                    <a:pt x="1081" y="594"/>
                  </a:lnTo>
                  <a:lnTo>
                    <a:pt x="1097" y="585"/>
                  </a:lnTo>
                  <a:lnTo>
                    <a:pt x="1113" y="576"/>
                  </a:lnTo>
                  <a:lnTo>
                    <a:pt x="1129" y="568"/>
                  </a:lnTo>
                  <a:lnTo>
                    <a:pt x="1146" y="560"/>
                  </a:lnTo>
                  <a:lnTo>
                    <a:pt x="1163" y="552"/>
                  </a:lnTo>
                  <a:lnTo>
                    <a:pt x="1180" y="546"/>
                  </a:lnTo>
                  <a:lnTo>
                    <a:pt x="1136" y="412"/>
                  </a:lnTo>
                  <a:lnTo>
                    <a:pt x="1116" y="424"/>
                  </a:lnTo>
                  <a:lnTo>
                    <a:pt x="1096" y="437"/>
                  </a:lnTo>
                  <a:lnTo>
                    <a:pt x="1076" y="450"/>
                  </a:lnTo>
                  <a:lnTo>
                    <a:pt x="1057" y="463"/>
                  </a:lnTo>
                  <a:lnTo>
                    <a:pt x="1036" y="476"/>
                  </a:lnTo>
                  <a:lnTo>
                    <a:pt x="1017" y="489"/>
                  </a:lnTo>
                  <a:lnTo>
                    <a:pt x="997" y="502"/>
                  </a:lnTo>
                  <a:lnTo>
                    <a:pt x="978" y="515"/>
                  </a:lnTo>
                  <a:lnTo>
                    <a:pt x="958" y="528"/>
                  </a:lnTo>
                  <a:lnTo>
                    <a:pt x="940" y="541"/>
                  </a:lnTo>
                  <a:lnTo>
                    <a:pt x="922" y="555"/>
                  </a:lnTo>
                  <a:lnTo>
                    <a:pt x="902" y="568"/>
                  </a:lnTo>
                  <a:lnTo>
                    <a:pt x="884" y="582"/>
                  </a:lnTo>
                  <a:lnTo>
                    <a:pt x="866" y="595"/>
                  </a:lnTo>
                  <a:lnTo>
                    <a:pt x="848" y="609"/>
                  </a:lnTo>
                  <a:lnTo>
                    <a:pt x="830" y="624"/>
                  </a:lnTo>
                  <a:lnTo>
                    <a:pt x="812" y="638"/>
                  </a:lnTo>
                  <a:lnTo>
                    <a:pt x="794" y="652"/>
                  </a:lnTo>
                  <a:lnTo>
                    <a:pt x="775" y="666"/>
                  </a:lnTo>
                  <a:lnTo>
                    <a:pt x="759" y="681"/>
                  </a:lnTo>
                  <a:lnTo>
                    <a:pt x="740" y="696"/>
                  </a:lnTo>
                  <a:lnTo>
                    <a:pt x="724" y="711"/>
                  </a:lnTo>
                  <a:lnTo>
                    <a:pt x="705" y="725"/>
                  </a:lnTo>
                  <a:lnTo>
                    <a:pt x="689" y="740"/>
                  </a:lnTo>
                  <a:lnTo>
                    <a:pt x="827" y="873"/>
                  </a:lnTo>
                  <a:lnTo>
                    <a:pt x="836" y="855"/>
                  </a:lnTo>
                  <a:lnTo>
                    <a:pt x="845" y="835"/>
                  </a:lnTo>
                  <a:lnTo>
                    <a:pt x="856" y="817"/>
                  </a:lnTo>
                  <a:lnTo>
                    <a:pt x="866" y="800"/>
                  </a:lnTo>
                  <a:lnTo>
                    <a:pt x="877" y="783"/>
                  </a:lnTo>
                  <a:lnTo>
                    <a:pt x="890" y="766"/>
                  </a:lnTo>
                  <a:lnTo>
                    <a:pt x="901" y="749"/>
                  </a:lnTo>
                  <a:lnTo>
                    <a:pt x="914" y="734"/>
                  </a:lnTo>
                  <a:lnTo>
                    <a:pt x="918" y="733"/>
                  </a:lnTo>
                  <a:lnTo>
                    <a:pt x="922" y="731"/>
                  </a:lnTo>
                  <a:lnTo>
                    <a:pt x="923" y="730"/>
                  </a:lnTo>
                  <a:lnTo>
                    <a:pt x="925" y="727"/>
                  </a:lnTo>
                  <a:lnTo>
                    <a:pt x="926" y="725"/>
                  </a:lnTo>
                  <a:lnTo>
                    <a:pt x="927" y="722"/>
                  </a:lnTo>
                  <a:lnTo>
                    <a:pt x="931" y="721"/>
                  </a:lnTo>
                  <a:lnTo>
                    <a:pt x="935" y="721"/>
                  </a:lnTo>
                  <a:lnTo>
                    <a:pt x="939" y="722"/>
                  </a:lnTo>
                  <a:lnTo>
                    <a:pt x="944" y="726"/>
                  </a:lnTo>
                  <a:lnTo>
                    <a:pt x="952" y="729"/>
                  </a:lnTo>
                  <a:lnTo>
                    <a:pt x="969" y="731"/>
                  </a:lnTo>
                  <a:lnTo>
                    <a:pt x="979" y="733"/>
                  </a:lnTo>
                  <a:lnTo>
                    <a:pt x="985" y="737"/>
                  </a:lnTo>
                  <a:lnTo>
                    <a:pt x="989" y="740"/>
                  </a:lnTo>
                  <a:lnTo>
                    <a:pt x="995" y="746"/>
                  </a:lnTo>
                  <a:lnTo>
                    <a:pt x="998" y="749"/>
                  </a:lnTo>
                  <a:lnTo>
                    <a:pt x="1002" y="751"/>
                  </a:lnTo>
                  <a:lnTo>
                    <a:pt x="1006" y="749"/>
                  </a:lnTo>
                  <a:lnTo>
                    <a:pt x="1010" y="748"/>
                  </a:lnTo>
                  <a:lnTo>
                    <a:pt x="1015" y="748"/>
                  </a:lnTo>
                  <a:lnTo>
                    <a:pt x="1019" y="751"/>
                  </a:lnTo>
                  <a:lnTo>
                    <a:pt x="1023" y="755"/>
                  </a:lnTo>
                  <a:lnTo>
                    <a:pt x="1028" y="759"/>
                  </a:lnTo>
                  <a:lnTo>
                    <a:pt x="1032" y="762"/>
                  </a:lnTo>
                  <a:lnTo>
                    <a:pt x="1033" y="766"/>
                  </a:lnTo>
                  <a:lnTo>
                    <a:pt x="1033" y="770"/>
                  </a:lnTo>
                  <a:lnTo>
                    <a:pt x="1035" y="775"/>
                  </a:lnTo>
                  <a:lnTo>
                    <a:pt x="1037" y="779"/>
                  </a:lnTo>
                  <a:lnTo>
                    <a:pt x="1039" y="779"/>
                  </a:lnTo>
                  <a:lnTo>
                    <a:pt x="1041" y="781"/>
                  </a:lnTo>
                  <a:lnTo>
                    <a:pt x="1043" y="784"/>
                  </a:lnTo>
                  <a:lnTo>
                    <a:pt x="1043" y="790"/>
                  </a:lnTo>
                  <a:lnTo>
                    <a:pt x="1043" y="794"/>
                  </a:lnTo>
                  <a:lnTo>
                    <a:pt x="1044" y="799"/>
                  </a:lnTo>
                  <a:lnTo>
                    <a:pt x="1046" y="804"/>
                  </a:lnTo>
                  <a:lnTo>
                    <a:pt x="1050" y="808"/>
                  </a:lnTo>
                  <a:lnTo>
                    <a:pt x="1054" y="809"/>
                  </a:lnTo>
                  <a:lnTo>
                    <a:pt x="1055" y="813"/>
                  </a:lnTo>
                  <a:lnTo>
                    <a:pt x="1058" y="818"/>
                  </a:lnTo>
                  <a:lnTo>
                    <a:pt x="1059" y="825"/>
                  </a:lnTo>
                  <a:lnTo>
                    <a:pt x="1063" y="830"/>
                  </a:lnTo>
                  <a:lnTo>
                    <a:pt x="1067" y="834"/>
                  </a:lnTo>
                  <a:lnTo>
                    <a:pt x="1072" y="838"/>
                  </a:lnTo>
                  <a:lnTo>
                    <a:pt x="1078" y="842"/>
                  </a:lnTo>
                  <a:lnTo>
                    <a:pt x="1081" y="847"/>
                  </a:lnTo>
                  <a:lnTo>
                    <a:pt x="1084" y="851"/>
                  </a:lnTo>
                  <a:lnTo>
                    <a:pt x="1085" y="856"/>
                  </a:lnTo>
                  <a:lnTo>
                    <a:pt x="1085" y="860"/>
                  </a:lnTo>
                  <a:lnTo>
                    <a:pt x="1085" y="862"/>
                  </a:lnTo>
                  <a:lnTo>
                    <a:pt x="1085" y="865"/>
                  </a:lnTo>
                  <a:lnTo>
                    <a:pt x="1084" y="869"/>
                  </a:lnTo>
                  <a:lnTo>
                    <a:pt x="1083" y="871"/>
                  </a:lnTo>
                  <a:lnTo>
                    <a:pt x="1081" y="870"/>
                  </a:lnTo>
                  <a:lnTo>
                    <a:pt x="1080" y="867"/>
                  </a:lnTo>
                  <a:lnTo>
                    <a:pt x="1080" y="865"/>
                  </a:lnTo>
                  <a:lnTo>
                    <a:pt x="1080" y="864"/>
                  </a:lnTo>
                  <a:lnTo>
                    <a:pt x="1079" y="864"/>
                  </a:lnTo>
                  <a:lnTo>
                    <a:pt x="1076" y="864"/>
                  </a:lnTo>
                  <a:lnTo>
                    <a:pt x="1072" y="862"/>
                  </a:lnTo>
                  <a:lnTo>
                    <a:pt x="1070" y="862"/>
                  </a:lnTo>
                  <a:lnTo>
                    <a:pt x="1070" y="865"/>
                  </a:lnTo>
                  <a:lnTo>
                    <a:pt x="1070" y="873"/>
                  </a:lnTo>
                  <a:lnTo>
                    <a:pt x="1067" y="883"/>
                  </a:lnTo>
                  <a:lnTo>
                    <a:pt x="1065" y="892"/>
                  </a:lnTo>
                  <a:lnTo>
                    <a:pt x="1063" y="896"/>
                  </a:lnTo>
                  <a:lnTo>
                    <a:pt x="1062" y="899"/>
                  </a:lnTo>
                  <a:lnTo>
                    <a:pt x="1061" y="905"/>
                  </a:lnTo>
                  <a:lnTo>
                    <a:pt x="1058" y="914"/>
                  </a:lnTo>
                  <a:lnTo>
                    <a:pt x="1057" y="923"/>
                  </a:lnTo>
                  <a:lnTo>
                    <a:pt x="1055" y="932"/>
                  </a:lnTo>
                  <a:lnTo>
                    <a:pt x="1055" y="939"/>
                  </a:lnTo>
                  <a:lnTo>
                    <a:pt x="1054" y="944"/>
                  </a:lnTo>
                  <a:lnTo>
                    <a:pt x="1053" y="948"/>
                  </a:lnTo>
                  <a:lnTo>
                    <a:pt x="1054" y="952"/>
                  </a:lnTo>
                  <a:lnTo>
                    <a:pt x="1058" y="958"/>
                  </a:lnTo>
                  <a:lnTo>
                    <a:pt x="1066" y="965"/>
                  </a:lnTo>
                  <a:lnTo>
                    <a:pt x="1068" y="973"/>
                  </a:lnTo>
                  <a:lnTo>
                    <a:pt x="1070" y="979"/>
                  </a:lnTo>
                  <a:lnTo>
                    <a:pt x="1071" y="985"/>
                  </a:lnTo>
                  <a:lnTo>
                    <a:pt x="1076" y="995"/>
                  </a:lnTo>
                  <a:lnTo>
                    <a:pt x="1081" y="1001"/>
                  </a:lnTo>
                  <a:lnTo>
                    <a:pt x="1085" y="1001"/>
                  </a:lnTo>
                  <a:lnTo>
                    <a:pt x="1090" y="1001"/>
                  </a:lnTo>
                  <a:lnTo>
                    <a:pt x="1098" y="1011"/>
                  </a:lnTo>
                  <a:lnTo>
                    <a:pt x="1102" y="1018"/>
                  </a:lnTo>
                  <a:lnTo>
                    <a:pt x="1102" y="1023"/>
                  </a:lnTo>
                  <a:lnTo>
                    <a:pt x="1103" y="1028"/>
                  </a:lnTo>
                  <a:lnTo>
                    <a:pt x="1107" y="1036"/>
                  </a:lnTo>
                  <a:lnTo>
                    <a:pt x="1113" y="1045"/>
                  </a:lnTo>
                  <a:lnTo>
                    <a:pt x="1116" y="1052"/>
                  </a:lnTo>
                  <a:lnTo>
                    <a:pt x="1119" y="1056"/>
                  </a:lnTo>
                  <a:lnTo>
                    <a:pt x="1118" y="1057"/>
                  </a:lnTo>
                  <a:lnTo>
                    <a:pt x="1116" y="1059"/>
                  </a:lnTo>
                  <a:lnTo>
                    <a:pt x="1118" y="1063"/>
                  </a:lnTo>
                  <a:lnTo>
                    <a:pt x="1122" y="1067"/>
                  </a:lnTo>
                  <a:lnTo>
                    <a:pt x="1127" y="1071"/>
                  </a:lnTo>
                  <a:lnTo>
                    <a:pt x="1132" y="1075"/>
                  </a:lnTo>
                  <a:lnTo>
                    <a:pt x="1133" y="1079"/>
                  </a:lnTo>
                  <a:lnTo>
                    <a:pt x="1135" y="1083"/>
                  </a:lnTo>
                  <a:lnTo>
                    <a:pt x="1138" y="1091"/>
                  </a:lnTo>
                  <a:lnTo>
                    <a:pt x="1144" y="1097"/>
                  </a:lnTo>
                  <a:lnTo>
                    <a:pt x="1148" y="1098"/>
                  </a:lnTo>
                  <a:lnTo>
                    <a:pt x="1149" y="1097"/>
                  </a:lnTo>
                  <a:lnTo>
                    <a:pt x="1148" y="1093"/>
                  </a:lnTo>
                  <a:lnTo>
                    <a:pt x="1148" y="1089"/>
                  </a:lnTo>
                  <a:lnTo>
                    <a:pt x="1148" y="1084"/>
                  </a:lnTo>
                  <a:lnTo>
                    <a:pt x="1148" y="1080"/>
                  </a:lnTo>
                  <a:lnTo>
                    <a:pt x="1145" y="1076"/>
                  </a:lnTo>
                  <a:lnTo>
                    <a:pt x="1142" y="1072"/>
                  </a:lnTo>
                  <a:lnTo>
                    <a:pt x="1140" y="1068"/>
                  </a:lnTo>
                  <a:lnTo>
                    <a:pt x="1137" y="1063"/>
                  </a:lnTo>
                  <a:lnTo>
                    <a:pt x="1135" y="1059"/>
                  </a:lnTo>
                  <a:lnTo>
                    <a:pt x="1132" y="1056"/>
                  </a:lnTo>
                  <a:lnTo>
                    <a:pt x="1129" y="1054"/>
                  </a:lnTo>
                  <a:lnTo>
                    <a:pt x="1128" y="1053"/>
                  </a:lnTo>
                  <a:lnTo>
                    <a:pt x="1128" y="1050"/>
                  </a:lnTo>
                  <a:lnTo>
                    <a:pt x="1128" y="1048"/>
                  </a:lnTo>
                  <a:lnTo>
                    <a:pt x="1127" y="1046"/>
                  </a:lnTo>
                  <a:lnTo>
                    <a:pt x="1125" y="1045"/>
                  </a:lnTo>
                  <a:lnTo>
                    <a:pt x="1124" y="1045"/>
                  </a:lnTo>
                  <a:lnTo>
                    <a:pt x="1122" y="1044"/>
                  </a:lnTo>
                  <a:lnTo>
                    <a:pt x="1120" y="1040"/>
                  </a:lnTo>
                  <a:lnTo>
                    <a:pt x="1119" y="1035"/>
                  </a:lnTo>
                  <a:lnTo>
                    <a:pt x="1119" y="1028"/>
                  </a:lnTo>
                  <a:lnTo>
                    <a:pt x="1122" y="1026"/>
                  </a:lnTo>
                  <a:lnTo>
                    <a:pt x="1125" y="1030"/>
                  </a:lnTo>
                  <a:lnTo>
                    <a:pt x="1132" y="1037"/>
                  </a:lnTo>
                  <a:lnTo>
                    <a:pt x="1138" y="1045"/>
                  </a:lnTo>
                  <a:lnTo>
                    <a:pt x="1142" y="1050"/>
                  </a:lnTo>
                  <a:lnTo>
                    <a:pt x="1145" y="1052"/>
                  </a:lnTo>
                  <a:lnTo>
                    <a:pt x="1146" y="1052"/>
                  </a:lnTo>
                  <a:lnTo>
                    <a:pt x="1148" y="1054"/>
                  </a:lnTo>
                  <a:lnTo>
                    <a:pt x="1149" y="1058"/>
                  </a:lnTo>
                  <a:lnTo>
                    <a:pt x="1151" y="1061"/>
                  </a:lnTo>
                  <a:lnTo>
                    <a:pt x="1154" y="1063"/>
                  </a:lnTo>
                  <a:lnTo>
                    <a:pt x="1159" y="1068"/>
                  </a:lnTo>
                  <a:lnTo>
                    <a:pt x="1163" y="1072"/>
                  </a:lnTo>
                  <a:lnTo>
                    <a:pt x="1163" y="1075"/>
                  </a:lnTo>
                  <a:lnTo>
                    <a:pt x="1164" y="1079"/>
                  </a:lnTo>
                  <a:lnTo>
                    <a:pt x="1173" y="1091"/>
                  </a:lnTo>
                  <a:lnTo>
                    <a:pt x="1184" y="1103"/>
                  </a:lnTo>
                  <a:lnTo>
                    <a:pt x="1189" y="1114"/>
                  </a:lnTo>
                  <a:lnTo>
                    <a:pt x="1190" y="1120"/>
                  </a:lnTo>
                  <a:lnTo>
                    <a:pt x="1189" y="1126"/>
                  </a:lnTo>
                  <a:lnTo>
                    <a:pt x="1189" y="1128"/>
                  </a:lnTo>
                  <a:lnTo>
                    <a:pt x="1190" y="1132"/>
                  </a:lnTo>
                  <a:lnTo>
                    <a:pt x="1194" y="1136"/>
                  </a:lnTo>
                  <a:lnTo>
                    <a:pt x="1199" y="1140"/>
                  </a:lnTo>
                  <a:lnTo>
                    <a:pt x="1206" y="1144"/>
                  </a:lnTo>
                  <a:lnTo>
                    <a:pt x="1212" y="1149"/>
                  </a:lnTo>
                  <a:lnTo>
                    <a:pt x="1220" y="1153"/>
                  </a:lnTo>
                  <a:lnTo>
                    <a:pt x="1229" y="1157"/>
                  </a:lnTo>
                  <a:lnTo>
                    <a:pt x="1237" y="1161"/>
                  </a:lnTo>
                  <a:lnTo>
                    <a:pt x="1245" y="1163"/>
                  </a:lnTo>
                  <a:lnTo>
                    <a:pt x="1250" y="1166"/>
                  </a:lnTo>
                  <a:lnTo>
                    <a:pt x="1255" y="1167"/>
                  </a:lnTo>
                  <a:lnTo>
                    <a:pt x="1260" y="1167"/>
                  </a:lnTo>
                  <a:lnTo>
                    <a:pt x="1264" y="1168"/>
                  </a:lnTo>
                  <a:lnTo>
                    <a:pt x="1267" y="1168"/>
                  </a:lnTo>
                  <a:lnTo>
                    <a:pt x="1271" y="1167"/>
                  </a:lnTo>
                  <a:lnTo>
                    <a:pt x="1276" y="1166"/>
                  </a:lnTo>
                  <a:lnTo>
                    <a:pt x="1278" y="1166"/>
                  </a:lnTo>
                  <a:lnTo>
                    <a:pt x="1281" y="1168"/>
                  </a:lnTo>
                  <a:lnTo>
                    <a:pt x="1289" y="1175"/>
                  </a:lnTo>
                  <a:lnTo>
                    <a:pt x="1297" y="1180"/>
                  </a:lnTo>
                  <a:lnTo>
                    <a:pt x="1299" y="1180"/>
                  </a:lnTo>
                  <a:lnTo>
                    <a:pt x="1302" y="1179"/>
                  </a:lnTo>
                  <a:lnTo>
                    <a:pt x="1304" y="1180"/>
                  </a:lnTo>
                  <a:lnTo>
                    <a:pt x="1314" y="1186"/>
                  </a:lnTo>
                  <a:lnTo>
                    <a:pt x="1319" y="1189"/>
                  </a:lnTo>
                  <a:lnTo>
                    <a:pt x="1323" y="1190"/>
                  </a:lnTo>
                  <a:lnTo>
                    <a:pt x="1328" y="1193"/>
                  </a:lnTo>
                  <a:lnTo>
                    <a:pt x="1333" y="1194"/>
                  </a:lnTo>
                  <a:lnTo>
                    <a:pt x="1336" y="1193"/>
                  </a:lnTo>
                  <a:lnTo>
                    <a:pt x="1337" y="1193"/>
                  </a:lnTo>
                  <a:lnTo>
                    <a:pt x="1339" y="1196"/>
                  </a:lnTo>
                  <a:lnTo>
                    <a:pt x="1343" y="1201"/>
                  </a:lnTo>
                  <a:lnTo>
                    <a:pt x="1349" y="1206"/>
                  </a:lnTo>
                  <a:lnTo>
                    <a:pt x="1352" y="1211"/>
                  </a:lnTo>
                  <a:lnTo>
                    <a:pt x="1354" y="1215"/>
                  </a:lnTo>
                  <a:lnTo>
                    <a:pt x="1354" y="1218"/>
                  </a:lnTo>
                  <a:lnTo>
                    <a:pt x="1355" y="1220"/>
                  </a:lnTo>
                  <a:lnTo>
                    <a:pt x="1356" y="1220"/>
                  </a:lnTo>
                  <a:lnTo>
                    <a:pt x="1359" y="1220"/>
                  </a:lnTo>
                  <a:lnTo>
                    <a:pt x="1363" y="1220"/>
                  </a:lnTo>
                  <a:lnTo>
                    <a:pt x="1367" y="1220"/>
                  </a:lnTo>
                  <a:lnTo>
                    <a:pt x="1369" y="1224"/>
                  </a:lnTo>
                  <a:lnTo>
                    <a:pt x="1373" y="1229"/>
                  </a:lnTo>
                  <a:lnTo>
                    <a:pt x="1377" y="1234"/>
                  </a:lnTo>
                  <a:lnTo>
                    <a:pt x="1381" y="1236"/>
                  </a:lnTo>
                  <a:lnTo>
                    <a:pt x="1385" y="1237"/>
                  </a:lnTo>
                  <a:lnTo>
                    <a:pt x="1389" y="1238"/>
                  </a:lnTo>
                  <a:lnTo>
                    <a:pt x="1391" y="1241"/>
                  </a:lnTo>
                  <a:lnTo>
                    <a:pt x="1395" y="1242"/>
                  </a:lnTo>
                  <a:lnTo>
                    <a:pt x="1398" y="1242"/>
                  </a:lnTo>
                  <a:lnTo>
                    <a:pt x="1399" y="1238"/>
                  </a:lnTo>
                  <a:lnTo>
                    <a:pt x="1400" y="1234"/>
                  </a:lnTo>
                  <a:lnTo>
                    <a:pt x="1402" y="1232"/>
                  </a:lnTo>
                  <a:lnTo>
                    <a:pt x="1406" y="1232"/>
                  </a:lnTo>
                  <a:lnTo>
                    <a:pt x="1411" y="1231"/>
                  </a:lnTo>
                  <a:lnTo>
                    <a:pt x="1412" y="1231"/>
                  </a:lnTo>
                  <a:lnTo>
                    <a:pt x="1413" y="1232"/>
                  </a:lnTo>
                  <a:lnTo>
                    <a:pt x="1417" y="1234"/>
                  </a:lnTo>
                  <a:lnTo>
                    <a:pt x="1421" y="1237"/>
                  </a:lnTo>
                  <a:lnTo>
                    <a:pt x="1424" y="1244"/>
                  </a:lnTo>
                  <a:lnTo>
                    <a:pt x="1425" y="1253"/>
                  </a:lnTo>
                  <a:lnTo>
                    <a:pt x="1425" y="1263"/>
                  </a:lnTo>
                  <a:lnTo>
                    <a:pt x="1425" y="1269"/>
                  </a:lnTo>
                  <a:lnTo>
                    <a:pt x="1425" y="1275"/>
                  </a:lnTo>
                  <a:lnTo>
                    <a:pt x="1425" y="1279"/>
                  </a:lnTo>
                  <a:lnTo>
                    <a:pt x="1425" y="1282"/>
                  </a:lnTo>
                  <a:lnTo>
                    <a:pt x="1421" y="1286"/>
                  </a:lnTo>
                  <a:lnTo>
                    <a:pt x="1417" y="1290"/>
                  </a:lnTo>
                  <a:lnTo>
                    <a:pt x="1413" y="1293"/>
                  </a:lnTo>
                  <a:lnTo>
                    <a:pt x="1409" y="1295"/>
                  </a:lnTo>
                  <a:lnTo>
                    <a:pt x="1403" y="1298"/>
                  </a:lnTo>
                  <a:lnTo>
                    <a:pt x="1398" y="1301"/>
                  </a:lnTo>
                  <a:lnTo>
                    <a:pt x="1396" y="1304"/>
                  </a:lnTo>
                  <a:lnTo>
                    <a:pt x="1395" y="1311"/>
                  </a:lnTo>
                  <a:lnTo>
                    <a:pt x="1394" y="1320"/>
                  </a:lnTo>
                  <a:lnTo>
                    <a:pt x="1393" y="1341"/>
                  </a:lnTo>
                  <a:lnTo>
                    <a:pt x="1391" y="1347"/>
                  </a:lnTo>
                  <a:lnTo>
                    <a:pt x="1391" y="1352"/>
                  </a:lnTo>
                  <a:lnTo>
                    <a:pt x="1390" y="1355"/>
                  </a:lnTo>
                  <a:lnTo>
                    <a:pt x="1393" y="1359"/>
                  </a:lnTo>
                  <a:lnTo>
                    <a:pt x="1400" y="1365"/>
                  </a:lnTo>
                  <a:lnTo>
                    <a:pt x="1407" y="1372"/>
                  </a:lnTo>
                  <a:lnTo>
                    <a:pt x="1413" y="1378"/>
                  </a:lnTo>
                  <a:lnTo>
                    <a:pt x="1417" y="1389"/>
                  </a:lnTo>
                  <a:lnTo>
                    <a:pt x="1420" y="1395"/>
                  </a:lnTo>
                  <a:lnTo>
                    <a:pt x="1422" y="1403"/>
                  </a:lnTo>
                  <a:lnTo>
                    <a:pt x="1426" y="1411"/>
                  </a:lnTo>
                  <a:lnTo>
                    <a:pt x="1430" y="1420"/>
                  </a:lnTo>
                  <a:lnTo>
                    <a:pt x="1435" y="1428"/>
                  </a:lnTo>
                  <a:lnTo>
                    <a:pt x="1442" y="1434"/>
                  </a:lnTo>
                  <a:lnTo>
                    <a:pt x="1450" y="1441"/>
                  </a:lnTo>
                  <a:lnTo>
                    <a:pt x="1459" y="1445"/>
                  </a:lnTo>
                  <a:lnTo>
                    <a:pt x="1476" y="1455"/>
                  </a:lnTo>
                  <a:lnTo>
                    <a:pt x="1486" y="1467"/>
                  </a:lnTo>
                  <a:lnTo>
                    <a:pt x="1491" y="1478"/>
                  </a:lnTo>
                  <a:lnTo>
                    <a:pt x="1492" y="1482"/>
                  </a:lnTo>
                  <a:lnTo>
                    <a:pt x="1490" y="1480"/>
                  </a:lnTo>
                  <a:lnTo>
                    <a:pt x="1491" y="1486"/>
                  </a:lnTo>
                  <a:lnTo>
                    <a:pt x="1494" y="1489"/>
                  </a:lnTo>
                  <a:lnTo>
                    <a:pt x="1495" y="1492"/>
                  </a:lnTo>
                  <a:lnTo>
                    <a:pt x="1496" y="1499"/>
                  </a:lnTo>
                  <a:lnTo>
                    <a:pt x="1496" y="1507"/>
                  </a:lnTo>
                  <a:lnTo>
                    <a:pt x="1495" y="1513"/>
                  </a:lnTo>
                  <a:lnTo>
                    <a:pt x="1492" y="1518"/>
                  </a:lnTo>
                  <a:lnTo>
                    <a:pt x="1491" y="1527"/>
                  </a:lnTo>
                  <a:lnTo>
                    <a:pt x="1491" y="1538"/>
                  </a:lnTo>
                  <a:lnTo>
                    <a:pt x="1491" y="1544"/>
                  </a:lnTo>
                  <a:lnTo>
                    <a:pt x="1490" y="1550"/>
                  </a:lnTo>
                  <a:lnTo>
                    <a:pt x="1490" y="1555"/>
                  </a:lnTo>
                  <a:lnTo>
                    <a:pt x="1489" y="1557"/>
                  </a:lnTo>
                  <a:lnTo>
                    <a:pt x="1487" y="1559"/>
                  </a:lnTo>
                  <a:lnTo>
                    <a:pt x="1486" y="1559"/>
                  </a:lnTo>
                  <a:lnTo>
                    <a:pt x="1486" y="1561"/>
                  </a:lnTo>
                  <a:lnTo>
                    <a:pt x="1487" y="1563"/>
                  </a:lnTo>
                  <a:lnTo>
                    <a:pt x="1489" y="1564"/>
                  </a:lnTo>
                  <a:lnTo>
                    <a:pt x="1491" y="1565"/>
                  </a:lnTo>
                  <a:lnTo>
                    <a:pt x="1491" y="1569"/>
                  </a:lnTo>
                  <a:lnTo>
                    <a:pt x="1490" y="1574"/>
                  </a:lnTo>
                  <a:lnTo>
                    <a:pt x="1489" y="1579"/>
                  </a:lnTo>
                  <a:lnTo>
                    <a:pt x="1489" y="1585"/>
                  </a:lnTo>
                  <a:lnTo>
                    <a:pt x="1491" y="1591"/>
                  </a:lnTo>
                  <a:lnTo>
                    <a:pt x="1494" y="1595"/>
                  </a:lnTo>
                  <a:lnTo>
                    <a:pt x="1495" y="1598"/>
                  </a:lnTo>
                  <a:lnTo>
                    <a:pt x="1495" y="1599"/>
                  </a:lnTo>
                  <a:lnTo>
                    <a:pt x="1494" y="1601"/>
                  </a:lnTo>
                  <a:lnTo>
                    <a:pt x="1486" y="1618"/>
                  </a:lnTo>
                  <a:lnTo>
                    <a:pt x="1479" y="1633"/>
                  </a:lnTo>
                  <a:lnTo>
                    <a:pt x="1477" y="1647"/>
                  </a:lnTo>
                  <a:lnTo>
                    <a:pt x="1479" y="1665"/>
                  </a:lnTo>
                  <a:lnTo>
                    <a:pt x="1482" y="1677"/>
                  </a:lnTo>
                  <a:lnTo>
                    <a:pt x="1483" y="1688"/>
                  </a:lnTo>
                  <a:lnTo>
                    <a:pt x="1483" y="1700"/>
                  </a:lnTo>
                  <a:lnTo>
                    <a:pt x="1482" y="1709"/>
                  </a:lnTo>
                  <a:lnTo>
                    <a:pt x="1469" y="1712"/>
                  </a:lnTo>
                  <a:lnTo>
                    <a:pt x="1456" y="1713"/>
                  </a:lnTo>
                  <a:lnTo>
                    <a:pt x="1443" y="1716"/>
                  </a:lnTo>
                  <a:lnTo>
                    <a:pt x="1430" y="1717"/>
                  </a:lnTo>
                  <a:lnTo>
                    <a:pt x="1417" y="1718"/>
                  </a:lnTo>
                  <a:lnTo>
                    <a:pt x="1404" y="1718"/>
                  </a:lnTo>
                  <a:lnTo>
                    <a:pt x="1390" y="1719"/>
                  </a:lnTo>
                  <a:lnTo>
                    <a:pt x="1377" y="1719"/>
                  </a:lnTo>
                  <a:lnTo>
                    <a:pt x="1316" y="1717"/>
                  </a:lnTo>
                  <a:lnTo>
                    <a:pt x="1256" y="1708"/>
                  </a:lnTo>
                  <a:lnTo>
                    <a:pt x="1198" y="1692"/>
                  </a:lnTo>
                  <a:lnTo>
                    <a:pt x="1144" y="1671"/>
                  </a:lnTo>
                  <a:lnTo>
                    <a:pt x="1090" y="1647"/>
                  </a:lnTo>
                  <a:lnTo>
                    <a:pt x="1041" y="1617"/>
                  </a:lnTo>
                  <a:lnTo>
                    <a:pt x="995" y="1582"/>
                  </a:lnTo>
                  <a:lnTo>
                    <a:pt x="952" y="1543"/>
                  </a:lnTo>
                  <a:lnTo>
                    <a:pt x="913" y="1500"/>
                  </a:lnTo>
                  <a:lnTo>
                    <a:pt x="878" y="1454"/>
                  </a:lnTo>
                  <a:lnTo>
                    <a:pt x="848" y="1404"/>
                  </a:lnTo>
                  <a:lnTo>
                    <a:pt x="823" y="1351"/>
                  </a:lnTo>
                  <a:lnTo>
                    <a:pt x="803" y="1297"/>
                  </a:lnTo>
                  <a:lnTo>
                    <a:pt x="787" y="1238"/>
                  </a:lnTo>
                  <a:lnTo>
                    <a:pt x="778" y="1179"/>
                  </a:lnTo>
                  <a:lnTo>
                    <a:pt x="775" y="1118"/>
                  </a:lnTo>
                  <a:lnTo>
                    <a:pt x="777" y="1085"/>
                  </a:lnTo>
                  <a:lnTo>
                    <a:pt x="779" y="1053"/>
                  </a:lnTo>
                  <a:lnTo>
                    <a:pt x="783" y="1022"/>
                  </a:lnTo>
                  <a:lnTo>
                    <a:pt x="788" y="991"/>
                  </a:lnTo>
                  <a:lnTo>
                    <a:pt x="796" y="961"/>
                  </a:lnTo>
                  <a:lnTo>
                    <a:pt x="805" y="931"/>
                  </a:lnTo>
                  <a:lnTo>
                    <a:pt x="816" y="901"/>
                  </a:lnTo>
                  <a:lnTo>
                    <a:pt x="827" y="873"/>
                  </a:lnTo>
                  <a:lnTo>
                    <a:pt x="689" y="740"/>
                  </a:lnTo>
                  <a:lnTo>
                    <a:pt x="637" y="786"/>
                  </a:lnTo>
                  <a:lnTo>
                    <a:pt x="587" y="832"/>
                  </a:lnTo>
                  <a:lnTo>
                    <a:pt x="538" y="880"/>
                  </a:lnTo>
                  <a:lnTo>
                    <a:pt x="490" y="928"/>
                  </a:lnTo>
                  <a:lnTo>
                    <a:pt x="442" y="978"/>
                  </a:lnTo>
                  <a:lnTo>
                    <a:pt x="397" y="1028"/>
                  </a:lnTo>
                  <a:lnTo>
                    <a:pt x="351" y="1080"/>
                  </a:lnTo>
                  <a:lnTo>
                    <a:pt x="309" y="1132"/>
                  </a:lnTo>
                  <a:lnTo>
                    <a:pt x="266" y="1185"/>
                  </a:lnTo>
                  <a:lnTo>
                    <a:pt x="224" y="1240"/>
                  </a:lnTo>
                  <a:lnTo>
                    <a:pt x="184" y="1294"/>
                  </a:lnTo>
                  <a:lnTo>
                    <a:pt x="145" y="1350"/>
                  </a:lnTo>
                  <a:lnTo>
                    <a:pt x="106" y="1407"/>
                  </a:lnTo>
                  <a:lnTo>
                    <a:pt x="70" y="1464"/>
                  </a:lnTo>
                  <a:lnTo>
                    <a:pt x="35" y="1522"/>
                  </a:lnTo>
                  <a:lnTo>
                    <a:pt x="0" y="1581"/>
                  </a:lnTo>
                  <a:lnTo>
                    <a:pt x="1039" y="2172"/>
                  </a:lnTo>
                  <a:lnTo>
                    <a:pt x="1053" y="2163"/>
                  </a:lnTo>
                  <a:lnTo>
                    <a:pt x="1067" y="2154"/>
                  </a:lnTo>
                  <a:lnTo>
                    <a:pt x="1081" y="2145"/>
                  </a:lnTo>
                  <a:lnTo>
                    <a:pt x="1097" y="2137"/>
                  </a:lnTo>
                  <a:lnTo>
                    <a:pt x="1113" y="2129"/>
                  </a:lnTo>
                  <a:lnTo>
                    <a:pt x="1129" y="2121"/>
                  </a:lnTo>
                  <a:lnTo>
                    <a:pt x="1146" y="2115"/>
                  </a:lnTo>
                  <a:lnTo>
                    <a:pt x="1164" y="2108"/>
                  </a:lnTo>
                  <a:lnTo>
                    <a:pt x="1183" y="2102"/>
                  </a:lnTo>
                  <a:lnTo>
                    <a:pt x="1201" y="2097"/>
                  </a:lnTo>
                  <a:lnTo>
                    <a:pt x="1220" y="2092"/>
                  </a:lnTo>
                  <a:lnTo>
                    <a:pt x="1240" y="2088"/>
                  </a:lnTo>
                  <a:lnTo>
                    <a:pt x="1259" y="2084"/>
                  </a:lnTo>
                  <a:lnTo>
                    <a:pt x="1280" y="2081"/>
                  </a:lnTo>
                  <a:lnTo>
                    <a:pt x="1301" y="2079"/>
                  </a:lnTo>
                  <a:lnTo>
                    <a:pt x="1321" y="2076"/>
                  </a:lnTo>
                  <a:lnTo>
                    <a:pt x="1321" y="1936"/>
                  </a:lnTo>
                  <a:lnTo>
                    <a:pt x="1306" y="1935"/>
                  </a:lnTo>
                  <a:lnTo>
                    <a:pt x="1290" y="1933"/>
                  </a:lnTo>
                  <a:lnTo>
                    <a:pt x="1275" y="1932"/>
                  </a:lnTo>
                  <a:lnTo>
                    <a:pt x="1259" y="1929"/>
                  </a:lnTo>
                  <a:lnTo>
                    <a:pt x="1243" y="1927"/>
                  </a:lnTo>
                  <a:lnTo>
                    <a:pt x="1228" y="1924"/>
                  </a:lnTo>
                  <a:lnTo>
                    <a:pt x="1212" y="1922"/>
                  </a:lnTo>
                  <a:lnTo>
                    <a:pt x="1198" y="1919"/>
                  </a:lnTo>
                  <a:lnTo>
                    <a:pt x="1183" y="1915"/>
                  </a:lnTo>
                  <a:lnTo>
                    <a:pt x="1167" y="1911"/>
                  </a:lnTo>
                  <a:lnTo>
                    <a:pt x="1153" y="1907"/>
                  </a:lnTo>
                  <a:lnTo>
                    <a:pt x="1137" y="1904"/>
                  </a:lnTo>
                  <a:lnTo>
                    <a:pt x="1123" y="1898"/>
                  </a:lnTo>
                  <a:lnTo>
                    <a:pt x="1109" y="1893"/>
                  </a:lnTo>
                  <a:lnTo>
                    <a:pt x="1093" y="1888"/>
                  </a:lnTo>
                  <a:lnTo>
                    <a:pt x="1079" y="1883"/>
                  </a:lnTo>
                  <a:lnTo>
                    <a:pt x="1105" y="1778"/>
                  </a:lnTo>
                  <a:lnTo>
                    <a:pt x="1120" y="1784"/>
                  </a:lnTo>
                  <a:lnTo>
                    <a:pt x="1137" y="1791"/>
                  </a:lnTo>
                  <a:lnTo>
                    <a:pt x="1153" y="1796"/>
                  </a:lnTo>
                  <a:lnTo>
                    <a:pt x="1170" y="1801"/>
                  </a:lnTo>
                  <a:lnTo>
                    <a:pt x="1186" y="1805"/>
                  </a:lnTo>
                  <a:lnTo>
                    <a:pt x="1203" y="1810"/>
                  </a:lnTo>
                  <a:lnTo>
                    <a:pt x="1219" y="1814"/>
                  </a:lnTo>
                  <a:lnTo>
                    <a:pt x="1236" y="1818"/>
                  </a:lnTo>
                  <a:lnTo>
                    <a:pt x="1253" y="1821"/>
                  </a:lnTo>
                  <a:lnTo>
                    <a:pt x="1271" y="1823"/>
                  </a:lnTo>
                  <a:lnTo>
                    <a:pt x="1288" y="1826"/>
                  </a:lnTo>
                  <a:lnTo>
                    <a:pt x="1304" y="1827"/>
                  </a:lnTo>
                  <a:lnTo>
                    <a:pt x="1321" y="1830"/>
                  </a:lnTo>
                  <a:lnTo>
                    <a:pt x="1339" y="1830"/>
                  </a:lnTo>
                  <a:lnTo>
                    <a:pt x="1356" y="1831"/>
                  </a:lnTo>
                  <a:lnTo>
                    <a:pt x="1374" y="1831"/>
                  </a:lnTo>
                  <a:lnTo>
                    <a:pt x="1447" y="1827"/>
                  </a:lnTo>
                  <a:lnTo>
                    <a:pt x="1517" y="1817"/>
                  </a:lnTo>
                  <a:lnTo>
                    <a:pt x="1586" y="1799"/>
                  </a:lnTo>
                  <a:lnTo>
                    <a:pt x="1651" y="1775"/>
                  </a:lnTo>
                  <a:lnTo>
                    <a:pt x="1713" y="1744"/>
                  </a:lnTo>
                  <a:lnTo>
                    <a:pt x="1771" y="1709"/>
                  </a:lnTo>
                  <a:lnTo>
                    <a:pt x="1827" y="1668"/>
                  </a:lnTo>
                  <a:lnTo>
                    <a:pt x="1878" y="1622"/>
                  </a:lnTo>
                  <a:lnTo>
                    <a:pt x="1923" y="1572"/>
                  </a:lnTo>
                  <a:lnTo>
                    <a:pt x="1964" y="1516"/>
                  </a:lnTo>
                  <a:lnTo>
                    <a:pt x="1999" y="1457"/>
                  </a:lnTo>
                  <a:lnTo>
                    <a:pt x="2031" y="1395"/>
                  </a:lnTo>
                  <a:lnTo>
                    <a:pt x="2054" y="1330"/>
                  </a:lnTo>
                  <a:lnTo>
                    <a:pt x="2072" y="1262"/>
                  </a:lnTo>
                  <a:lnTo>
                    <a:pt x="2082" y="1192"/>
                  </a:lnTo>
                  <a:lnTo>
                    <a:pt x="2086" y="1119"/>
                  </a:lnTo>
                  <a:lnTo>
                    <a:pt x="2082" y="1050"/>
                  </a:lnTo>
                  <a:lnTo>
                    <a:pt x="2073" y="983"/>
                  </a:lnTo>
                  <a:lnTo>
                    <a:pt x="2058" y="918"/>
                  </a:lnTo>
                  <a:lnTo>
                    <a:pt x="2036" y="856"/>
                  </a:lnTo>
                  <a:lnTo>
                    <a:pt x="2009" y="796"/>
                  </a:lnTo>
                  <a:lnTo>
                    <a:pt x="1977" y="739"/>
                  </a:lnTo>
                  <a:lnTo>
                    <a:pt x="1940" y="686"/>
                  </a:lnTo>
                  <a:lnTo>
                    <a:pt x="1898" y="637"/>
                  </a:lnTo>
                  <a:lnTo>
                    <a:pt x="1853" y="591"/>
                  </a:lnTo>
                  <a:lnTo>
                    <a:pt x="1802" y="550"/>
                  </a:lnTo>
                  <a:lnTo>
                    <a:pt x="1749" y="513"/>
                  </a:lnTo>
                  <a:lnTo>
                    <a:pt x="1693" y="481"/>
                  </a:lnTo>
                  <a:lnTo>
                    <a:pt x="1634" y="455"/>
                  </a:lnTo>
                  <a:lnTo>
                    <a:pt x="1572" y="433"/>
                  </a:lnTo>
                  <a:lnTo>
                    <a:pt x="1507" y="418"/>
                  </a:lnTo>
                  <a:lnTo>
                    <a:pt x="1439" y="408"/>
                  </a:lnTo>
                  <a:lnTo>
                    <a:pt x="1465" y="303"/>
                  </a:lnTo>
                  <a:lnTo>
                    <a:pt x="1540" y="315"/>
                  </a:lnTo>
                  <a:lnTo>
                    <a:pt x="1614" y="335"/>
                  </a:lnTo>
                  <a:lnTo>
                    <a:pt x="1684" y="359"/>
                  </a:lnTo>
                  <a:lnTo>
                    <a:pt x="1752" y="390"/>
                  </a:lnTo>
                  <a:lnTo>
                    <a:pt x="1815" y="428"/>
                  </a:lnTo>
                  <a:lnTo>
                    <a:pt x="1875" y="471"/>
                  </a:lnTo>
                  <a:lnTo>
                    <a:pt x="1931" y="517"/>
                  </a:lnTo>
                  <a:lnTo>
                    <a:pt x="1983" y="571"/>
                  </a:lnTo>
                  <a:lnTo>
                    <a:pt x="2029" y="626"/>
                  </a:lnTo>
                  <a:lnTo>
                    <a:pt x="2071" y="687"/>
                  </a:lnTo>
                  <a:lnTo>
                    <a:pt x="2107" y="752"/>
                  </a:lnTo>
                  <a:lnTo>
                    <a:pt x="2137" y="821"/>
                  </a:lnTo>
                  <a:lnTo>
                    <a:pt x="2162" y="891"/>
                  </a:lnTo>
                  <a:lnTo>
                    <a:pt x="2180" y="965"/>
                  </a:lnTo>
                  <a:lnTo>
                    <a:pt x="2190" y="1041"/>
                  </a:lnTo>
                  <a:lnTo>
                    <a:pt x="2194" y="1119"/>
                  </a:lnTo>
                  <a:lnTo>
                    <a:pt x="2190" y="1199"/>
                  </a:lnTo>
                  <a:lnTo>
                    <a:pt x="2178" y="1277"/>
                  </a:lnTo>
                  <a:lnTo>
                    <a:pt x="2160" y="1352"/>
                  </a:lnTo>
                  <a:lnTo>
                    <a:pt x="2134" y="1425"/>
                  </a:lnTo>
                  <a:lnTo>
                    <a:pt x="2102" y="1495"/>
                  </a:lnTo>
                  <a:lnTo>
                    <a:pt x="2064" y="1561"/>
                  </a:lnTo>
                  <a:lnTo>
                    <a:pt x="2020" y="1622"/>
                  </a:lnTo>
                  <a:lnTo>
                    <a:pt x="1971" y="1679"/>
                  </a:lnTo>
                  <a:lnTo>
                    <a:pt x="1916" y="1732"/>
                  </a:lnTo>
                  <a:lnTo>
                    <a:pt x="1858" y="1780"/>
                  </a:lnTo>
                  <a:lnTo>
                    <a:pt x="1795" y="1822"/>
                  </a:lnTo>
                  <a:lnTo>
                    <a:pt x="1727" y="1858"/>
                  </a:lnTo>
                  <a:lnTo>
                    <a:pt x="1657" y="1888"/>
                  </a:lnTo>
                  <a:lnTo>
                    <a:pt x="1583" y="1911"/>
                  </a:lnTo>
                  <a:lnTo>
                    <a:pt x="1507" y="1927"/>
                  </a:lnTo>
                  <a:lnTo>
                    <a:pt x="1428" y="1936"/>
                  </a:lnTo>
                  <a:lnTo>
                    <a:pt x="1428" y="2075"/>
                  </a:lnTo>
                  <a:lnTo>
                    <a:pt x="1469" y="2079"/>
                  </a:lnTo>
                  <a:lnTo>
                    <a:pt x="1509" y="2084"/>
                  </a:lnTo>
                  <a:lnTo>
                    <a:pt x="1548" y="2092"/>
                  </a:lnTo>
                  <a:lnTo>
                    <a:pt x="1585" y="2102"/>
                  </a:lnTo>
                  <a:lnTo>
                    <a:pt x="1620" y="2114"/>
                  </a:lnTo>
                  <a:lnTo>
                    <a:pt x="1653" y="2128"/>
                  </a:lnTo>
                  <a:lnTo>
                    <a:pt x="1684" y="2143"/>
                  </a:lnTo>
                  <a:lnTo>
                    <a:pt x="1714" y="2160"/>
                  </a:lnTo>
                  <a:lnTo>
                    <a:pt x="1740" y="2178"/>
                  </a:lnTo>
                  <a:lnTo>
                    <a:pt x="1763" y="2198"/>
                  </a:lnTo>
                  <a:lnTo>
                    <a:pt x="1785" y="2220"/>
                  </a:lnTo>
                  <a:lnTo>
                    <a:pt x="1804" y="2242"/>
                  </a:lnTo>
                  <a:lnTo>
                    <a:pt x="1818" y="2265"/>
                  </a:lnTo>
                  <a:lnTo>
                    <a:pt x="1831" y="2290"/>
                  </a:lnTo>
                  <a:lnTo>
                    <a:pt x="1839" y="2315"/>
                  </a:lnTo>
                  <a:lnTo>
                    <a:pt x="1844" y="2341"/>
                  </a:lnTo>
                  <a:lnTo>
                    <a:pt x="1337" y="2341"/>
                  </a:lnTo>
                  <a:lnTo>
                    <a:pt x="1761" y="2583"/>
                  </a:lnTo>
                  <a:lnTo>
                    <a:pt x="1778" y="2554"/>
                  </a:lnTo>
                  <a:lnTo>
                    <a:pt x="1795" y="2527"/>
                  </a:lnTo>
                  <a:lnTo>
                    <a:pt x="1813" y="2500"/>
                  </a:lnTo>
                  <a:lnTo>
                    <a:pt x="1831" y="2473"/>
                  </a:lnTo>
                  <a:lnTo>
                    <a:pt x="1850" y="2447"/>
                  </a:lnTo>
                  <a:lnTo>
                    <a:pt x="1871" y="2421"/>
                  </a:lnTo>
                  <a:lnTo>
                    <a:pt x="1892" y="2396"/>
                  </a:lnTo>
                  <a:lnTo>
                    <a:pt x="1914" y="2372"/>
                  </a:lnTo>
                  <a:lnTo>
                    <a:pt x="1936" y="2347"/>
                  </a:lnTo>
                  <a:lnTo>
                    <a:pt x="1959" y="2324"/>
                  </a:lnTo>
                  <a:lnTo>
                    <a:pt x="1983" y="2300"/>
                  </a:lnTo>
                  <a:lnTo>
                    <a:pt x="2006" y="2278"/>
                  </a:lnTo>
                  <a:lnTo>
                    <a:pt x="2032" y="2256"/>
                  </a:lnTo>
                  <a:lnTo>
                    <a:pt x="2056" y="2235"/>
                  </a:lnTo>
                  <a:lnTo>
                    <a:pt x="2082" y="2215"/>
                  </a:lnTo>
                  <a:lnTo>
                    <a:pt x="2110" y="2195"/>
                  </a:lnTo>
                  <a:lnTo>
                    <a:pt x="2134" y="2178"/>
                  </a:lnTo>
                  <a:lnTo>
                    <a:pt x="2160" y="2162"/>
                  </a:lnTo>
                  <a:lnTo>
                    <a:pt x="2186" y="2145"/>
                  </a:lnTo>
                  <a:lnTo>
                    <a:pt x="2213" y="2130"/>
                  </a:lnTo>
                  <a:lnTo>
                    <a:pt x="2239" y="2115"/>
                  </a:lnTo>
                  <a:lnTo>
                    <a:pt x="2268" y="2101"/>
                  </a:lnTo>
                  <a:lnTo>
                    <a:pt x="2295" y="2088"/>
                  </a:lnTo>
                  <a:lnTo>
                    <a:pt x="2324" y="2075"/>
                  </a:lnTo>
                  <a:lnTo>
                    <a:pt x="2352" y="2062"/>
                  </a:lnTo>
                  <a:lnTo>
                    <a:pt x="2382" y="2050"/>
                  </a:lnTo>
                  <a:lnTo>
                    <a:pt x="2412" y="2040"/>
                  </a:lnTo>
                  <a:lnTo>
                    <a:pt x="2442" y="2029"/>
                  </a:lnTo>
                  <a:lnTo>
                    <a:pt x="2473" y="2020"/>
                  </a:lnTo>
                  <a:lnTo>
                    <a:pt x="2503" y="2011"/>
                  </a:lnTo>
                  <a:lnTo>
                    <a:pt x="2535" y="2003"/>
                  </a:lnTo>
                  <a:lnTo>
                    <a:pt x="2566" y="1997"/>
                  </a:lnTo>
                  <a:lnTo>
                    <a:pt x="2573" y="1996"/>
                  </a:lnTo>
                  <a:lnTo>
                    <a:pt x="2579" y="1994"/>
                  </a:lnTo>
                  <a:lnTo>
                    <a:pt x="2586" y="1994"/>
                  </a:lnTo>
                  <a:lnTo>
                    <a:pt x="2592" y="1993"/>
                  </a:lnTo>
                  <a:lnTo>
                    <a:pt x="2225" y="0"/>
                  </a:lnTo>
                  <a:lnTo>
                    <a:pt x="2216" y="1"/>
                  </a:lnTo>
                  <a:lnTo>
                    <a:pt x="2208" y="4"/>
                  </a:lnTo>
                  <a:lnTo>
                    <a:pt x="2199" y="5"/>
                  </a:lnTo>
                  <a:lnTo>
                    <a:pt x="2190" y="6"/>
                  </a:lnTo>
                  <a:lnTo>
                    <a:pt x="2181" y="8"/>
                  </a:lnTo>
                  <a:lnTo>
                    <a:pt x="2173" y="9"/>
                  </a:lnTo>
                  <a:lnTo>
                    <a:pt x="2164" y="12"/>
                  </a:lnTo>
                  <a:lnTo>
                    <a:pt x="2155" y="13"/>
                  </a:lnTo>
                  <a:lnTo>
                    <a:pt x="2124" y="19"/>
                  </a:lnTo>
                  <a:lnTo>
                    <a:pt x="2094" y="26"/>
                  </a:lnTo>
                  <a:lnTo>
                    <a:pt x="2064" y="34"/>
                  </a:lnTo>
                  <a:lnTo>
                    <a:pt x="2033" y="40"/>
                  </a:lnTo>
                  <a:lnTo>
                    <a:pt x="2003" y="48"/>
                  </a:lnTo>
                  <a:lnTo>
                    <a:pt x="1973" y="56"/>
                  </a:lnTo>
                  <a:lnTo>
                    <a:pt x="1944" y="64"/>
                  </a:lnTo>
                  <a:lnTo>
                    <a:pt x="1914" y="73"/>
                  </a:lnTo>
                  <a:lnTo>
                    <a:pt x="1884" y="80"/>
                  </a:lnTo>
                  <a:lnTo>
                    <a:pt x="1856" y="89"/>
                  </a:lnTo>
                  <a:lnTo>
                    <a:pt x="1826" y="99"/>
                  </a:lnTo>
                  <a:lnTo>
                    <a:pt x="1797" y="109"/>
                  </a:lnTo>
                  <a:lnTo>
                    <a:pt x="1769" y="118"/>
                  </a:lnTo>
                  <a:lnTo>
                    <a:pt x="1739" y="128"/>
                  </a:lnTo>
                  <a:lnTo>
                    <a:pt x="1710" y="139"/>
                  </a:lnTo>
                  <a:lnTo>
                    <a:pt x="1682" y="149"/>
                  </a:lnTo>
                  <a:lnTo>
                    <a:pt x="1653" y="159"/>
                  </a:lnTo>
                  <a:lnTo>
                    <a:pt x="1626" y="170"/>
                  </a:lnTo>
                  <a:lnTo>
                    <a:pt x="1597" y="182"/>
                  </a:lnTo>
                  <a:lnTo>
                    <a:pt x="1569" y="193"/>
                  </a:lnTo>
                  <a:lnTo>
                    <a:pt x="1542" y="205"/>
                  </a:lnTo>
                  <a:lnTo>
                    <a:pt x="1514" y="217"/>
                  </a:lnTo>
                  <a:lnTo>
                    <a:pt x="1486" y="228"/>
                  </a:lnTo>
                  <a:lnTo>
                    <a:pt x="1459" y="241"/>
                  </a:lnTo>
                  <a:lnTo>
                    <a:pt x="1431" y="254"/>
                  </a:lnTo>
                  <a:lnTo>
                    <a:pt x="1406" y="267"/>
                  </a:lnTo>
                  <a:lnTo>
                    <a:pt x="1378" y="280"/>
                  </a:lnTo>
                  <a:lnTo>
                    <a:pt x="1351" y="293"/>
                  </a:lnTo>
                  <a:lnTo>
                    <a:pt x="1325" y="307"/>
                  </a:lnTo>
                  <a:lnTo>
                    <a:pt x="1298" y="320"/>
                  </a:lnTo>
                  <a:lnTo>
                    <a:pt x="1272" y="335"/>
                  </a:lnTo>
                  <a:lnTo>
                    <a:pt x="1246" y="349"/>
                  </a:lnTo>
                  <a:lnTo>
                    <a:pt x="1232" y="357"/>
                  </a:lnTo>
                  <a:lnTo>
                    <a:pt x="1218" y="364"/>
                  </a:lnTo>
                  <a:lnTo>
                    <a:pt x="1205" y="372"/>
                  </a:lnTo>
                  <a:lnTo>
                    <a:pt x="1190" y="380"/>
                  </a:lnTo>
                  <a:lnTo>
                    <a:pt x="1177" y="388"/>
                  </a:lnTo>
                  <a:lnTo>
                    <a:pt x="1163" y="395"/>
                  </a:lnTo>
                  <a:lnTo>
                    <a:pt x="1150" y="405"/>
                  </a:lnTo>
                  <a:lnTo>
                    <a:pt x="1136" y="412"/>
                  </a:lnTo>
                  <a:lnTo>
                    <a:pt x="1180" y="546"/>
                  </a:lnTo>
                  <a:close/>
                </a:path>
              </a:pathLst>
            </a:custGeom>
            <a:solidFill>
              <a:srgbClr val="88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hesapeakebaysampler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esapeakebaysampler.com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gif"/><Relationship Id="rId9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8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irginia SOL Revie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 VS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 4.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153280" y="62485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24558" y="10800"/>
                </a:lnTo>
                <a:lnTo>
                  <a:pt x="10545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800600" y="1523880"/>
          <a:ext cx="370188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ChesapeakeColonies.gif (249594 bytes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7018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rot="1527000">
            <a:off x="6019560" y="3352320"/>
            <a:ext cx="914400" cy="265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 rivers that flow into the Chesape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223800">
            <a:off x="5257440" y="2400120"/>
            <a:ext cx="1219320" cy="3812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952800">
            <a:off x="5714640" y="3581280"/>
            <a:ext cx="914400" cy="265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780800">
            <a:off x="6173280" y="3276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462"/>
                </a:solidFill>
                <a:latin typeface="Arial"/>
              </a:rPr>
              <a:t>York R</a:t>
            </a:r>
            <a:r>
              <a:rPr b="0" lang="en-US" sz="2000" spc="-1" strike="noStrike">
                <a:solidFill>
                  <a:srgbClr val="00646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297180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2160" y="3581280"/>
            <a:ext cx="10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623800">
            <a:off x="5638320" y="1828800"/>
            <a:ext cx="1219320" cy="3808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32120" y="495288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o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3240" y="4267080"/>
            <a:ext cx="27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pahann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a city to a ri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rick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mond/James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0600" y="1585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es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omac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pahann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a city to 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mond &amp; James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rick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590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30481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429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886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78b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44800" y="38098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pahannoc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41560" y="34290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omac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7520" y="2971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rk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67120" y="25146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es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town:James River::Yorktow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:Potomac River:    :Fredricksbur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829640" y="1933560"/>
            <a:ext cx="2476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43400" y="3886200"/>
            <a:ext cx="247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Heavy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Heavy"/>
              <a:ea typeface="Franklin Gothic Heavy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419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2666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town: James River:              :Yorktown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York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ria: Potomac River:    :Fredricksburg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appahannock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a peninsula is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an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rcRect l="0" t="0" r="2643" b="0"/>
          <a:stretch/>
        </p:blipFill>
        <p:spPr>
          <a:xfrm>
            <a:off x="3657600" y="1219320"/>
            <a:ext cx="430704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ns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ce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dered on 3 sides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ce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ly surrounded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0800" y="646128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27c54"/>
                </a:solidFill>
                <a:latin typeface="Arial"/>
              </a:rPr>
              <a:t>http://www.esva.com</a:t>
            </a:r>
            <a:r>
              <a:rPr b="0" lang="en-US" sz="1000" spc="-1" strike="noStrike">
                <a:solidFill>
                  <a:srgbClr val="6d6fc7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238520" y="4114800"/>
            <a:ext cx="129564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Virginia Peninsu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rId1"/>
          </p:cNvPr>
          <p:cNvPicPr/>
          <p:nvPr/>
        </p:nvPicPr>
        <p:blipFill>
          <a:blip r:embed="rId2"/>
          <a:srcRect l="0" t="0" r="2643" b="0"/>
          <a:stretch/>
        </p:blipFill>
        <p:spPr>
          <a:xfrm>
            <a:off x="4343400" y="1144440"/>
            <a:ext cx="443088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ginia Penins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S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0800" y="6461280"/>
            <a:ext cx="138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27c54"/>
                </a:solidFill>
                <a:latin typeface="Arial"/>
              </a:rPr>
              <a:t>http://www.esva.com</a:t>
            </a:r>
            <a:r>
              <a:rPr b="0" lang="en-US" sz="1000" spc="-1" strike="noStrike">
                <a:solidFill>
                  <a:srgbClr val="6d6fc7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absolute locatio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identify where the Norfolk is loc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9656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lottesville 38° 2' N 78° 31' W Danville AP 36° 34' N 79° 20' W Fredericksburg 38° 18' N 77° 28' W Harrisonburg 38° 27' N 78° 54' W Lynchburg AP 37° 20' N 79° 12' W Norfolk AP 36° 54' N 76° 12' W Petersburg 37° 11' N 77° 31' W Richmond AP 37° 30' N 77° 20' W Roanoke AP 37° 19' N 79° 58' W Staunton 38° 16' N 78° 54' W Winchester 39° 12' N 78° 10' 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continent where Virginia is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World Political Map"/>
          <p:cNvPicPr/>
          <p:nvPr/>
        </p:nvPicPr>
        <p:blipFill>
          <a:blip r:embed="rId1"/>
          <a:stretch/>
        </p:blipFill>
        <p:spPr>
          <a:xfrm>
            <a:off x="380880" y="243360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1295280" y="2743200"/>
            <a:ext cx="1295640" cy="129528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20206" y="1400"/>
                </a:lnTo>
                <a:lnTo>
                  <a:pt x="1400" y="1400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20206" y="20200"/>
                </a:lnTo>
                <a:lnTo>
                  <a:pt x="20206" y="1400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6" y="20200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971800" y="2514600"/>
            <a:ext cx="5791320" cy="4343400"/>
          </a:xfrm>
          <a:custGeom>
            <a:avLst/>
            <a:gdLst>
              <a:gd name="textAreaLeft" fmla="*/ 281520 w 5791320"/>
              <a:gd name="textAreaRight" fmla="*/ 5509800 w 5791320"/>
              <a:gd name="textAreaTop" fmla="*/ 281520 h 4343400"/>
              <a:gd name="textAreaBottom" fmla="*/ 4061880 h 4343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bsolute location, Norfolk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 36° 54' N 76° 12' 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89656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lottesville 38° 2' N 78° 31' W Danville AP 36° 34' N 79° 20' W Fredericksburg 38° 18' N 77° 28' W Harrisonburg 38° 27' N 78° 54' W Lynchburg AP 37° 20' N 79° 12' W Norfolk AP 36° 54' N 76° 12' W Petersburg 37° 11' N 77° 31' W Richmond AP 37° 30' N 77° 20' W Roanoke AP 37° 19' N 79° 58' W Staunton 38° 16' N 78° 54' W Winchester 39° 12' N 78° 10' 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location means to locate a place relative to other landmarks while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bsolute lo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ocating a place using a coordinate syste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038480" y="4648320"/>
            <a:ext cx="1067040" cy="76176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52" h="21600">
                <a:moveTo>
                  <a:pt x="0" y="0"/>
                </a:moveTo>
                <a:lnTo>
                  <a:pt x="30252" y="0"/>
                </a:lnTo>
                <a:lnTo>
                  <a:pt x="30252" y="21600"/>
                </a:lnTo>
                <a:lnTo>
                  <a:pt x="0" y="21600"/>
                </a:lnTo>
                <a:close/>
              </a:path>
              <a:path fill="lightenLess" w="30252" h="21600">
                <a:moveTo>
                  <a:pt x="0" y="0"/>
                </a:moveTo>
                <a:lnTo>
                  <a:pt x="30252" y="0"/>
                </a:lnTo>
                <a:lnTo>
                  <a:pt x="28852" y="1400"/>
                </a:lnTo>
                <a:lnTo>
                  <a:pt x="1400" y="1400"/>
                </a:lnTo>
                <a:close/>
              </a:path>
              <a:path fill="darken" w="30252" h="21600">
                <a:moveTo>
                  <a:pt x="30252" y="0"/>
                </a:moveTo>
                <a:lnTo>
                  <a:pt x="30252" y="21600"/>
                </a:lnTo>
                <a:lnTo>
                  <a:pt x="28852" y="20200"/>
                </a:lnTo>
                <a:lnTo>
                  <a:pt x="28852" y="1400"/>
                </a:lnTo>
                <a:close/>
              </a:path>
              <a:path fill="darkenLess" w="30252" h="21600">
                <a:moveTo>
                  <a:pt x="3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52" y="20200"/>
                </a:lnTo>
                <a:close/>
              </a:path>
              <a:path fill="lighten" w="3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52" h="21600">
                <a:moveTo>
                  <a:pt x="11627" y="10800"/>
                </a:moveTo>
                <a:lnTo>
                  <a:pt x="22133" y="3794"/>
                </a:lnTo>
                <a:lnTo>
                  <a:pt x="22133" y="17806"/>
                </a:lnTo>
                <a:close/>
              </a:path>
              <a:path fill="darken" w="30252" h="21600">
                <a:moveTo>
                  <a:pt x="8120" y="3794"/>
                </a:moveTo>
                <a:lnTo>
                  <a:pt x="9782" y="3794"/>
                </a:lnTo>
                <a:lnTo>
                  <a:pt x="9782" y="17806"/>
                </a:lnTo>
                <a:lnTo>
                  <a:pt x="8120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tes border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200400"/>
            <a:ext cx="4343400" cy="251460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912"/>
                </a:moveTo>
                <a:lnTo>
                  <a:pt x="1056" y="0"/>
                </a:lnTo>
                <a:lnTo>
                  <a:pt x="1488" y="624"/>
                </a:lnTo>
                <a:lnTo>
                  <a:pt x="0" y="912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5105520"/>
            <a:ext cx="533520" cy="9144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504960" y="5486400"/>
            <a:ext cx="609480" cy="83808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133720" y="4876920"/>
            <a:ext cx="129528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266720" y="3429000"/>
            <a:ext cx="762120" cy="533520"/>
          </a:xfrm>
          <a:prstGeom prst="line">
            <a:avLst/>
          </a:prstGeom>
          <a:ln w="381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00800" y="3276720"/>
            <a:ext cx="45720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3886200"/>
            <a:ext cx="304560" cy="45720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0" y="240"/>
                </a:moveTo>
                <a:lnTo>
                  <a:pt x="192" y="0"/>
                </a:lnTo>
                <a:lnTo>
                  <a:pt x="96" y="0"/>
                </a:lnTo>
                <a:lnTo>
                  <a:pt x="0" y="24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600" y="4267080"/>
            <a:ext cx="1924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irgin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1602000" y="4495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8000" y="3048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61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9800" y="5943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92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rdering stat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gi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8c8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c874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 </a:t>
            </a:r>
            <a:r>
              <a:rPr b="0" lang="en-US" sz="4000" spc="-1" strike="noStrike">
                <a:solidFill>
                  <a:srgbClr val="cc66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3713400" cy="218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7696080" y="213372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312408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396216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19720" y="47239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7391520" y="426708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relative location, what statement can be made to describe the relation between Kentucky and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47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relative location, Kentucky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71600" y="2590920"/>
            <a:ext cx="28954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xt t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5260320" y="3048120"/>
            <a:ext cx="22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rcRect l="0" t="0" r="0" b="26309"/>
          <a:stretch/>
        </p:blipFill>
        <p:spPr>
          <a:xfrm>
            <a:off x="5334120" y="4267080"/>
            <a:ext cx="3200400" cy="13892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ardinal and intermediate directions, describe where you would find each bordering state of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ardinal and intermediate directions, describe where you would find each bordering state of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Virginia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tucky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nesse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Carolin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520" y="31240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6080" y="36576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nor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5880" y="42051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30800" y="47242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ou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3960" y="51814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5 geographic regions of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876920" cy="24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7086600" cy="3601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ve Regions of Virginia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8286800">
            <a:off x="6471360" y="32828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Tide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550800">
            <a:off x="4829040" y="42408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8598200">
            <a:off x="4049280" y="28861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ccac"/>
                </a:solidFill>
                <a:latin typeface="Arial"/>
              </a:rPr>
              <a:t>Ridge &amp;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766200">
            <a:off x="1614960" y="318708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8901800">
            <a:off x="2365560" y="548568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lue 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 is located on the continent of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World Political Map"/>
          <p:cNvPicPr/>
          <p:nvPr/>
        </p:nvPicPr>
        <p:blipFill>
          <a:blip r:embed="rId1"/>
          <a:stretch/>
        </p:blipFill>
        <p:spPr>
          <a:xfrm>
            <a:off x="914400" y="2666880"/>
            <a:ext cx="701028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name of the major landform found in the Ridge and Valley region of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major landform found in the Ridge and Valley region of Virginia is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657600" cy="2457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05120" y="28954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palachian Mountain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ll 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81952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ll Line i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natural b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falls prevent further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des Tidewater and Piedmont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through or near Fredricksburg, Richmond, Peter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characteristics of Virginia’s clim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Virginia’s clim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 s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1257120" cy="12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352520" cy="1323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1409760" cy="1371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19720" y="2819520"/>
            <a:ext cx="1428480" cy="130464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group of Native Americans lived in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0516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tive Americans that lived in Virginia w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astern Woo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0516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Eastern Woodland Indians survive during each sea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87920" y="2895480"/>
            <a:ext cx="2400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stern Woodland Indians survived each season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0920" y="31384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6760" y="31384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312408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9120" y="315288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6576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360" y="3846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ing birds and 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38862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shing and picking b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856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ing cr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32640" y="3886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vesting cr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3962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t Corr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3809880" y="38862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all Virginia regions have in common geographic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regions differ the most geographic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to view a chart to help answer these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09480" y="1066680"/>
            <a:ext cx="8076960" cy="5410080"/>
            <a:chOff x="609480" y="1066680"/>
            <a:chExt cx="8076960" cy="5410080"/>
          </a:xfrm>
        </p:grpSpPr>
        <p:sp>
          <p:nvSpPr>
            <p:cNvPr id="271" name=""/>
            <p:cNvSpPr/>
            <p:nvPr/>
          </p:nvSpPr>
          <p:spPr>
            <a:xfrm>
              <a:off x="666720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 mi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8360" y="5406480"/>
              <a:ext cx="20196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untainous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48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ppalachian Platea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6720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rm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ultry, Apples, Forest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8360" y="4278240"/>
              <a:ext cx="201960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erate to good soil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alley &amp; Rid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20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chnology, federal and state government, farming texti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bacco, Produce, Dairy Farms, L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28360" y="3206160"/>
              <a:ext cx="2019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ood soil, rivers, moderate clim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48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iedmon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6720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hipbuilding, tourism, federal military install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32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ybeans, Peanuts,  Seaf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28360" y="213624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esapeake Bay, Great Dismal Swamp, Ocean, major riv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48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dewat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oastal Pla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6720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dustr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4832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c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8360" y="106668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eograph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g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106668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2136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320616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480" y="4278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480" y="540648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647676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836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4832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6720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8644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530280" cy="380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5638680"/>
            <a:ext cx="522360" cy="538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365040" cy="4622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562720" y="4653360"/>
            <a:ext cx="511560" cy="611640"/>
            <a:chOff x="5562720" y="4653360"/>
            <a:chExt cx="511560" cy="611640"/>
          </a:xfrm>
        </p:grpSpPr>
        <p:sp>
          <p:nvSpPr>
            <p:cNvPr id="306" name=""/>
            <p:cNvSpPr/>
            <p:nvPr/>
          </p:nvSpPr>
          <p:spPr>
            <a:xfrm>
              <a:off x="5600880" y="4893840"/>
              <a:ext cx="77760" cy="136800"/>
            </a:xfrm>
            <a:custGeom>
              <a:avLst/>
              <a:gdLst/>
              <a:ahLst/>
              <a:rect l="l" t="t" r="r" b="b"/>
              <a:pathLst>
                <a:path w="349" h="513">
                  <a:moveTo>
                    <a:pt x="6" y="513"/>
                  </a:moveTo>
                  <a:lnTo>
                    <a:pt x="7" y="505"/>
                  </a:lnTo>
                  <a:lnTo>
                    <a:pt x="12" y="481"/>
                  </a:lnTo>
                  <a:lnTo>
                    <a:pt x="22" y="444"/>
                  </a:lnTo>
                  <a:lnTo>
                    <a:pt x="38" y="397"/>
                  </a:lnTo>
                  <a:lnTo>
                    <a:pt x="59" y="341"/>
                  </a:lnTo>
                  <a:lnTo>
                    <a:pt x="87" y="279"/>
                  </a:lnTo>
                  <a:lnTo>
                    <a:pt x="124" y="215"/>
                  </a:lnTo>
                  <a:lnTo>
                    <a:pt x="169" y="148"/>
                  </a:lnTo>
                  <a:lnTo>
                    <a:pt x="204" y="106"/>
                  </a:lnTo>
                  <a:lnTo>
                    <a:pt x="236" y="75"/>
                  </a:lnTo>
                  <a:lnTo>
                    <a:pt x="267" y="51"/>
                  </a:lnTo>
                  <a:lnTo>
                    <a:pt x="293" y="34"/>
                  </a:lnTo>
                  <a:lnTo>
                    <a:pt x="316" y="22"/>
                  </a:lnTo>
                  <a:lnTo>
                    <a:pt x="334" y="15"/>
                  </a:lnTo>
                  <a:lnTo>
                    <a:pt x="345" y="12"/>
                  </a:lnTo>
                  <a:lnTo>
                    <a:pt x="349" y="11"/>
                  </a:lnTo>
                  <a:lnTo>
                    <a:pt x="348" y="10"/>
                  </a:lnTo>
                  <a:lnTo>
                    <a:pt x="344" y="8"/>
                  </a:lnTo>
                  <a:lnTo>
                    <a:pt x="338" y="6"/>
                  </a:lnTo>
                  <a:lnTo>
                    <a:pt x="330" y="4"/>
                  </a:lnTo>
                  <a:lnTo>
                    <a:pt x="320" y="3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1" y="0"/>
                  </a:lnTo>
                  <a:lnTo>
                    <a:pt x="265" y="4"/>
                  </a:lnTo>
                  <a:lnTo>
                    <a:pt x="247" y="8"/>
                  </a:lnTo>
                  <a:lnTo>
                    <a:pt x="229" y="15"/>
                  </a:lnTo>
                  <a:lnTo>
                    <a:pt x="211" y="26"/>
                  </a:lnTo>
                  <a:lnTo>
                    <a:pt x="190" y="38"/>
                  </a:lnTo>
                  <a:lnTo>
                    <a:pt x="170" y="56"/>
                  </a:lnTo>
                  <a:lnTo>
                    <a:pt x="148" y="76"/>
                  </a:lnTo>
                  <a:lnTo>
                    <a:pt x="128" y="102"/>
                  </a:lnTo>
                  <a:lnTo>
                    <a:pt x="73" y="182"/>
                  </a:lnTo>
                  <a:lnTo>
                    <a:pt x="37" y="258"/>
                  </a:lnTo>
                  <a:lnTo>
                    <a:pt x="14" y="329"/>
                  </a:lnTo>
                  <a:lnTo>
                    <a:pt x="3" y="390"/>
                  </a:lnTo>
                  <a:lnTo>
                    <a:pt x="0" y="440"/>
                  </a:lnTo>
                  <a:lnTo>
                    <a:pt x="1" y="480"/>
                  </a:lnTo>
                  <a:lnTo>
                    <a:pt x="3" y="504"/>
                  </a:lnTo>
                  <a:lnTo>
                    <a:pt x="6" y="5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3640" y="4938840"/>
              <a:ext cx="60120" cy="119520"/>
            </a:xfrm>
            <a:custGeom>
              <a:avLst/>
              <a:gdLst/>
              <a:ahLst/>
              <a:rect l="l" t="t" r="r" b="b"/>
              <a:pathLst>
                <a:path w="271" h="449">
                  <a:moveTo>
                    <a:pt x="19" y="449"/>
                  </a:moveTo>
                  <a:lnTo>
                    <a:pt x="19" y="442"/>
                  </a:lnTo>
                  <a:lnTo>
                    <a:pt x="21" y="421"/>
                  </a:lnTo>
                  <a:lnTo>
                    <a:pt x="26" y="390"/>
                  </a:lnTo>
                  <a:lnTo>
                    <a:pt x="32" y="349"/>
                  </a:lnTo>
                  <a:lnTo>
                    <a:pt x="45" y="300"/>
                  </a:lnTo>
                  <a:lnTo>
                    <a:pt x="62" y="247"/>
                  </a:lnTo>
                  <a:lnTo>
                    <a:pt x="85" y="191"/>
                  </a:lnTo>
                  <a:lnTo>
                    <a:pt x="115" y="132"/>
                  </a:lnTo>
                  <a:lnTo>
                    <a:pt x="142" y="92"/>
                  </a:lnTo>
                  <a:lnTo>
                    <a:pt x="168" y="62"/>
                  </a:lnTo>
                  <a:lnTo>
                    <a:pt x="195" y="38"/>
                  </a:lnTo>
                  <a:lnTo>
                    <a:pt x="219" y="22"/>
                  </a:lnTo>
                  <a:lnTo>
                    <a:pt x="240" y="10"/>
                  </a:lnTo>
                  <a:lnTo>
                    <a:pt x="256" y="3"/>
                  </a:lnTo>
                  <a:lnTo>
                    <a:pt x="267" y="1"/>
                  </a:lnTo>
                  <a:lnTo>
                    <a:pt x="271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249" y="0"/>
                  </a:lnTo>
                  <a:lnTo>
                    <a:pt x="239" y="1"/>
                  </a:lnTo>
                  <a:lnTo>
                    <a:pt x="226" y="2"/>
                  </a:lnTo>
                  <a:lnTo>
                    <a:pt x="211" y="5"/>
                  </a:lnTo>
                  <a:lnTo>
                    <a:pt x="196" y="9"/>
                  </a:lnTo>
                  <a:lnTo>
                    <a:pt x="180" y="15"/>
                  </a:lnTo>
                  <a:lnTo>
                    <a:pt x="164" y="22"/>
                  </a:lnTo>
                  <a:lnTo>
                    <a:pt x="146" y="30"/>
                  </a:lnTo>
                  <a:lnTo>
                    <a:pt x="130" y="40"/>
                  </a:lnTo>
                  <a:lnTo>
                    <a:pt x="113" y="54"/>
                  </a:lnTo>
                  <a:lnTo>
                    <a:pt x="97" y="69"/>
                  </a:lnTo>
                  <a:lnTo>
                    <a:pt x="82" y="87"/>
                  </a:lnTo>
                  <a:lnTo>
                    <a:pt x="68" y="108"/>
                  </a:lnTo>
                  <a:lnTo>
                    <a:pt x="32" y="178"/>
                  </a:lnTo>
                  <a:lnTo>
                    <a:pt x="12" y="244"/>
                  </a:lnTo>
                  <a:lnTo>
                    <a:pt x="1" y="302"/>
                  </a:lnTo>
                  <a:lnTo>
                    <a:pt x="0" y="351"/>
                  </a:lnTo>
                  <a:lnTo>
                    <a:pt x="4" y="393"/>
                  </a:lnTo>
                  <a:lnTo>
                    <a:pt x="11" y="424"/>
                  </a:lnTo>
                  <a:lnTo>
                    <a:pt x="16" y="442"/>
                  </a:lnTo>
                  <a:lnTo>
                    <a:pt x="19" y="4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66760" y="4959720"/>
              <a:ext cx="51120" cy="127080"/>
            </a:xfrm>
            <a:custGeom>
              <a:avLst/>
              <a:gdLst/>
              <a:ahLst/>
              <a:rect l="l" t="t" r="r" b="b"/>
              <a:pathLst>
                <a:path w="229" h="477">
                  <a:moveTo>
                    <a:pt x="47" y="477"/>
                  </a:moveTo>
                  <a:lnTo>
                    <a:pt x="46" y="470"/>
                  </a:lnTo>
                  <a:lnTo>
                    <a:pt x="44" y="449"/>
                  </a:lnTo>
                  <a:lnTo>
                    <a:pt x="41" y="417"/>
                  </a:lnTo>
                  <a:lnTo>
                    <a:pt x="40" y="374"/>
                  </a:lnTo>
                  <a:lnTo>
                    <a:pt x="42" y="325"/>
                  </a:lnTo>
                  <a:lnTo>
                    <a:pt x="50" y="270"/>
                  </a:lnTo>
                  <a:lnTo>
                    <a:pt x="65" y="210"/>
                  </a:lnTo>
                  <a:lnTo>
                    <a:pt x="88" y="149"/>
                  </a:lnTo>
                  <a:lnTo>
                    <a:pt x="110" y="106"/>
                  </a:lnTo>
                  <a:lnTo>
                    <a:pt x="133" y="73"/>
                  </a:lnTo>
                  <a:lnTo>
                    <a:pt x="158" y="46"/>
                  </a:lnTo>
                  <a:lnTo>
                    <a:pt x="179" y="28"/>
                  </a:lnTo>
                  <a:lnTo>
                    <a:pt x="199" y="14"/>
                  </a:lnTo>
                  <a:lnTo>
                    <a:pt x="215" y="6"/>
                  </a:lnTo>
                  <a:lnTo>
                    <a:pt x="226" y="1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1"/>
                  </a:lnTo>
                  <a:lnTo>
                    <a:pt x="207" y="2"/>
                  </a:lnTo>
                  <a:lnTo>
                    <a:pt x="197" y="5"/>
                  </a:lnTo>
                  <a:lnTo>
                    <a:pt x="184" y="8"/>
                  </a:lnTo>
                  <a:lnTo>
                    <a:pt x="170" y="12"/>
                  </a:lnTo>
                  <a:lnTo>
                    <a:pt x="155" y="17"/>
                  </a:lnTo>
                  <a:lnTo>
                    <a:pt x="140" y="24"/>
                  </a:lnTo>
                  <a:lnTo>
                    <a:pt x="124" y="33"/>
                  </a:lnTo>
                  <a:lnTo>
                    <a:pt x="108" y="44"/>
                  </a:lnTo>
                  <a:lnTo>
                    <a:pt x="93" y="57"/>
                  </a:lnTo>
                  <a:lnTo>
                    <a:pt x="78" y="70"/>
                  </a:lnTo>
                  <a:lnTo>
                    <a:pt x="63" y="88"/>
                  </a:lnTo>
                  <a:lnTo>
                    <a:pt x="50" y="107"/>
                  </a:lnTo>
                  <a:lnTo>
                    <a:pt x="39" y="129"/>
                  </a:lnTo>
                  <a:lnTo>
                    <a:pt x="11" y="204"/>
                  </a:lnTo>
                  <a:lnTo>
                    <a:pt x="0" y="271"/>
                  </a:lnTo>
                  <a:lnTo>
                    <a:pt x="0" y="331"/>
                  </a:lnTo>
                  <a:lnTo>
                    <a:pt x="7" y="380"/>
                  </a:lnTo>
                  <a:lnTo>
                    <a:pt x="19" y="422"/>
                  </a:lnTo>
                  <a:lnTo>
                    <a:pt x="32" y="452"/>
                  </a:lnTo>
                  <a:lnTo>
                    <a:pt x="42" y="470"/>
                  </a:lnTo>
                  <a:lnTo>
                    <a:pt x="47" y="4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62720" y="4851000"/>
              <a:ext cx="117360" cy="107640"/>
            </a:xfrm>
            <a:custGeom>
              <a:avLst/>
              <a:gdLst/>
              <a:ahLst/>
              <a:rect l="l" t="t" r="r" b="b"/>
              <a:pathLst>
                <a:path w="529" h="404">
                  <a:moveTo>
                    <a:pt x="0" y="404"/>
                  </a:moveTo>
                  <a:lnTo>
                    <a:pt x="1" y="402"/>
                  </a:lnTo>
                  <a:lnTo>
                    <a:pt x="6" y="396"/>
                  </a:lnTo>
                  <a:lnTo>
                    <a:pt x="13" y="387"/>
                  </a:lnTo>
                  <a:lnTo>
                    <a:pt x="23" y="375"/>
                  </a:lnTo>
                  <a:lnTo>
                    <a:pt x="36" y="358"/>
                  </a:lnTo>
                  <a:lnTo>
                    <a:pt x="51" y="341"/>
                  </a:lnTo>
                  <a:lnTo>
                    <a:pt x="68" y="320"/>
                  </a:lnTo>
                  <a:lnTo>
                    <a:pt x="88" y="298"/>
                  </a:lnTo>
                  <a:lnTo>
                    <a:pt x="109" y="275"/>
                  </a:lnTo>
                  <a:lnTo>
                    <a:pt x="132" y="251"/>
                  </a:lnTo>
                  <a:lnTo>
                    <a:pt x="159" y="227"/>
                  </a:lnTo>
                  <a:lnTo>
                    <a:pt x="187" y="202"/>
                  </a:lnTo>
                  <a:lnTo>
                    <a:pt x="217" y="176"/>
                  </a:lnTo>
                  <a:lnTo>
                    <a:pt x="248" y="151"/>
                  </a:lnTo>
                  <a:lnTo>
                    <a:pt x="280" y="127"/>
                  </a:lnTo>
                  <a:lnTo>
                    <a:pt x="314" y="104"/>
                  </a:lnTo>
                  <a:lnTo>
                    <a:pt x="341" y="88"/>
                  </a:lnTo>
                  <a:lnTo>
                    <a:pt x="365" y="75"/>
                  </a:lnTo>
                  <a:lnTo>
                    <a:pt x="387" y="63"/>
                  </a:lnTo>
                  <a:lnTo>
                    <a:pt x="408" y="54"/>
                  </a:lnTo>
                  <a:lnTo>
                    <a:pt x="427" y="46"/>
                  </a:lnTo>
                  <a:lnTo>
                    <a:pt x="445" y="40"/>
                  </a:lnTo>
                  <a:lnTo>
                    <a:pt x="461" y="36"/>
                  </a:lnTo>
                  <a:lnTo>
                    <a:pt x="476" y="32"/>
                  </a:lnTo>
                  <a:lnTo>
                    <a:pt x="487" y="30"/>
                  </a:lnTo>
                  <a:lnTo>
                    <a:pt x="499" y="29"/>
                  </a:lnTo>
                  <a:lnTo>
                    <a:pt x="508" y="28"/>
                  </a:lnTo>
                  <a:lnTo>
                    <a:pt x="515" y="28"/>
                  </a:lnTo>
                  <a:lnTo>
                    <a:pt x="521" y="28"/>
                  </a:lnTo>
                  <a:lnTo>
                    <a:pt x="525" y="29"/>
                  </a:lnTo>
                  <a:lnTo>
                    <a:pt x="528" y="29"/>
                  </a:lnTo>
                  <a:lnTo>
                    <a:pt x="529" y="29"/>
                  </a:lnTo>
                  <a:lnTo>
                    <a:pt x="528" y="28"/>
                  </a:lnTo>
                  <a:lnTo>
                    <a:pt x="524" y="25"/>
                  </a:lnTo>
                  <a:lnTo>
                    <a:pt x="519" y="23"/>
                  </a:lnTo>
                  <a:lnTo>
                    <a:pt x="513" y="19"/>
                  </a:lnTo>
                  <a:lnTo>
                    <a:pt x="503" y="14"/>
                  </a:lnTo>
                  <a:lnTo>
                    <a:pt x="493" y="10"/>
                  </a:lnTo>
                  <a:lnTo>
                    <a:pt x="480" y="6"/>
                  </a:lnTo>
                  <a:lnTo>
                    <a:pt x="466" y="2"/>
                  </a:lnTo>
                  <a:lnTo>
                    <a:pt x="450" y="0"/>
                  </a:lnTo>
                  <a:lnTo>
                    <a:pt x="433" y="0"/>
                  </a:lnTo>
                  <a:lnTo>
                    <a:pt x="413" y="1"/>
                  </a:lnTo>
                  <a:lnTo>
                    <a:pt x="393" y="4"/>
                  </a:lnTo>
                  <a:lnTo>
                    <a:pt x="371" y="9"/>
                  </a:lnTo>
                  <a:lnTo>
                    <a:pt x="348" y="19"/>
                  </a:lnTo>
                  <a:lnTo>
                    <a:pt x="322" y="30"/>
                  </a:lnTo>
                  <a:lnTo>
                    <a:pt x="296" y="45"/>
                  </a:lnTo>
                  <a:lnTo>
                    <a:pt x="253" y="74"/>
                  </a:lnTo>
                  <a:lnTo>
                    <a:pt x="215" y="103"/>
                  </a:lnTo>
                  <a:lnTo>
                    <a:pt x="181" y="134"/>
                  </a:lnTo>
                  <a:lnTo>
                    <a:pt x="150" y="164"/>
                  </a:lnTo>
                  <a:lnTo>
                    <a:pt x="123" y="195"/>
                  </a:lnTo>
                  <a:lnTo>
                    <a:pt x="99" y="224"/>
                  </a:lnTo>
                  <a:lnTo>
                    <a:pt x="77" y="252"/>
                  </a:lnTo>
                  <a:lnTo>
                    <a:pt x="60" y="280"/>
                  </a:lnTo>
                  <a:lnTo>
                    <a:pt x="44" y="307"/>
                  </a:lnTo>
                  <a:lnTo>
                    <a:pt x="31" y="330"/>
                  </a:lnTo>
                  <a:lnTo>
                    <a:pt x="21" y="351"/>
                  </a:lnTo>
                  <a:lnTo>
                    <a:pt x="13" y="369"/>
                  </a:lnTo>
                  <a:lnTo>
                    <a:pt x="7" y="384"/>
                  </a:lnTo>
                  <a:lnTo>
                    <a:pt x="3" y="395"/>
                  </a:lnTo>
                  <a:lnTo>
                    <a:pt x="1" y="402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44880" y="5014800"/>
              <a:ext cx="170640" cy="74880"/>
            </a:xfrm>
            <a:custGeom>
              <a:avLst/>
              <a:gdLst/>
              <a:ahLst/>
              <a:rect l="l" t="t" r="r" b="b"/>
              <a:pathLst>
                <a:path w="767" h="282">
                  <a:moveTo>
                    <a:pt x="0" y="4"/>
                  </a:moveTo>
                  <a:lnTo>
                    <a:pt x="3" y="0"/>
                  </a:lnTo>
                  <a:lnTo>
                    <a:pt x="10" y="3"/>
                  </a:lnTo>
                  <a:lnTo>
                    <a:pt x="21" y="9"/>
                  </a:lnTo>
                  <a:lnTo>
                    <a:pt x="33" y="20"/>
                  </a:lnTo>
                  <a:lnTo>
                    <a:pt x="50" y="34"/>
                  </a:lnTo>
                  <a:lnTo>
                    <a:pt x="69" y="50"/>
                  </a:lnTo>
                  <a:lnTo>
                    <a:pt x="91" y="69"/>
                  </a:lnTo>
                  <a:lnTo>
                    <a:pt x="116" y="89"/>
                  </a:lnTo>
                  <a:lnTo>
                    <a:pt x="144" y="110"/>
                  </a:lnTo>
                  <a:lnTo>
                    <a:pt x="176" y="130"/>
                  </a:lnTo>
                  <a:lnTo>
                    <a:pt x="210" y="150"/>
                  </a:lnTo>
                  <a:lnTo>
                    <a:pt x="248" y="168"/>
                  </a:lnTo>
                  <a:lnTo>
                    <a:pt x="288" y="185"/>
                  </a:lnTo>
                  <a:lnTo>
                    <a:pt x="331" y="198"/>
                  </a:lnTo>
                  <a:lnTo>
                    <a:pt x="377" y="209"/>
                  </a:lnTo>
                  <a:lnTo>
                    <a:pt x="425" y="215"/>
                  </a:lnTo>
                  <a:lnTo>
                    <a:pt x="473" y="217"/>
                  </a:lnTo>
                  <a:lnTo>
                    <a:pt x="516" y="217"/>
                  </a:lnTo>
                  <a:lnTo>
                    <a:pt x="556" y="215"/>
                  </a:lnTo>
                  <a:lnTo>
                    <a:pt x="591" y="211"/>
                  </a:lnTo>
                  <a:lnTo>
                    <a:pt x="623" y="204"/>
                  </a:lnTo>
                  <a:lnTo>
                    <a:pt x="651" y="197"/>
                  </a:lnTo>
                  <a:lnTo>
                    <a:pt x="675" y="189"/>
                  </a:lnTo>
                  <a:lnTo>
                    <a:pt x="697" y="181"/>
                  </a:lnTo>
                  <a:lnTo>
                    <a:pt x="714" y="172"/>
                  </a:lnTo>
                  <a:lnTo>
                    <a:pt x="729" y="163"/>
                  </a:lnTo>
                  <a:lnTo>
                    <a:pt x="742" y="155"/>
                  </a:lnTo>
                  <a:lnTo>
                    <a:pt x="751" y="147"/>
                  </a:lnTo>
                  <a:lnTo>
                    <a:pt x="758" y="140"/>
                  </a:lnTo>
                  <a:lnTo>
                    <a:pt x="764" y="135"/>
                  </a:lnTo>
                  <a:lnTo>
                    <a:pt x="766" y="132"/>
                  </a:lnTo>
                  <a:lnTo>
                    <a:pt x="767" y="130"/>
                  </a:lnTo>
                  <a:lnTo>
                    <a:pt x="766" y="133"/>
                  </a:lnTo>
                  <a:lnTo>
                    <a:pt x="761" y="137"/>
                  </a:lnTo>
                  <a:lnTo>
                    <a:pt x="756" y="147"/>
                  </a:lnTo>
                  <a:lnTo>
                    <a:pt x="745" y="157"/>
                  </a:lnTo>
                  <a:lnTo>
                    <a:pt x="734" y="170"/>
                  </a:lnTo>
                  <a:lnTo>
                    <a:pt x="718" y="183"/>
                  </a:lnTo>
                  <a:lnTo>
                    <a:pt x="700" y="198"/>
                  </a:lnTo>
                  <a:lnTo>
                    <a:pt x="678" y="213"/>
                  </a:lnTo>
                  <a:lnTo>
                    <a:pt x="654" y="228"/>
                  </a:lnTo>
                  <a:lnTo>
                    <a:pt x="627" y="242"/>
                  </a:lnTo>
                  <a:lnTo>
                    <a:pt x="595" y="256"/>
                  </a:lnTo>
                  <a:lnTo>
                    <a:pt x="561" y="266"/>
                  </a:lnTo>
                  <a:lnTo>
                    <a:pt x="523" y="276"/>
                  </a:lnTo>
                  <a:lnTo>
                    <a:pt x="483" y="281"/>
                  </a:lnTo>
                  <a:lnTo>
                    <a:pt x="438" y="282"/>
                  </a:lnTo>
                  <a:lnTo>
                    <a:pt x="389" y="281"/>
                  </a:lnTo>
                  <a:lnTo>
                    <a:pt x="341" y="274"/>
                  </a:lnTo>
                  <a:lnTo>
                    <a:pt x="296" y="264"/>
                  </a:lnTo>
                  <a:lnTo>
                    <a:pt x="253" y="250"/>
                  </a:lnTo>
                  <a:lnTo>
                    <a:pt x="214" y="233"/>
                  </a:lnTo>
                  <a:lnTo>
                    <a:pt x="179" y="215"/>
                  </a:lnTo>
                  <a:lnTo>
                    <a:pt x="146" y="193"/>
                  </a:lnTo>
                  <a:lnTo>
                    <a:pt x="118" y="170"/>
                  </a:lnTo>
                  <a:lnTo>
                    <a:pt x="91" y="147"/>
                  </a:lnTo>
                  <a:lnTo>
                    <a:pt x="68" y="124"/>
                  </a:lnTo>
                  <a:lnTo>
                    <a:pt x="48" y="100"/>
                  </a:lnTo>
                  <a:lnTo>
                    <a:pt x="32" y="79"/>
                  </a:lnTo>
                  <a:lnTo>
                    <a:pt x="20" y="58"/>
                  </a:lnTo>
                  <a:lnTo>
                    <a:pt x="9" y="39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1040" y="5080320"/>
              <a:ext cx="141840" cy="184680"/>
            </a:xfrm>
            <a:custGeom>
              <a:avLst/>
              <a:gdLst/>
              <a:ahLst/>
              <a:rect l="l" t="t" r="r" b="b"/>
              <a:pathLst>
                <a:path w="638" h="692">
                  <a:moveTo>
                    <a:pt x="408" y="232"/>
                  </a:moveTo>
                  <a:lnTo>
                    <a:pt x="422" y="232"/>
                  </a:lnTo>
                  <a:lnTo>
                    <a:pt x="437" y="231"/>
                  </a:lnTo>
                  <a:lnTo>
                    <a:pt x="454" y="230"/>
                  </a:lnTo>
                  <a:lnTo>
                    <a:pt x="471" y="228"/>
                  </a:lnTo>
                  <a:lnTo>
                    <a:pt x="490" y="227"/>
                  </a:lnTo>
                  <a:lnTo>
                    <a:pt x="509" y="223"/>
                  </a:lnTo>
                  <a:lnTo>
                    <a:pt x="528" y="221"/>
                  </a:lnTo>
                  <a:lnTo>
                    <a:pt x="547" y="217"/>
                  </a:lnTo>
                  <a:lnTo>
                    <a:pt x="564" y="213"/>
                  </a:lnTo>
                  <a:lnTo>
                    <a:pt x="582" y="209"/>
                  </a:lnTo>
                  <a:lnTo>
                    <a:pt x="597" y="205"/>
                  </a:lnTo>
                  <a:lnTo>
                    <a:pt x="610" y="200"/>
                  </a:lnTo>
                  <a:lnTo>
                    <a:pt x="621" y="194"/>
                  </a:lnTo>
                  <a:lnTo>
                    <a:pt x="630" y="190"/>
                  </a:lnTo>
                  <a:lnTo>
                    <a:pt x="636" y="184"/>
                  </a:lnTo>
                  <a:lnTo>
                    <a:pt x="638" y="178"/>
                  </a:lnTo>
                  <a:lnTo>
                    <a:pt x="637" y="174"/>
                  </a:lnTo>
                  <a:lnTo>
                    <a:pt x="632" y="169"/>
                  </a:lnTo>
                  <a:lnTo>
                    <a:pt x="624" y="167"/>
                  </a:lnTo>
                  <a:lnTo>
                    <a:pt x="614" y="166"/>
                  </a:lnTo>
                  <a:lnTo>
                    <a:pt x="601" y="164"/>
                  </a:lnTo>
                  <a:lnTo>
                    <a:pt x="586" y="164"/>
                  </a:lnTo>
                  <a:lnTo>
                    <a:pt x="570" y="166"/>
                  </a:lnTo>
                  <a:lnTo>
                    <a:pt x="553" y="167"/>
                  </a:lnTo>
                  <a:lnTo>
                    <a:pt x="534" y="168"/>
                  </a:lnTo>
                  <a:lnTo>
                    <a:pt x="515" y="170"/>
                  </a:lnTo>
                  <a:lnTo>
                    <a:pt x="496" y="171"/>
                  </a:lnTo>
                  <a:lnTo>
                    <a:pt x="478" y="172"/>
                  </a:lnTo>
                  <a:lnTo>
                    <a:pt x="460" y="174"/>
                  </a:lnTo>
                  <a:lnTo>
                    <a:pt x="442" y="175"/>
                  </a:lnTo>
                  <a:lnTo>
                    <a:pt x="427" y="175"/>
                  </a:lnTo>
                  <a:lnTo>
                    <a:pt x="413" y="175"/>
                  </a:lnTo>
                  <a:lnTo>
                    <a:pt x="373" y="170"/>
                  </a:lnTo>
                  <a:lnTo>
                    <a:pt x="334" y="163"/>
                  </a:lnTo>
                  <a:lnTo>
                    <a:pt x="296" y="153"/>
                  </a:lnTo>
                  <a:lnTo>
                    <a:pt x="258" y="141"/>
                  </a:lnTo>
                  <a:lnTo>
                    <a:pt x="222" y="127"/>
                  </a:lnTo>
                  <a:lnTo>
                    <a:pt x="189" y="113"/>
                  </a:lnTo>
                  <a:lnTo>
                    <a:pt x="157" y="98"/>
                  </a:lnTo>
                  <a:lnTo>
                    <a:pt x="127" y="81"/>
                  </a:lnTo>
                  <a:lnTo>
                    <a:pt x="99" y="66"/>
                  </a:lnTo>
                  <a:lnTo>
                    <a:pt x="75" y="51"/>
                  </a:lnTo>
                  <a:lnTo>
                    <a:pt x="53" y="38"/>
                  </a:lnTo>
                  <a:lnTo>
                    <a:pt x="35" y="25"/>
                  </a:lnTo>
                  <a:lnTo>
                    <a:pt x="20" y="15"/>
                  </a:lnTo>
                  <a:lnTo>
                    <a:pt x="9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7"/>
                  </a:lnTo>
                  <a:lnTo>
                    <a:pt x="13" y="16"/>
                  </a:lnTo>
                  <a:lnTo>
                    <a:pt x="22" y="27"/>
                  </a:lnTo>
                  <a:lnTo>
                    <a:pt x="35" y="41"/>
                  </a:lnTo>
                  <a:lnTo>
                    <a:pt x="48" y="56"/>
                  </a:lnTo>
                  <a:lnTo>
                    <a:pt x="66" y="73"/>
                  </a:lnTo>
                  <a:lnTo>
                    <a:pt x="85" y="92"/>
                  </a:lnTo>
                  <a:lnTo>
                    <a:pt x="106" y="110"/>
                  </a:lnTo>
                  <a:lnTo>
                    <a:pt x="130" y="129"/>
                  </a:lnTo>
                  <a:lnTo>
                    <a:pt x="155" y="147"/>
                  </a:lnTo>
                  <a:lnTo>
                    <a:pt x="183" y="164"/>
                  </a:lnTo>
                  <a:lnTo>
                    <a:pt x="213" y="182"/>
                  </a:lnTo>
                  <a:lnTo>
                    <a:pt x="244" y="197"/>
                  </a:lnTo>
                  <a:lnTo>
                    <a:pt x="276" y="209"/>
                  </a:lnTo>
                  <a:lnTo>
                    <a:pt x="311" y="220"/>
                  </a:lnTo>
                  <a:lnTo>
                    <a:pt x="317" y="270"/>
                  </a:lnTo>
                  <a:lnTo>
                    <a:pt x="326" y="338"/>
                  </a:lnTo>
                  <a:lnTo>
                    <a:pt x="336" y="414"/>
                  </a:lnTo>
                  <a:lnTo>
                    <a:pt x="348" y="493"/>
                  </a:lnTo>
                  <a:lnTo>
                    <a:pt x="361" y="568"/>
                  </a:lnTo>
                  <a:lnTo>
                    <a:pt x="374" y="630"/>
                  </a:lnTo>
                  <a:lnTo>
                    <a:pt x="387" y="674"/>
                  </a:lnTo>
                  <a:lnTo>
                    <a:pt x="400" y="692"/>
                  </a:lnTo>
                  <a:lnTo>
                    <a:pt x="409" y="679"/>
                  </a:lnTo>
                  <a:lnTo>
                    <a:pt x="411" y="639"/>
                  </a:lnTo>
                  <a:lnTo>
                    <a:pt x="409" y="580"/>
                  </a:lnTo>
                  <a:lnTo>
                    <a:pt x="403" y="508"/>
                  </a:lnTo>
                  <a:lnTo>
                    <a:pt x="395" y="429"/>
                  </a:lnTo>
                  <a:lnTo>
                    <a:pt x="387" y="352"/>
                  </a:lnTo>
                  <a:lnTo>
                    <a:pt x="378" y="284"/>
                  </a:lnTo>
                  <a:lnTo>
                    <a:pt x="371" y="230"/>
                  </a:lnTo>
                  <a:lnTo>
                    <a:pt x="375" y="230"/>
                  </a:lnTo>
                  <a:lnTo>
                    <a:pt x="380" y="231"/>
                  </a:lnTo>
                  <a:lnTo>
                    <a:pt x="385" y="231"/>
                  </a:lnTo>
                  <a:lnTo>
                    <a:pt x="389" y="231"/>
                  </a:lnTo>
                  <a:lnTo>
                    <a:pt x="394" y="232"/>
                  </a:lnTo>
                  <a:lnTo>
                    <a:pt x="399" y="232"/>
                  </a:lnTo>
                  <a:lnTo>
                    <a:pt x="403" y="232"/>
                  </a:lnTo>
                  <a:lnTo>
                    <a:pt x="408" y="2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7880" y="5133960"/>
              <a:ext cx="111960" cy="129600"/>
            </a:xfrm>
            <a:custGeom>
              <a:avLst/>
              <a:gdLst/>
              <a:ahLst/>
              <a:rect l="l" t="t" r="r" b="b"/>
              <a:pathLst>
                <a:path w="506" h="485">
                  <a:moveTo>
                    <a:pt x="287" y="57"/>
                  </a:moveTo>
                  <a:lnTo>
                    <a:pt x="263" y="61"/>
                  </a:lnTo>
                  <a:lnTo>
                    <a:pt x="238" y="66"/>
                  </a:lnTo>
                  <a:lnTo>
                    <a:pt x="214" y="69"/>
                  </a:lnTo>
                  <a:lnTo>
                    <a:pt x="189" y="71"/>
                  </a:lnTo>
                  <a:lnTo>
                    <a:pt x="165" y="74"/>
                  </a:lnTo>
                  <a:lnTo>
                    <a:pt x="141" y="75"/>
                  </a:lnTo>
                  <a:lnTo>
                    <a:pt x="118" y="76"/>
                  </a:lnTo>
                  <a:lnTo>
                    <a:pt x="97" y="77"/>
                  </a:lnTo>
                  <a:lnTo>
                    <a:pt x="76" y="77"/>
                  </a:lnTo>
                  <a:lnTo>
                    <a:pt x="58" y="77"/>
                  </a:lnTo>
                  <a:lnTo>
                    <a:pt x="42" y="77"/>
                  </a:lnTo>
                  <a:lnTo>
                    <a:pt x="28" y="76"/>
                  </a:lnTo>
                  <a:lnTo>
                    <a:pt x="16" y="76"/>
                  </a:lnTo>
                  <a:lnTo>
                    <a:pt x="7" y="75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4" y="76"/>
                  </a:lnTo>
                  <a:lnTo>
                    <a:pt x="9" y="78"/>
                  </a:lnTo>
                  <a:lnTo>
                    <a:pt x="15" y="81"/>
                  </a:lnTo>
                  <a:lnTo>
                    <a:pt x="23" y="84"/>
                  </a:lnTo>
                  <a:lnTo>
                    <a:pt x="33" y="88"/>
                  </a:lnTo>
                  <a:lnTo>
                    <a:pt x="44" y="91"/>
                  </a:lnTo>
                  <a:lnTo>
                    <a:pt x="57" y="95"/>
                  </a:lnTo>
                  <a:lnTo>
                    <a:pt x="59" y="119"/>
                  </a:lnTo>
                  <a:lnTo>
                    <a:pt x="65" y="165"/>
                  </a:lnTo>
                  <a:lnTo>
                    <a:pt x="73" y="227"/>
                  </a:lnTo>
                  <a:lnTo>
                    <a:pt x="83" y="295"/>
                  </a:lnTo>
                  <a:lnTo>
                    <a:pt x="95" y="364"/>
                  </a:lnTo>
                  <a:lnTo>
                    <a:pt x="107" y="423"/>
                  </a:lnTo>
                  <a:lnTo>
                    <a:pt x="121" y="467"/>
                  </a:lnTo>
                  <a:lnTo>
                    <a:pt x="135" y="485"/>
                  </a:lnTo>
                  <a:lnTo>
                    <a:pt x="144" y="475"/>
                  </a:lnTo>
                  <a:lnTo>
                    <a:pt x="147" y="439"/>
                  </a:lnTo>
                  <a:lnTo>
                    <a:pt x="146" y="387"/>
                  </a:lnTo>
                  <a:lnTo>
                    <a:pt x="142" y="325"/>
                  </a:lnTo>
                  <a:lnTo>
                    <a:pt x="135" y="258"/>
                  </a:lnTo>
                  <a:lnTo>
                    <a:pt x="128" y="196"/>
                  </a:lnTo>
                  <a:lnTo>
                    <a:pt x="121" y="144"/>
                  </a:lnTo>
                  <a:lnTo>
                    <a:pt x="116" y="109"/>
                  </a:lnTo>
                  <a:lnTo>
                    <a:pt x="137" y="114"/>
                  </a:lnTo>
                  <a:lnTo>
                    <a:pt x="159" y="118"/>
                  </a:lnTo>
                  <a:lnTo>
                    <a:pt x="182" y="120"/>
                  </a:lnTo>
                  <a:lnTo>
                    <a:pt x="205" y="121"/>
                  </a:lnTo>
                  <a:lnTo>
                    <a:pt x="227" y="122"/>
                  </a:lnTo>
                  <a:lnTo>
                    <a:pt x="250" y="121"/>
                  </a:lnTo>
                  <a:lnTo>
                    <a:pt x="272" y="119"/>
                  </a:lnTo>
                  <a:lnTo>
                    <a:pt x="294" y="114"/>
                  </a:lnTo>
                  <a:lnTo>
                    <a:pt x="308" y="111"/>
                  </a:lnTo>
                  <a:lnTo>
                    <a:pt x="321" y="106"/>
                  </a:lnTo>
                  <a:lnTo>
                    <a:pt x="338" y="101"/>
                  </a:lnTo>
                  <a:lnTo>
                    <a:pt x="355" y="96"/>
                  </a:lnTo>
                  <a:lnTo>
                    <a:pt x="373" y="89"/>
                  </a:lnTo>
                  <a:lnTo>
                    <a:pt x="391" y="82"/>
                  </a:lnTo>
                  <a:lnTo>
                    <a:pt x="409" y="75"/>
                  </a:lnTo>
                  <a:lnTo>
                    <a:pt x="426" y="67"/>
                  </a:lnTo>
                  <a:lnTo>
                    <a:pt x="442" y="59"/>
                  </a:lnTo>
                  <a:lnTo>
                    <a:pt x="458" y="52"/>
                  </a:lnTo>
                  <a:lnTo>
                    <a:pt x="472" y="44"/>
                  </a:lnTo>
                  <a:lnTo>
                    <a:pt x="484" y="36"/>
                  </a:lnTo>
                  <a:lnTo>
                    <a:pt x="493" y="28"/>
                  </a:lnTo>
                  <a:lnTo>
                    <a:pt x="501" y="21"/>
                  </a:lnTo>
                  <a:lnTo>
                    <a:pt x="505" y="14"/>
                  </a:lnTo>
                  <a:lnTo>
                    <a:pt x="506" y="8"/>
                  </a:lnTo>
                  <a:lnTo>
                    <a:pt x="503" y="4"/>
                  </a:lnTo>
                  <a:lnTo>
                    <a:pt x="498" y="1"/>
                  </a:lnTo>
                  <a:lnTo>
                    <a:pt x="490" y="0"/>
                  </a:lnTo>
                  <a:lnTo>
                    <a:pt x="479" y="0"/>
                  </a:lnTo>
                  <a:lnTo>
                    <a:pt x="467" y="2"/>
                  </a:lnTo>
                  <a:lnTo>
                    <a:pt x="453" y="6"/>
                  </a:lnTo>
                  <a:lnTo>
                    <a:pt x="437" y="10"/>
                  </a:lnTo>
                  <a:lnTo>
                    <a:pt x="419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6" y="32"/>
                  </a:lnTo>
                  <a:lnTo>
                    <a:pt x="348" y="38"/>
                  </a:lnTo>
                  <a:lnTo>
                    <a:pt x="331" y="44"/>
                  </a:lnTo>
                  <a:lnTo>
                    <a:pt x="314" y="48"/>
                  </a:lnTo>
                  <a:lnTo>
                    <a:pt x="300" y="53"/>
                  </a:lnTo>
                  <a:lnTo>
                    <a:pt x="28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6680" y="4738320"/>
              <a:ext cx="442440" cy="219240"/>
            </a:xfrm>
            <a:custGeom>
              <a:avLst/>
              <a:gdLst/>
              <a:ahLst/>
              <a:rect l="l" t="t" r="r" b="b"/>
              <a:pathLst>
                <a:path w="1992" h="821">
                  <a:moveTo>
                    <a:pt x="1992" y="55"/>
                  </a:moveTo>
                  <a:lnTo>
                    <a:pt x="1990" y="55"/>
                  </a:lnTo>
                  <a:lnTo>
                    <a:pt x="1987" y="53"/>
                  </a:lnTo>
                  <a:lnTo>
                    <a:pt x="1981" y="52"/>
                  </a:lnTo>
                  <a:lnTo>
                    <a:pt x="1973" y="49"/>
                  </a:lnTo>
                  <a:lnTo>
                    <a:pt x="1964" y="46"/>
                  </a:lnTo>
                  <a:lnTo>
                    <a:pt x="1952" y="43"/>
                  </a:lnTo>
                  <a:lnTo>
                    <a:pt x="1938" y="42"/>
                  </a:lnTo>
                  <a:lnTo>
                    <a:pt x="1923" y="41"/>
                  </a:lnTo>
                  <a:lnTo>
                    <a:pt x="1904" y="40"/>
                  </a:lnTo>
                  <a:lnTo>
                    <a:pt x="1886" y="41"/>
                  </a:lnTo>
                  <a:lnTo>
                    <a:pt x="1864" y="43"/>
                  </a:lnTo>
                  <a:lnTo>
                    <a:pt x="1841" y="47"/>
                  </a:lnTo>
                  <a:lnTo>
                    <a:pt x="1817" y="53"/>
                  </a:lnTo>
                  <a:lnTo>
                    <a:pt x="1790" y="60"/>
                  </a:lnTo>
                  <a:lnTo>
                    <a:pt x="1762" y="70"/>
                  </a:lnTo>
                  <a:lnTo>
                    <a:pt x="1734" y="83"/>
                  </a:lnTo>
                  <a:lnTo>
                    <a:pt x="1705" y="99"/>
                  </a:lnTo>
                  <a:lnTo>
                    <a:pt x="1677" y="119"/>
                  </a:lnTo>
                  <a:lnTo>
                    <a:pt x="1653" y="144"/>
                  </a:lnTo>
                  <a:lnTo>
                    <a:pt x="1630" y="170"/>
                  </a:lnTo>
                  <a:lnTo>
                    <a:pt x="1608" y="199"/>
                  </a:lnTo>
                  <a:lnTo>
                    <a:pt x="1589" y="231"/>
                  </a:lnTo>
                  <a:lnTo>
                    <a:pt x="1570" y="263"/>
                  </a:lnTo>
                  <a:lnTo>
                    <a:pt x="1553" y="298"/>
                  </a:lnTo>
                  <a:lnTo>
                    <a:pt x="1537" y="333"/>
                  </a:lnTo>
                  <a:lnTo>
                    <a:pt x="1523" y="367"/>
                  </a:lnTo>
                  <a:lnTo>
                    <a:pt x="1509" y="402"/>
                  </a:lnTo>
                  <a:lnTo>
                    <a:pt x="1496" y="436"/>
                  </a:lnTo>
                  <a:lnTo>
                    <a:pt x="1485" y="469"/>
                  </a:lnTo>
                  <a:lnTo>
                    <a:pt x="1473" y="500"/>
                  </a:lnTo>
                  <a:lnTo>
                    <a:pt x="1463" y="528"/>
                  </a:lnTo>
                  <a:lnTo>
                    <a:pt x="1453" y="554"/>
                  </a:lnTo>
                  <a:lnTo>
                    <a:pt x="1442" y="578"/>
                  </a:lnTo>
                  <a:lnTo>
                    <a:pt x="1430" y="603"/>
                  </a:lnTo>
                  <a:lnTo>
                    <a:pt x="1416" y="627"/>
                  </a:lnTo>
                  <a:lnTo>
                    <a:pt x="1401" y="653"/>
                  </a:lnTo>
                  <a:lnTo>
                    <a:pt x="1384" y="677"/>
                  </a:lnTo>
                  <a:lnTo>
                    <a:pt x="1365" y="700"/>
                  </a:lnTo>
                  <a:lnTo>
                    <a:pt x="1346" y="722"/>
                  </a:lnTo>
                  <a:lnTo>
                    <a:pt x="1324" y="743"/>
                  </a:lnTo>
                  <a:lnTo>
                    <a:pt x="1301" y="761"/>
                  </a:lnTo>
                  <a:lnTo>
                    <a:pt x="1276" y="778"/>
                  </a:lnTo>
                  <a:lnTo>
                    <a:pt x="1250" y="792"/>
                  </a:lnTo>
                  <a:lnTo>
                    <a:pt x="1222" y="804"/>
                  </a:lnTo>
                  <a:lnTo>
                    <a:pt x="1193" y="813"/>
                  </a:lnTo>
                  <a:lnTo>
                    <a:pt x="1164" y="819"/>
                  </a:lnTo>
                  <a:lnTo>
                    <a:pt x="1131" y="821"/>
                  </a:lnTo>
                  <a:lnTo>
                    <a:pt x="1098" y="819"/>
                  </a:lnTo>
                  <a:lnTo>
                    <a:pt x="1059" y="809"/>
                  </a:lnTo>
                  <a:lnTo>
                    <a:pt x="1029" y="791"/>
                  </a:lnTo>
                  <a:lnTo>
                    <a:pt x="1006" y="766"/>
                  </a:lnTo>
                  <a:lnTo>
                    <a:pt x="988" y="735"/>
                  </a:lnTo>
                  <a:lnTo>
                    <a:pt x="975" y="700"/>
                  </a:lnTo>
                  <a:lnTo>
                    <a:pt x="962" y="661"/>
                  </a:lnTo>
                  <a:lnTo>
                    <a:pt x="948" y="622"/>
                  </a:lnTo>
                  <a:lnTo>
                    <a:pt x="933" y="581"/>
                  </a:lnTo>
                  <a:lnTo>
                    <a:pt x="925" y="561"/>
                  </a:lnTo>
                  <a:lnTo>
                    <a:pt x="917" y="540"/>
                  </a:lnTo>
                  <a:lnTo>
                    <a:pt x="908" y="518"/>
                  </a:lnTo>
                  <a:lnTo>
                    <a:pt x="900" y="495"/>
                  </a:lnTo>
                  <a:lnTo>
                    <a:pt x="889" y="473"/>
                  </a:lnTo>
                  <a:lnTo>
                    <a:pt x="878" y="450"/>
                  </a:lnTo>
                  <a:lnTo>
                    <a:pt x="864" y="428"/>
                  </a:lnTo>
                  <a:lnTo>
                    <a:pt x="848" y="406"/>
                  </a:lnTo>
                  <a:lnTo>
                    <a:pt x="828" y="386"/>
                  </a:lnTo>
                  <a:lnTo>
                    <a:pt x="805" y="365"/>
                  </a:lnTo>
                  <a:lnTo>
                    <a:pt x="779" y="346"/>
                  </a:lnTo>
                  <a:lnTo>
                    <a:pt x="749" y="328"/>
                  </a:lnTo>
                  <a:lnTo>
                    <a:pt x="713" y="312"/>
                  </a:lnTo>
                  <a:lnTo>
                    <a:pt x="672" y="297"/>
                  </a:lnTo>
                  <a:lnTo>
                    <a:pt x="626" y="284"/>
                  </a:lnTo>
                  <a:lnTo>
                    <a:pt x="573" y="273"/>
                  </a:lnTo>
                  <a:lnTo>
                    <a:pt x="512" y="266"/>
                  </a:lnTo>
                  <a:lnTo>
                    <a:pt x="452" y="265"/>
                  </a:lnTo>
                  <a:lnTo>
                    <a:pt x="395" y="269"/>
                  </a:lnTo>
                  <a:lnTo>
                    <a:pt x="342" y="280"/>
                  </a:lnTo>
                  <a:lnTo>
                    <a:pt x="292" y="293"/>
                  </a:lnTo>
                  <a:lnTo>
                    <a:pt x="244" y="311"/>
                  </a:lnTo>
                  <a:lnTo>
                    <a:pt x="201" y="330"/>
                  </a:lnTo>
                  <a:lnTo>
                    <a:pt x="162" y="351"/>
                  </a:lnTo>
                  <a:lnTo>
                    <a:pt x="125" y="372"/>
                  </a:lnTo>
                  <a:lnTo>
                    <a:pt x="94" y="394"/>
                  </a:lnTo>
                  <a:lnTo>
                    <a:pt x="66" y="414"/>
                  </a:lnTo>
                  <a:lnTo>
                    <a:pt x="43" y="433"/>
                  </a:lnTo>
                  <a:lnTo>
                    <a:pt x="24" y="449"/>
                  </a:lnTo>
                  <a:lnTo>
                    <a:pt x="11" y="462"/>
                  </a:lnTo>
                  <a:lnTo>
                    <a:pt x="3" y="470"/>
                  </a:lnTo>
                  <a:lnTo>
                    <a:pt x="0" y="472"/>
                  </a:lnTo>
                  <a:lnTo>
                    <a:pt x="3" y="469"/>
                  </a:lnTo>
                  <a:lnTo>
                    <a:pt x="11" y="458"/>
                  </a:lnTo>
                  <a:lnTo>
                    <a:pt x="23" y="443"/>
                  </a:lnTo>
                  <a:lnTo>
                    <a:pt x="41" y="424"/>
                  </a:lnTo>
                  <a:lnTo>
                    <a:pt x="62" y="399"/>
                  </a:lnTo>
                  <a:lnTo>
                    <a:pt x="89" y="374"/>
                  </a:lnTo>
                  <a:lnTo>
                    <a:pt x="120" y="346"/>
                  </a:lnTo>
                  <a:lnTo>
                    <a:pt x="155" y="319"/>
                  </a:lnTo>
                  <a:lnTo>
                    <a:pt x="194" y="292"/>
                  </a:lnTo>
                  <a:lnTo>
                    <a:pt x="238" y="267"/>
                  </a:lnTo>
                  <a:lnTo>
                    <a:pt x="285" y="244"/>
                  </a:lnTo>
                  <a:lnTo>
                    <a:pt x="337" y="224"/>
                  </a:lnTo>
                  <a:lnTo>
                    <a:pt x="392" y="209"/>
                  </a:lnTo>
                  <a:lnTo>
                    <a:pt x="449" y="200"/>
                  </a:lnTo>
                  <a:lnTo>
                    <a:pt x="512" y="198"/>
                  </a:lnTo>
                  <a:lnTo>
                    <a:pt x="577" y="202"/>
                  </a:lnTo>
                  <a:lnTo>
                    <a:pt x="630" y="212"/>
                  </a:lnTo>
                  <a:lnTo>
                    <a:pt x="679" y="223"/>
                  </a:lnTo>
                  <a:lnTo>
                    <a:pt x="721" y="237"/>
                  </a:lnTo>
                  <a:lnTo>
                    <a:pt x="759" y="253"/>
                  </a:lnTo>
                  <a:lnTo>
                    <a:pt x="792" y="270"/>
                  </a:lnTo>
                  <a:lnTo>
                    <a:pt x="821" y="290"/>
                  </a:lnTo>
                  <a:lnTo>
                    <a:pt x="847" y="310"/>
                  </a:lnTo>
                  <a:lnTo>
                    <a:pt x="869" y="331"/>
                  </a:lnTo>
                  <a:lnTo>
                    <a:pt x="887" y="353"/>
                  </a:lnTo>
                  <a:lnTo>
                    <a:pt x="904" y="376"/>
                  </a:lnTo>
                  <a:lnTo>
                    <a:pt x="918" y="399"/>
                  </a:lnTo>
                  <a:lnTo>
                    <a:pt x="931" y="422"/>
                  </a:lnTo>
                  <a:lnTo>
                    <a:pt x="941" y="445"/>
                  </a:lnTo>
                  <a:lnTo>
                    <a:pt x="952" y="469"/>
                  </a:lnTo>
                  <a:lnTo>
                    <a:pt x="960" y="489"/>
                  </a:lnTo>
                  <a:lnTo>
                    <a:pt x="969" y="510"/>
                  </a:lnTo>
                  <a:lnTo>
                    <a:pt x="984" y="551"/>
                  </a:lnTo>
                  <a:lnTo>
                    <a:pt x="997" y="594"/>
                  </a:lnTo>
                  <a:lnTo>
                    <a:pt x="1009" y="634"/>
                  </a:lnTo>
                  <a:lnTo>
                    <a:pt x="1024" y="672"/>
                  </a:lnTo>
                  <a:lnTo>
                    <a:pt x="1041" y="706"/>
                  </a:lnTo>
                  <a:lnTo>
                    <a:pt x="1064" y="730"/>
                  </a:lnTo>
                  <a:lnTo>
                    <a:pt x="1094" y="745"/>
                  </a:lnTo>
                  <a:lnTo>
                    <a:pt x="1134" y="748"/>
                  </a:lnTo>
                  <a:lnTo>
                    <a:pt x="1158" y="745"/>
                  </a:lnTo>
                  <a:lnTo>
                    <a:pt x="1180" y="740"/>
                  </a:lnTo>
                  <a:lnTo>
                    <a:pt x="1202" y="732"/>
                  </a:lnTo>
                  <a:lnTo>
                    <a:pt x="1221" y="723"/>
                  </a:lnTo>
                  <a:lnTo>
                    <a:pt x="1241" y="712"/>
                  </a:lnTo>
                  <a:lnTo>
                    <a:pt x="1259" y="699"/>
                  </a:lnTo>
                  <a:lnTo>
                    <a:pt x="1276" y="684"/>
                  </a:lnTo>
                  <a:lnTo>
                    <a:pt x="1294" y="668"/>
                  </a:lnTo>
                  <a:lnTo>
                    <a:pt x="1309" y="649"/>
                  </a:lnTo>
                  <a:lnTo>
                    <a:pt x="1324" y="631"/>
                  </a:lnTo>
                  <a:lnTo>
                    <a:pt x="1337" y="610"/>
                  </a:lnTo>
                  <a:lnTo>
                    <a:pt x="1351" y="589"/>
                  </a:lnTo>
                  <a:lnTo>
                    <a:pt x="1363" y="568"/>
                  </a:lnTo>
                  <a:lnTo>
                    <a:pt x="1375" y="545"/>
                  </a:lnTo>
                  <a:lnTo>
                    <a:pt x="1386" y="521"/>
                  </a:lnTo>
                  <a:lnTo>
                    <a:pt x="1396" y="497"/>
                  </a:lnTo>
                  <a:lnTo>
                    <a:pt x="1407" y="472"/>
                  </a:lnTo>
                  <a:lnTo>
                    <a:pt x="1418" y="443"/>
                  </a:lnTo>
                  <a:lnTo>
                    <a:pt x="1430" y="412"/>
                  </a:lnTo>
                  <a:lnTo>
                    <a:pt x="1443" y="380"/>
                  </a:lnTo>
                  <a:lnTo>
                    <a:pt x="1457" y="346"/>
                  </a:lnTo>
                  <a:lnTo>
                    <a:pt x="1472" y="312"/>
                  </a:lnTo>
                  <a:lnTo>
                    <a:pt x="1488" y="277"/>
                  </a:lnTo>
                  <a:lnTo>
                    <a:pt x="1506" y="243"/>
                  </a:lnTo>
                  <a:lnTo>
                    <a:pt x="1524" y="208"/>
                  </a:lnTo>
                  <a:lnTo>
                    <a:pt x="1544" y="176"/>
                  </a:lnTo>
                  <a:lnTo>
                    <a:pt x="1564" y="144"/>
                  </a:lnTo>
                  <a:lnTo>
                    <a:pt x="1587" y="115"/>
                  </a:lnTo>
                  <a:lnTo>
                    <a:pt x="1612" y="88"/>
                  </a:lnTo>
                  <a:lnTo>
                    <a:pt x="1637" y="64"/>
                  </a:lnTo>
                  <a:lnTo>
                    <a:pt x="1665" y="43"/>
                  </a:lnTo>
                  <a:lnTo>
                    <a:pt x="1693" y="27"/>
                  </a:lnTo>
                  <a:lnTo>
                    <a:pt x="1723" y="15"/>
                  </a:lnTo>
                  <a:lnTo>
                    <a:pt x="1752" y="7"/>
                  </a:lnTo>
                  <a:lnTo>
                    <a:pt x="1780" y="2"/>
                  </a:lnTo>
                  <a:lnTo>
                    <a:pt x="1807" y="0"/>
                  </a:lnTo>
                  <a:lnTo>
                    <a:pt x="1833" y="0"/>
                  </a:lnTo>
                  <a:lnTo>
                    <a:pt x="1858" y="3"/>
                  </a:lnTo>
                  <a:lnTo>
                    <a:pt x="1881" y="7"/>
                  </a:lnTo>
                  <a:lnTo>
                    <a:pt x="1902" y="12"/>
                  </a:lnTo>
                  <a:lnTo>
                    <a:pt x="1921" y="19"/>
                  </a:lnTo>
                  <a:lnTo>
                    <a:pt x="1939" y="26"/>
                  </a:lnTo>
                  <a:lnTo>
                    <a:pt x="1955" y="33"/>
                  </a:lnTo>
                  <a:lnTo>
                    <a:pt x="1967" y="40"/>
                  </a:lnTo>
                  <a:lnTo>
                    <a:pt x="1978" y="46"/>
                  </a:lnTo>
                  <a:lnTo>
                    <a:pt x="1986" y="50"/>
                  </a:lnTo>
                  <a:lnTo>
                    <a:pt x="1990" y="54"/>
                  </a:lnTo>
                  <a:lnTo>
                    <a:pt x="1992" y="5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4960" y="4913280"/>
              <a:ext cx="69480" cy="208080"/>
            </a:xfrm>
            <a:custGeom>
              <a:avLst/>
              <a:gdLst/>
              <a:ahLst/>
              <a:rect l="l" t="t" r="r" b="b"/>
              <a:pathLst>
                <a:path w="313" h="780">
                  <a:moveTo>
                    <a:pt x="0" y="780"/>
                  </a:moveTo>
                  <a:lnTo>
                    <a:pt x="2" y="778"/>
                  </a:lnTo>
                  <a:lnTo>
                    <a:pt x="7" y="771"/>
                  </a:lnTo>
                  <a:lnTo>
                    <a:pt x="15" y="760"/>
                  </a:lnTo>
                  <a:lnTo>
                    <a:pt x="26" y="747"/>
                  </a:lnTo>
                  <a:lnTo>
                    <a:pt x="39" y="729"/>
                  </a:lnTo>
                  <a:lnTo>
                    <a:pt x="54" y="709"/>
                  </a:lnTo>
                  <a:lnTo>
                    <a:pt x="71" y="686"/>
                  </a:lnTo>
                  <a:lnTo>
                    <a:pt x="88" y="659"/>
                  </a:lnTo>
                  <a:lnTo>
                    <a:pt x="107" y="630"/>
                  </a:lnTo>
                  <a:lnTo>
                    <a:pt x="125" y="600"/>
                  </a:lnTo>
                  <a:lnTo>
                    <a:pt x="144" y="568"/>
                  </a:lnTo>
                  <a:lnTo>
                    <a:pt x="162" y="535"/>
                  </a:lnTo>
                  <a:lnTo>
                    <a:pt x="179" y="499"/>
                  </a:lnTo>
                  <a:lnTo>
                    <a:pt x="195" y="463"/>
                  </a:lnTo>
                  <a:lnTo>
                    <a:pt x="209" y="426"/>
                  </a:lnTo>
                  <a:lnTo>
                    <a:pt x="222" y="389"/>
                  </a:lnTo>
                  <a:lnTo>
                    <a:pt x="243" y="316"/>
                  </a:lnTo>
                  <a:lnTo>
                    <a:pt x="259" y="245"/>
                  </a:lnTo>
                  <a:lnTo>
                    <a:pt x="271" y="180"/>
                  </a:lnTo>
                  <a:lnTo>
                    <a:pt x="281" y="121"/>
                  </a:lnTo>
                  <a:lnTo>
                    <a:pt x="286" y="72"/>
                  </a:lnTo>
                  <a:lnTo>
                    <a:pt x="291" y="34"/>
                  </a:lnTo>
                  <a:lnTo>
                    <a:pt x="293" y="9"/>
                  </a:lnTo>
                  <a:lnTo>
                    <a:pt x="293" y="0"/>
                  </a:lnTo>
                  <a:lnTo>
                    <a:pt x="296" y="10"/>
                  </a:lnTo>
                  <a:lnTo>
                    <a:pt x="300" y="39"/>
                  </a:lnTo>
                  <a:lnTo>
                    <a:pt x="306" y="84"/>
                  </a:lnTo>
                  <a:lnTo>
                    <a:pt x="311" y="141"/>
                  </a:lnTo>
                  <a:lnTo>
                    <a:pt x="313" y="207"/>
                  </a:lnTo>
                  <a:lnTo>
                    <a:pt x="311" y="280"/>
                  </a:lnTo>
                  <a:lnTo>
                    <a:pt x="301" y="355"/>
                  </a:lnTo>
                  <a:lnTo>
                    <a:pt x="283" y="430"/>
                  </a:lnTo>
                  <a:lnTo>
                    <a:pt x="270" y="467"/>
                  </a:lnTo>
                  <a:lnTo>
                    <a:pt x="253" y="501"/>
                  </a:lnTo>
                  <a:lnTo>
                    <a:pt x="235" y="536"/>
                  </a:lnTo>
                  <a:lnTo>
                    <a:pt x="213" y="568"/>
                  </a:lnTo>
                  <a:lnTo>
                    <a:pt x="190" y="599"/>
                  </a:lnTo>
                  <a:lnTo>
                    <a:pt x="167" y="628"/>
                  </a:lnTo>
                  <a:lnTo>
                    <a:pt x="142" y="654"/>
                  </a:lnTo>
                  <a:lnTo>
                    <a:pt x="118" y="679"/>
                  </a:lnTo>
                  <a:lnTo>
                    <a:pt x="95" y="702"/>
                  </a:lnTo>
                  <a:lnTo>
                    <a:pt x="73" y="721"/>
                  </a:lnTo>
                  <a:lnTo>
                    <a:pt x="53" y="739"/>
                  </a:lnTo>
                  <a:lnTo>
                    <a:pt x="35" y="753"/>
                  </a:lnTo>
                  <a:lnTo>
                    <a:pt x="20" y="765"/>
                  </a:lnTo>
                  <a:lnTo>
                    <a:pt x="9" y="773"/>
                  </a:lnTo>
                  <a:lnTo>
                    <a:pt x="2" y="778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35320" y="4797000"/>
              <a:ext cx="108720" cy="128520"/>
            </a:xfrm>
            <a:custGeom>
              <a:avLst/>
              <a:gdLst/>
              <a:ahLst/>
              <a:rect l="l" t="t" r="r" b="b"/>
              <a:pathLst>
                <a:path w="489" h="481">
                  <a:moveTo>
                    <a:pt x="429" y="373"/>
                  </a:moveTo>
                  <a:lnTo>
                    <a:pt x="414" y="388"/>
                  </a:lnTo>
                  <a:lnTo>
                    <a:pt x="397" y="399"/>
                  </a:lnTo>
                  <a:lnTo>
                    <a:pt x="375" y="406"/>
                  </a:lnTo>
                  <a:lnTo>
                    <a:pt x="352" y="410"/>
                  </a:lnTo>
                  <a:lnTo>
                    <a:pt x="329" y="411"/>
                  </a:lnTo>
                  <a:lnTo>
                    <a:pt x="306" y="409"/>
                  </a:lnTo>
                  <a:lnTo>
                    <a:pt x="284" y="404"/>
                  </a:lnTo>
                  <a:lnTo>
                    <a:pt x="265" y="396"/>
                  </a:lnTo>
                  <a:lnTo>
                    <a:pt x="236" y="373"/>
                  </a:lnTo>
                  <a:lnTo>
                    <a:pt x="219" y="341"/>
                  </a:lnTo>
                  <a:lnTo>
                    <a:pt x="212" y="304"/>
                  </a:lnTo>
                  <a:lnTo>
                    <a:pt x="211" y="263"/>
                  </a:lnTo>
                  <a:lnTo>
                    <a:pt x="215" y="227"/>
                  </a:lnTo>
                  <a:lnTo>
                    <a:pt x="221" y="196"/>
                  </a:lnTo>
                  <a:lnTo>
                    <a:pt x="227" y="174"/>
                  </a:lnTo>
                  <a:lnTo>
                    <a:pt x="229" y="166"/>
                  </a:lnTo>
                  <a:lnTo>
                    <a:pt x="224" y="167"/>
                  </a:lnTo>
                  <a:lnTo>
                    <a:pt x="214" y="169"/>
                  </a:lnTo>
                  <a:lnTo>
                    <a:pt x="198" y="172"/>
                  </a:lnTo>
                  <a:lnTo>
                    <a:pt x="177" y="175"/>
                  </a:lnTo>
                  <a:lnTo>
                    <a:pt x="155" y="175"/>
                  </a:lnTo>
                  <a:lnTo>
                    <a:pt x="133" y="172"/>
                  </a:lnTo>
                  <a:lnTo>
                    <a:pt x="114" y="167"/>
                  </a:lnTo>
                  <a:lnTo>
                    <a:pt x="97" y="156"/>
                  </a:lnTo>
                  <a:lnTo>
                    <a:pt x="86" y="145"/>
                  </a:lnTo>
                  <a:lnTo>
                    <a:pt x="80" y="132"/>
                  </a:lnTo>
                  <a:lnTo>
                    <a:pt x="77" y="117"/>
                  </a:lnTo>
                  <a:lnTo>
                    <a:pt x="77" y="102"/>
                  </a:lnTo>
                  <a:lnTo>
                    <a:pt x="80" y="87"/>
                  </a:lnTo>
                  <a:lnTo>
                    <a:pt x="85" y="72"/>
                  </a:lnTo>
                  <a:lnTo>
                    <a:pt x="93" y="60"/>
                  </a:lnTo>
                  <a:lnTo>
                    <a:pt x="102" y="48"/>
                  </a:lnTo>
                  <a:lnTo>
                    <a:pt x="113" y="38"/>
                  </a:lnTo>
                  <a:lnTo>
                    <a:pt x="121" y="28"/>
                  </a:lnTo>
                  <a:lnTo>
                    <a:pt x="129" y="20"/>
                  </a:lnTo>
                  <a:lnTo>
                    <a:pt x="136" y="14"/>
                  </a:lnTo>
                  <a:lnTo>
                    <a:pt x="140" y="8"/>
                  </a:lnTo>
                  <a:lnTo>
                    <a:pt x="144" y="3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37" y="0"/>
                  </a:lnTo>
                  <a:lnTo>
                    <a:pt x="124" y="1"/>
                  </a:lnTo>
                  <a:lnTo>
                    <a:pt x="109" y="3"/>
                  </a:lnTo>
                  <a:lnTo>
                    <a:pt x="92" y="9"/>
                  </a:lnTo>
                  <a:lnTo>
                    <a:pt x="72" y="18"/>
                  </a:lnTo>
                  <a:lnTo>
                    <a:pt x="54" y="31"/>
                  </a:lnTo>
                  <a:lnTo>
                    <a:pt x="35" y="4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8" y="87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12" y="168"/>
                  </a:lnTo>
                  <a:lnTo>
                    <a:pt x="31" y="191"/>
                  </a:lnTo>
                  <a:lnTo>
                    <a:pt x="59" y="212"/>
                  </a:lnTo>
                  <a:lnTo>
                    <a:pt x="86" y="222"/>
                  </a:lnTo>
                  <a:lnTo>
                    <a:pt x="114" y="223"/>
                  </a:lnTo>
                  <a:lnTo>
                    <a:pt x="139" y="219"/>
                  </a:lnTo>
                  <a:lnTo>
                    <a:pt x="162" y="210"/>
                  </a:lnTo>
                  <a:lnTo>
                    <a:pt x="179" y="201"/>
                  </a:lnTo>
                  <a:lnTo>
                    <a:pt x="191" y="194"/>
                  </a:lnTo>
                  <a:lnTo>
                    <a:pt x="196" y="191"/>
                  </a:lnTo>
                  <a:lnTo>
                    <a:pt x="192" y="199"/>
                  </a:lnTo>
                  <a:lnTo>
                    <a:pt x="183" y="222"/>
                  </a:lnTo>
                  <a:lnTo>
                    <a:pt x="174" y="255"/>
                  </a:lnTo>
                  <a:lnTo>
                    <a:pt x="166" y="296"/>
                  </a:lnTo>
                  <a:lnTo>
                    <a:pt x="164" y="341"/>
                  </a:lnTo>
                  <a:lnTo>
                    <a:pt x="174" y="386"/>
                  </a:lnTo>
                  <a:lnTo>
                    <a:pt x="198" y="427"/>
                  </a:lnTo>
                  <a:lnTo>
                    <a:pt x="238" y="462"/>
                  </a:lnTo>
                  <a:lnTo>
                    <a:pt x="249" y="467"/>
                  </a:lnTo>
                  <a:lnTo>
                    <a:pt x="260" y="472"/>
                  </a:lnTo>
                  <a:lnTo>
                    <a:pt x="273" y="475"/>
                  </a:lnTo>
                  <a:lnTo>
                    <a:pt x="285" y="479"/>
                  </a:lnTo>
                  <a:lnTo>
                    <a:pt x="299" y="481"/>
                  </a:lnTo>
                  <a:lnTo>
                    <a:pt x="313" y="481"/>
                  </a:lnTo>
                  <a:lnTo>
                    <a:pt x="327" y="481"/>
                  </a:lnTo>
                  <a:lnTo>
                    <a:pt x="341" y="480"/>
                  </a:lnTo>
                  <a:lnTo>
                    <a:pt x="355" y="479"/>
                  </a:lnTo>
                  <a:lnTo>
                    <a:pt x="367" y="475"/>
                  </a:lnTo>
                  <a:lnTo>
                    <a:pt x="381" y="471"/>
                  </a:lnTo>
                  <a:lnTo>
                    <a:pt x="393" y="466"/>
                  </a:lnTo>
                  <a:lnTo>
                    <a:pt x="404" y="459"/>
                  </a:lnTo>
                  <a:lnTo>
                    <a:pt x="414" y="452"/>
                  </a:lnTo>
                  <a:lnTo>
                    <a:pt x="424" y="443"/>
                  </a:lnTo>
                  <a:lnTo>
                    <a:pt x="432" y="434"/>
                  </a:lnTo>
                  <a:lnTo>
                    <a:pt x="446" y="413"/>
                  </a:lnTo>
                  <a:lnTo>
                    <a:pt x="457" y="391"/>
                  </a:lnTo>
                  <a:lnTo>
                    <a:pt x="466" y="371"/>
                  </a:lnTo>
                  <a:lnTo>
                    <a:pt x="474" y="351"/>
                  </a:lnTo>
                  <a:lnTo>
                    <a:pt x="481" y="335"/>
                  </a:lnTo>
                  <a:lnTo>
                    <a:pt x="486" y="321"/>
                  </a:lnTo>
                  <a:lnTo>
                    <a:pt x="488" y="313"/>
                  </a:lnTo>
                  <a:lnTo>
                    <a:pt x="489" y="310"/>
                  </a:lnTo>
                  <a:lnTo>
                    <a:pt x="488" y="311"/>
                  </a:lnTo>
                  <a:lnTo>
                    <a:pt x="485" y="313"/>
                  </a:lnTo>
                  <a:lnTo>
                    <a:pt x="479" y="318"/>
                  </a:lnTo>
                  <a:lnTo>
                    <a:pt x="472" y="323"/>
                  </a:lnTo>
                  <a:lnTo>
                    <a:pt x="463" y="333"/>
                  </a:lnTo>
                  <a:lnTo>
                    <a:pt x="452" y="343"/>
                  </a:lnTo>
                  <a:lnTo>
                    <a:pt x="441" y="357"/>
                  </a:lnTo>
                  <a:lnTo>
                    <a:pt x="429" y="3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4480" y="4653360"/>
              <a:ext cx="168480" cy="105120"/>
            </a:xfrm>
            <a:custGeom>
              <a:avLst/>
              <a:gdLst/>
              <a:ahLst/>
              <a:rect l="l" t="t" r="r" b="b"/>
              <a:pathLst>
                <a:path w="757" h="394">
                  <a:moveTo>
                    <a:pt x="76" y="369"/>
                  </a:moveTo>
                  <a:lnTo>
                    <a:pt x="74" y="366"/>
                  </a:lnTo>
                  <a:lnTo>
                    <a:pt x="69" y="358"/>
                  </a:lnTo>
                  <a:lnTo>
                    <a:pt x="63" y="345"/>
                  </a:lnTo>
                  <a:lnTo>
                    <a:pt x="59" y="329"/>
                  </a:lnTo>
                  <a:lnTo>
                    <a:pt x="56" y="311"/>
                  </a:lnTo>
                  <a:lnTo>
                    <a:pt x="61" y="291"/>
                  </a:lnTo>
                  <a:lnTo>
                    <a:pt x="71" y="270"/>
                  </a:lnTo>
                  <a:lnTo>
                    <a:pt x="92" y="252"/>
                  </a:lnTo>
                  <a:lnTo>
                    <a:pt x="106" y="244"/>
                  </a:lnTo>
                  <a:lnTo>
                    <a:pt x="120" y="237"/>
                  </a:lnTo>
                  <a:lnTo>
                    <a:pt x="135" y="232"/>
                  </a:lnTo>
                  <a:lnTo>
                    <a:pt x="151" y="230"/>
                  </a:lnTo>
                  <a:lnTo>
                    <a:pt x="166" y="228"/>
                  </a:lnTo>
                  <a:lnTo>
                    <a:pt x="182" y="228"/>
                  </a:lnTo>
                  <a:lnTo>
                    <a:pt x="197" y="228"/>
                  </a:lnTo>
                  <a:lnTo>
                    <a:pt x="212" y="229"/>
                  </a:lnTo>
                  <a:lnTo>
                    <a:pt x="226" y="231"/>
                  </a:lnTo>
                  <a:lnTo>
                    <a:pt x="238" y="233"/>
                  </a:lnTo>
                  <a:lnTo>
                    <a:pt x="250" y="236"/>
                  </a:lnTo>
                  <a:lnTo>
                    <a:pt x="260" y="238"/>
                  </a:lnTo>
                  <a:lnTo>
                    <a:pt x="268" y="240"/>
                  </a:lnTo>
                  <a:lnTo>
                    <a:pt x="274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76" y="239"/>
                  </a:lnTo>
                  <a:lnTo>
                    <a:pt x="268" y="227"/>
                  </a:lnTo>
                  <a:lnTo>
                    <a:pt x="259" y="209"/>
                  </a:lnTo>
                  <a:lnTo>
                    <a:pt x="250" y="189"/>
                  </a:lnTo>
                  <a:lnTo>
                    <a:pt x="244" y="168"/>
                  </a:lnTo>
                  <a:lnTo>
                    <a:pt x="245" y="147"/>
                  </a:lnTo>
                  <a:lnTo>
                    <a:pt x="254" y="132"/>
                  </a:lnTo>
                  <a:lnTo>
                    <a:pt x="275" y="122"/>
                  </a:lnTo>
                  <a:lnTo>
                    <a:pt x="285" y="121"/>
                  </a:lnTo>
                  <a:lnTo>
                    <a:pt x="298" y="122"/>
                  </a:lnTo>
                  <a:lnTo>
                    <a:pt x="312" y="125"/>
                  </a:lnTo>
                  <a:lnTo>
                    <a:pt x="329" y="130"/>
                  </a:lnTo>
                  <a:lnTo>
                    <a:pt x="347" y="136"/>
                  </a:lnTo>
                  <a:lnTo>
                    <a:pt x="364" y="142"/>
                  </a:lnTo>
                  <a:lnTo>
                    <a:pt x="382" y="150"/>
                  </a:lnTo>
                  <a:lnTo>
                    <a:pt x="401" y="159"/>
                  </a:lnTo>
                  <a:lnTo>
                    <a:pt x="418" y="167"/>
                  </a:lnTo>
                  <a:lnTo>
                    <a:pt x="435" y="174"/>
                  </a:lnTo>
                  <a:lnTo>
                    <a:pt x="450" y="182"/>
                  </a:lnTo>
                  <a:lnTo>
                    <a:pt x="464" y="189"/>
                  </a:lnTo>
                  <a:lnTo>
                    <a:pt x="474" y="194"/>
                  </a:lnTo>
                  <a:lnTo>
                    <a:pt x="484" y="199"/>
                  </a:lnTo>
                  <a:lnTo>
                    <a:pt x="488" y="201"/>
                  </a:lnTo>
                  <a:lnTo>
                    <a:pt x="490" y="202"/>
                  </a:lnTo>
                  <a:lnTo>
                    <a:pt x="488" y="191"/>
                  </a:lnTo>
                  <a:lnTo>
                    <a:pt x="484" y="162"/>
                  </a:lnTo>
                  <a:lnTo>
                    <a:pt x="479" y="127"/>
                  </a:lnTo>
                  <a:lnTo>
                    <a:pt x="479" y="97"/>
                  </a:lnTo>
                  <a:lnTo>
                    <a:pt x="481" y="92"/>
                  </a:lnTo>
                  <a:lnTo>
                    <a:pt x="487" y="89"/>
                  </a:lnTo>
                  <a:lnTo>
                    <a:pt x="494" y="87"/>
                  </a:lnTo>
                  <a:lnTo>
                    <a:pt x="504" y="88"/>
                  </a:lnTo>
                  <a:lnTo>
                    <a:pt x="517" y="91"/>
                  </a:lnTo>
                  <a:lnTo>
                    <a:pt x="531" y="95"/>
                  </a:lnTo>
                  <a:lnTo>
                    <a:pt x="546" y="101"/>
                  </a:lnTo>
                  <a:lnTo>
                    <a:pt x="562" y="109"/>
                  </a:lnTo>
                  <a:lnTo>
                    <a:pt x="579" y="118"/>
                  </a:lnTo>
                  <a:lnTo>
                    <a:pt x="596" y="130"/>
                  </a:lnTo>
                  <a:lnTo>
                    <a:pt x="614" y="142"/>
                  </a:lnTo>
                  <a:lnTo>
                    <a:pt x="630" y="157"/>
                  </a:lnTo>
                  <a:lnTo>
                    <a:pt x="646" y="174"/>
                  </a:lnTo>
                  <a:lnTo>
                    <a:pt x="661" y="191"/>
                  </a:lnTo>
                  <a:lnTo>
                    <a:pt x="675" y="210"/>
                  </a:lnTo>
                  <a:lnTo>
                    <a:pt x="686" y="231"/>
                  </a:lnTo>
                  <a:lnTo>
                    <a:pt x="704" y="270"/>
                  </a:lnTo>
                  <a:lnTo>
                    <a:pt x="715" y="305"/>
                  </a:lnTo>
                  <a:lnTo>
                    <a:pt x="720" y="332"/>
                  </a:lnTo>
                  <a:lnTo>
                    <a:pt x="722" y="356"/>
                  </a:lnTo>
                  <a:lnTo>
                    <a:pt x="721" y="372"/>
                  </a:lnTo>
                  <a:lnTo>
                    <a:pt x="719" y="384"/>
                  </a:lnTo>
                  <a:lnTo>
                    <a:pt x="716" y="391"/>
                  </a:lnTo>
                  <a:lnTo>
                    <a:pt x="715" y="394"/>
                  </a:lnTo>
                  <a:lnTo>
                    <a:pt x="719" y="390"/>
                  </a:lnTo>
                  <a:lnTo>
                    <a:pt x="727" y="379"/>
                  </a:lnTo>
                  <a:lnTo>
                    <a:pt x="738" y="361"/>
                  </a:lnTo>
                  <a:lnTo>
                    <a:pt x="748" y="336"/>
                  </a:lnTo>
                  <a:lnTo>
                    <a:pt x="755" y="306"/>
                  </a:lnTo>
                  <a:lnTo>
                    <a:pt x="757" y="269"/>
                  </a:lnTo>
                  <a:lnTo>
                    <a:pt x="750" y="228"/>
                  </a:lnTo>
                  <a:lnTo>
                    <a:pt x="732" y="182"/>
                  </a:lnTo>
                  <a:lnTo>
                    <a:pt x="719" y="159"/>
                  </a:lnTo>
                  <a:lnTo>
                    <a:pt x="702" y="136"/>
                  </a:lnTo>
                  <a:lnTo>
                    <a:pt x="685" y="115"/>
                  </a:lnTo>
                  <a:lnTo>
                    <a:pt x="666" y="96"/>
                  </a:lnTo>
                  <a:lnTo>
                    <a:pt x="645" y="78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8" y="35"/>
                  </a:lnTo>
                  <a:lnTo>
                    <a:pt x="556" y="25"/>
                  </a:lnTo>
                  <a:lnTo>
                    <a:pt x="535" y="16"/>
                  </a:lnTo>
                  <a:lnTo>
                    <a:pt x="516" y="9"/>
                  </a:lnTo>
                  <a:lnTo>
                    <a:pt x="497" y="3"/>
                  </a:lnTo>
                  <a:lnTo>
                    <a:pt x="481" y="1"/>
                  </a:lnTo>
                  <a:lnTo>
                    <a:pt x="469" y="0"/>
                  </a:lnTo>
                  <a:lnTo>
                    <a:pt x="457" y="1"/>
                  </a:lnTo>
                  <a:lnTo>
                    <a:pt x="450" y="4"/>
                  </a:lnTo>
                  <a:lnTo>
                    <a:pt x="439" y="19"/>
                  </a:lnTo>
                  <a:lnTo>
                    <a:pt x="433" y="40"/>
                  </a:lnTo>
                  <a:lnTo>
                    <a:pt x="431" y="64"/>
                  </a:lnTo>
                  <a:lnTo>
                    <a:pt x="433" y="88"/>
                  </a:lnTo>
                  <a:lnTo>
                    <a:pt x="436" y="112"/>
                  </a:lnTo>
                  <a:lnTo>
                    <a:pt x="441" y="131"/>
                  </a:lnTo>
                  <a:lnTo>
                    <a:pt x="444" y="145"/>
                  </a:lnTo>
                  <a:lnTo>
                    <a:pt x="446" y="149"/>
                  </a:lnTo>
                  <a:lnTo>
                    <a:pt x="443" y="148"/>
                  </a:lnTo>
                  <a:lnTo>
                    <a:pt x="437" y="145"/>
                  </a:lnTo>
                  <a:lnTo>
                    <a:pt x="428" y="139"/>
                  </a:lnTo>
                  <a:lnTo>
                    <a:pt x="417" y="133"/>
                  </a:lnTo>
                  <a:lnTo>
                    <a:pt x="403" y="125"/>
                  </a:lnTo>
                  <a:lnTo>
                    <a:pt x="386" y="116"/>
                  </a:lnTo>
                  <a:lnTo>
                    <a:pt x="368" y="107"/>
                  </a:lnTo>
                  <a:lnTo>
                    <a:pt x="350" y="97"/>
                  </a:lnTo>
                  <a:lnTo>
                    <a:pt x="330" y="88"/>
                  </a:lnTo>
                  <a:lnTo>
                    <a:pt x="311" y="79"/>
                  </a:lnTo>
                  <a:lnTo>
                    <a:pt x="291" y="71"/>
                  </a:lnTo>
                  <a:lnTo>
                    <a:pt x="272" y="64"/>
                  </a:lnTo>
                  <a:lnTo>
                    <a:pt x="254" y="58"/>
                  </a:lnTo>
                  <a:lnTo>
                    <a:pt x="238" y="55"/>
                  </a:lnTo>
                  <a:lnTo>
                    <a:pt x="224" y="54"/>
                  </a:lnTo>
                  <a:lnTo>
                    <a:pt x="213" y="55"/>
                  </a:lnTo>
                  <a:lnTo>
                    <a:pt x="190" y="66"/>
                  </a:lnTo>
                  <a:lnTo>
                    <a:pt x="178" y="85"/>
                  </a:lnTo>
                  <a:lnTo>
                    <a:pt x="178" y="108"/>
                  </a:lnTo>
                  <a:lnTo>
                    <a:pt x="184" y="132"/>
                  </a:lnTo>
                  <a:lnTo>
                    <a:pt x="194" y="156"/>
                  </a:lnTo>
                  <a:lnTo>
                    <a:pt x="205" y="176"/>
                  </a:lnTo>
                  <a:lnTo>
                    <a:pt x="214" y="190"/>
                  </a:lnTo>
                  <a:lnTo>
                    <a:pt x="218" y="195"/>
                  </a:lnTo>
                  <a:lnTo>
                    <a:pt x="216" y="195"/>
                  </a:lnTo>
                  <a:lnTo>
                    <a:pt x="213" y="194"/>
                  </a:lnTo>
                  <a:lnTo>
                    <a:pt x="206" y="192"/>
                  </a:lnTo>
                  <a:lnTo>
                    <a:pt x="198" y="190"/>
                  </a:lnTo>
                  <a:lnTo>
                    <a:pt x="189" y="187"/>
                  </a:lnTo>
                  <a:lnTo>
                    <a:pt x="177" y="185"/>
                  </a:lnTo>
                  <a:lnTo>
                    <a:pt x="165" y="183"/>
                  </a:lnTo>
                  <a:lnTo>
                    <a:pt x="151" y="182"/>
                  </a:lnTo>
                  <a:lnTo>
                    <a:pt x="136" y="180"/>
                  </a:lnTo>
                  <a:lnTo>
                    <a:pt x="121" y="180"/>
                  </a:lnTo>
                  <a:lnTo>
                    <a:pt x="105" y="182"/>
                  </a:lnTo>
                  <a:lnTo>
                    <a:pt x="89" y="184"/>
                  </a:lnTo>
                  <a:lnTo>
                    <a:pt x="72" y="187"/>
                  </a:lnTo>
                  <a:lnTo>
                    <a:pt x="56" y="193"/>
                  </a:lnTo>
                  <a:lnTo>
                    <a:pt x="40" y="200"/>
                  </a:lnTo>
                  <a:lnTo>
                    <a:pt x="25" y="209"/>
                  </a:lnTo>
                  <a:lnTo>
                    <a:pt x="4" y="232"/>
                  </a:lnTo>
                  <a:lnTo>
                    <a:pt x="0" y="258"/>
                  </a:lnTo>
                  <a:lnTo>
                    <a:pt x="7" y="284"/>
                  </a:lnTo>
                  <a:lnTo>
                    <a:pt x="22" y="309"/>
                  </a:lnTo>
                  <a:lnTo>
                    <a:pt x="39" y="334"/>
                  </a:lnTo>
                  <a:lnTo>
                    <a:pt x="57" y="352"/>
                  </a:lnTo>
                  <a:lnTo>
                    <a:pt x="70" y="365"/>
                  </a:lnTo>
                  <a:lnTo>
                    <a:pt x="76" y="3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68800" y="4763880"/>
              <a:ext cx="19080" cy="226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87"/>
                  </a:moveTo>
                  <a:lnTo>
                    <a:pt x="51" y="86"/>
                  </a:lnTo>
                  <a:lnTo>
                    <a:pt x="59" y="83"/>
                  </a:lnTo>
                  <a:lnTo>
                    <a:pt x="66" y="80"/>
                  </a:lnTo>
                  <a:lnTo>
                    <a:pt x="73" y="74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5" y="52"/>
                  </a:lnTo>
                  <a:lnTo>
                    <a:pt x="86" y="43"/>
                  </a:lnTo>
                  <a:lnTo>
                    <a:pt x="85" y="35"/>
                  </a:lnTo>
                  <a:lnTo>
                    <a:pt x="82" y="27"/>
                  </a:lnTo>
                  <a:lnTo>
                    <a:pt x="79" y="20"/>
                  </a:lnTo>
                  <a:lnTo>
                    <a:pt x="73" y="13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7"/>
                  </a:lnTo>
                  <a:lnTo>
                    <a:pt x="12" y="74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4" y="86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00120" y="4763880"/>
              <a:ext cx="74160" cy="99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229"/>
                  </a:moveTo>
                  <a:lnTo>
                    <a:pt x="1" y="232"/>
                  </a:lnTo>
                  <a:lnTo>
                    <a:pt x="6" y="237"/>
                  </a:lnTo>
                  <a:lnTo>
                    <a:pt x="13" y="247"/>
                  </a:lnTo>
                  <a:lnTo>
                    <a:pt x="22" y="259"/>
                  </a:lnTo>
                  <a:lnTo>
                    <a:pt x="35" y="273"/>
                  </a:lnTo>
                  <a:lnTo>
                    <a:pt x="49" y="288"/>
                  </a:lnTo>
                  <a:lnTo>
                    <a:pt x="65" y="303"/>
                  </a:lnTo>
                  <a:lnTo>
                    <a:pt x="82" y="319"/>
                  </a:lnTo>
                  <a:lnTo>
                    <a:pt x="103" y="333"/>
                  </a:lnTo>
                  <a:lnTo>
                    <a:pt x="124" y="347"/>
                  </a:lnTo>
                  <a:lnTo>
                    <a:pt x="147" y="358"/>
                  </a:lnTo>
                  <a:lnTo>
                    <a:pt x="171" y="366"/>
                  </a:lnTo>
                  <a:lnTo>
                    <a:pt x="196" y="372"/>
                  </a:lnTo>
                  <a:lnTo>
                    <a:pt x="223" y="373"/>
                  </a:lnTo>
                  <a:lnTo>
                    <a:pt x="250" y="370"/>
                  </a:lnTo>
                  <a:lnTo>
                    <a:pt x="278" y="361"/>
                  </a:lnTo>
                  <a:lnTo>
                    <a:pt x="289" y="354"/>
                  </a:lnTo>
                  <a:lnTo>
                    <a:pt x="295" y="346"/>
                  </a:lnTo>
                  <a:lnTo>
                    <a:pt x="296" y="335"/>
                  </a:lnTo>
                  <a:lnTo>
                    <a:pt x="293" y="325"/>
                  </a:lnTo>
                  <a:lnTo>
                    <a:pt x="285" y="313"/>
                  </a:lnTo>
                  <a:lnTo>
                    <a:pt x="276" y="301"/>
                  </a:lnTo>
                  <a:lnTo>
                    <a:pt x="263" y="288"/>
                  </a:lnTo>
                  <a:lnTo>
                    <a:pt x="249" y="274"/>
                  </a:lnTo>
                  <a:lnTo>
                    <a:pt x="233" y="260"/>
                  </a:lnTo>
                  <a:lnTo>
                    <a:pt x="218" y="247"/>
                  </a:lnTo>
                  <a:lnTo>
                    <a:pt x="203" y="233"/>
                  </a:lnTo>
                  <a:lnTo>
                    <a:pt x="190" y="219"/>
                  </a:lnTo>
                  <a:lnTo>
                    <a:pt x="178" y="206"/>
                  </a:lnTo>
                  <a:lnTo>
                    <a:pt x="168" y="194"/>
                  </a:lnTo>
                  <a:lnTo>
                    <a:pt x="163" y="182"/>
                  </a:lnTo>
                  <a:lnTo>
                    <a:pt x="160" y="171"/>
                  </a:lnTo>
                  <a:lnTo>
                    <a:pt x="167" y="149"/>
                  </a:lnTo>
                  <a:lnTo>
                    <a:pt x="188" y="128"/>
                  </a:lnTo>
                  <a:lnTo>
                    <a:pt x="216" y="107"/>
                  </a:lnTo>
                  <a:lnTo>
                    <a:pt x="248" y="88"/>
                  </a:lnTo>
                  <a:lnTo>
                    <a:pt x="279" y="68"/>
                  </a:lnTo>
                  <a:lnTo>
                    <a:pt x="307" y="49"/>
                  </a:lnTo>
                  <a:lnTo>
                    <a:pt x="327" y="30"/>
                  </a:lnTo>
                  <a:lnTo>
                    <a:pt x="334" y="12"/>
                  </a:lnTo>
                  <a:lnTo>
                    <a:pt x="333" y="8"/>
                  </a:lnTo>
                  <a:lnTo>
                    <a:pt x="329" y="5"/>
                  </a:lnTo>
                  <a:lnTo>
                    <a:pt x="323" y="2"/>
                  </a:lnTo>
                  <a:lnTo>
                    <a:pt x="315" y="1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9" y="1"/>
                  </a:lnTo>
                  <a:lnTo>
                    <a:pt x="264" y="2"/>
                  </a:lnTo>
                  <a:lnTo>
                    <a:pt x="248" y="4"/>
                  </a:lnTo>
                  <a:lnTo>
                    <a:pt x="232" y="7"/>
                  </a:lnTo>
                  <a:lnTo>
                    <a:pt x="216" y="9"/>
                  </a:lnTo>
                  <a:lnTo>
                    <a:pt x="198" y="13"/>
                  </a:lnTo>
                  <a:lnTo>
                    <a:pt x="182" y="16"/>
                  </a:lnTo>
                  <a:lnTo>
                    <a:pt x="165" y="21"/>
                  </a:lnTo>
                  <a:lnTo>
                    <a:pt x="149" y="25"/>
                  </a:lnTo>
                  <a:lnTo>
                    <a:pt x="134" y="30"/>
                  </a:lnTo>
                  <a:lnTo>
                    <a:pt x="105" y="39"/>
                  </a:lnTo>
                  <a:lnTo>
                    <a:pt x="82" y="49"/>
                  </a:lnTo>
                  <a:lnTo>
                    <a:pt x="61" y="58"/>
                  </a:lnTo>
                  <a:lnTo>
                    <a:pt x="46" y="65"/>
                  </a:lnTo>
                  <a:lnTo>
                    <a:pt x="35" y="70"/>
                  </a:lnTo>
                  <a:lnTo>
                    <a:pt x="26" y="76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2" y="58"/>
                  </a:lnTo>
                  <a:lnTo>
                    <a:pt x="197" y="60"/>
                  </a:lnTo>
                  <a:lnTo>
                    <a:pt x="186" y="68"/>
                  </a:lnTo>
                  <a:lnTo>
                    <a:pt x="170" y="80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19" y="130"/>
                  </a:lnTo>
                  <a:lnTo>
                    <a:pt x="111" y="151"/>
                  </a:lnTo>
                  <a:lnTo>
                    <a:pt x="111" y="171"/>
                  </a:lnTo>
                  <a:lnTo>
                    <a:pt x="121" y="191"/>
                  </a:lnTo>
                  <a:lnTo>
                    <a:pt x="137" y="214"/>
                  </a:lnTo>
                  <a:lnTo>
                    <a:pt x="159" y="237"/>
                  </a:lnTo>
                  <a:lnTo>
                    <a:pt x="180" y="259"/>
                  </a:lnTo>
                  <a:lnTo>
                    <a:pt x="200" y="279"/>
                  </a:lnTo>
                  <a:lnTo>
                    <a:pt x="213" y="295"/>
                  </a:lnTo>
                  <a:lnTo>
                    <a:pt x="219" y="307"/>
                  </a:lnTo>
                  <a:lnTo>
                    <a:pt x="213" y="311"/>
                  </a:lnTo>
                  <a:lnTo>
                    <a:pt x="205" y="311"/>
                  </a:lnTo>
                  <a:lnTo>
                    <a:pt x="194" y="309"/>
                  </a:lnTo>
                  <a:lnTo>
                    <a:pt x="181" y="305"/>
                  </a:lnTo>
                  <a:lnTo>
                    <a:pt x="165" y="300"/>
                  </a:lnTo>
                  <a:lnTo>
                    <a:pt x="149" y="294"/>
                  </a:lnTo>
                  <a:lnTo>
                    <a:pt x="130" y="287"/>
                  </a:lnTo>
                  <a:lnTo>
                    <a:pt x="112" y="279"/>
                  </a:lnTo>
                  <a:lnTo>
                    <a:pt x="94" y="272"/>
                  </a:lnTo>
                  <a:lnTo>
                    <a:pt x="76" y="264"/>
                  </a:lnTo>
                  <a:lnTo>
                    <a:pt x="59" y="256"/>
                  </a:lnTo>
                  <a:lnTo>
                    <a:pt x="43" y="249"/>
                  </a:lnTo>
                  <a:lnTo>
                    <a:pt x="29" y="243"/>
                  </a:lnTo>
                  <a:lnTo>
                    <a:pt x="18" y="237"/>
                  </a:lnTo>
                  <a:lnTo>
                    <a:pt x="8" y="233"/>
                  </a:lnTo>
                  <a:lnTo>
                    <a:pt x="3" y="23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019920" y="3139920"/>
            <a:ext cx="583920" cy="525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0253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18408" y="3794"/>
                </a:lnTo>
                <a:lnTo>
                  <a:pt x="18408" y="17806"/>
                </a:lnTo>
                <a:lnTo>
                  <a:pt x="16745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Virginia regions have 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ly major differences lie between the Tidewater region and the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ltry: Valley &amp; Ridge:           :__________: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building: Tidewater:           :__________: Valley &amp; 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for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ltry: Valley &amp; Ridge:                      :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al mi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ppalachian Plat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building: Tidewater:                :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a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alley &amp; 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09480" y="1066680"/>
            <a:ext cx="8076960" cy="5410080"/>
            <a:chOff x="609480" y="1066680"/>
            <a:chExt cx="8076960" cy="5410080"/>
          </a:xfrm>
        </p:grpSpPr>
        <p:sp>
          <p:nvSpPr>
            <p:cNvPr id="332" name=""/>
            <p:cNvSpPr/>
            <p:nvPr/>
          </p:nvSpPr>
          <p:spPr>
            <a:xfrm>
              <a:off x="666720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 mi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832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28360" y="5406480"/>
              <a:ext cx="20196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untainous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9480" y="5406480"/>
              <a:ext cx="20188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ppalachian Platea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720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rm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4832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ultry, Apples, Forest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8360" y="4278240"/>
              <a:ext cx="201960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erate to good soil, rivers/strea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480" y="4278240"/>
              <a:ext cx="201888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alley &amp; Ridg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6720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chnology, federal and state government, farming texti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832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bacco, Produce, Dairy Farms, Lu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28360" y="3206160"/>
              <a:ext cx="20196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ood soil, rivers, moderate clim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480" y="3206160"/>
              <a:ext cx="20188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iedmon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6720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hipbuilding, tourism, federal military install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832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ybeans, Peanuts,  Seaf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28360" y="213624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esapeake Bay, Great Dismal Swamp, Ocean, major riv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213624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dewat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oastal Plai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6720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dustr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4832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c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28360" y="1066680"/>
              <a:ext cx="20196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eograph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1066680"/>
              <a:ext cx="2018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gion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06668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2136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320616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427824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480" y="5406480"/>
              <a:ext cx="807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9480" y="6476760"/>
              <a:ext cx="80769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48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836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4832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67200" y="1066680"/>
              <a:ext cx="0" cy="541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86440" y="1066680"/>
              <a:ext cx="0" cy="5410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530280" cy="380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715000" y="5638680"/>
            <a:ext cx="522360" cy="538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365040" cy="46224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5562720" y="4653360"/>
            <a:ext cx="511560" cy="611640"/>
            <a:chOff x="5562720" y="4653360"/>
            <a:chExt cx="511560" cy="611640"/>
          </a:xfrm>
        </p:grpSpPr>
        <p:sp>
          <p:nvSpPr>
            <p:cNvPr id="367" name=""/>
            <p:cNvSpPr/>
            <p:nvPr/>
          </p:nvSpPr>
          <p:spPr>
            <a:xfrm>
              <a:off x="5600880" y="4893840"/>
              <a:ext cx="77760" cy="136800"/>
            </a:xfrm>
            <a:custGeom>
              <a:avLst/>
              <a:gdLst/>
              <a:ahLst/>
              <a:rect l="l" t="t" r="r" b="b"/>
              <a:pathLst>
                <a:path w="349" h="513">
                  <a:moveTo>
                    <a:pt x="6" y="513"/>
                  </a:moveTo>
                  <a:lnTo>
                    <a:pt x="7" y="505"/>
                  </a:lnTo>
                  <a:lnTo>
                    <a:pt x="12" y="481"/>
                  </a:lnTo>
                  <a:lnTo>
                    <a:pt x="22" y="444"/>
                  </a:lnTo>
                  <a:lnTo>
                    <a:pt x="38" y="397"/>
                  </a:lnTo>
                  <a:lnTo>
                    <a:pt x="59" y="341"/>
                  </a:lnTo>
                  <a:lnTo>
                    <a:pt x="87" y="279"/>
                  </a:lnTo>
                  <a:lnTo>
                    <a:pt x="124" y="215"/>
                  </a:lnTo>
                  <a:lnTo>
                    <a:pt x="169" y="148"/>
                  </a:lnTo>
                  <a:lnTo>
                    <a:pt x="204" y="106"/>
                  </a:lnTo>
                  <a:lnTo>
                    <a:pt x="236" y="75"/>
                  </a:lnTo>
                  <a:lnTo>
                    <a:pt x="267" y="51"/>
                  </a:lnTo>
                  <a:lnTo>
                    <a:pt x="293" y="34"/>
                  </a:lnTo>
                  <a:lnTo>
                    <a:pt x="316" y="22"/>
                  </a:lnTo>
                  <a:lnTo>
                    <a:pt x="334" y="15"/>
                  </a:lnTo>
                  <a:lnTo>
                    <a:pt x="345" y="12"/>
                  </a:lnTo>
                  <a:lnTo>
                    <a:pt x="349" y="11"/>
                  </a:lnTo>
                  <a:lnTo>
                    <a:pt x="348" y="10"/>
                  </a:lnTo>
                  <a:lnTo>
                    <a:pt x="344" y="8"/>
                  </a:lnTo>
                  <a:lnTo>
                    <a:pt x="338" y="6"/>
                  </a:lnTo>
                  <a:lnTo>
                    <a:pt x="330" y="4"/>
                  </a:lnTo>
                  <a:lnTo>
                    <a:pt x="320" y="3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1" y="0"/>
                  </a:lnTo>
                  <a:lnTo>
                    <a:pt x="265" y="4"/>
                  </a:lnTo>
                  <a:lnTo>
                    <a:pt x="247" y="8"/>
                  </a:lnTo>
                  <a:lnTo>
                    <a:pt x="229" y="15"/>
                  </a:lnTo>
                  <a:lnTo>
                    <a:pt x="211" y="26"/>
                  </a:lnTo>
                  <a:lnTo>
                    <a:pt x="190" y="38"/>
                  </a:lnTo>
                  <a:lnTo>
                    <a:pt x="170" y="56"/>
                  </a:lnTo>
                  <a:lnTo>
                    <a:pt x="148" y="76"/>
                  </a:lnTo>
                  <a:lnTo>
                    <a:pt x="128" y="102"/>
                  </a:lnTo>
                  <a:lnTo>
                    <a:pt x="73" y="182"/>
                  </a:lnTo>
                  <a:lnTo>
                    <a:pt x="37" y="258"/>
                  </a:lnTo>
                  <a:lnTo>
                    <a:pt x="14" y="329"/>
                  </a:lnTo>
                  <a:lnTo>
                    <a:pt x="3" y="390"/>
                  </a:lnTo>
                  <a:lnTo>
                    <a:pt x="0" y="440"/>
                  </a:lnTo>
                  <a:lnTo>
                    <a:pt x="1" y="480"/>
                  </a:lnTo>
                  <a:lnTo>
                    <a:pt x="3" y="504"/>
                  </a:lnTo>
                  <a:lnTo>
                    <a:pt x="6" y="5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3640" y="4938840"/>
              <a:ext cx="60120" cy="119520"/>
            </a:xfrm>
            <a:custGeom>
              <a:avLst/>
              <a:gdLst/>
              <a:ahLst/>
              <a:rect l="l" t="t" r="r" b="b"/>
              <a:pathLst>
                <a:path w="271" h="449">
                  <a:moveTo>
                    <a:pt x="19" y="449"/>
                  </a:moveTo>
                  <a:lnTo>
                    <a:pt x="19" y="442"/>
                  </a:lnTo>
                  <a:lnTo>
                    <a:pt x="21" y="421"/>
                  </a:lnTo>
                  <a:lnTo>
                    <a:pt x="26" y="390"/>
                  </a:lnTo>
                  <a:lnTo>
                    <a:pt x="32" y="349"/>
                  </a:lnTo>
                  <a:lnTo>
                    <a:pt x="45" y="300"/>
                  </a:lnTo>
                  <a:lnTo>
                    <a:pt x="62" y="247"/>
                  </a:lnTo>
                  <a:lnTo>
                    <a:pt x="85" y="191"/>
                  </a:lnTo>
                  <a:lnTo>
                    <a:pt x="115" y="132"/>
                  </a:lnTo>
                  <a:lnTo>
                    <a:pt x="142" y="92"/>
                  </a:lnTo>
                  <a:lnTo>
                    <a:pt x="168" y="62"/>
                  </a:lnTo>
                  <a:lnTo>
                    <a:pt x="195" y="38"/>
                  </a:lnTo>
                  <a:lnTo>
                    <a:pt x="219" y="22"/>
                  </a:lnTo>
                  <a:lnTo>
                    <a:pt x="240" y="10"/>
                  </a:lnTo>
                  <a:lnTo>
                    <a:pt x="256" y="3"/>
                  </a:lnTo>
                  <a:lnTo>
                    <a:pt x="267" y="1"/>
                  </a:lnTo>
                  <a:lnTo>
                    <a:pt x="271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58" y="0"/>
                  </a:lnTo>
                  <a:lnTo>
                    <a:pt x="249" y="0"/>
                  </a:lnTo>
                  <a:lnTo>
                    <a:pt x="239" y="1"/>
                  </a:lnTo>
                  <a:lnTo>
                    <a:pt x="226" y="2"/>
                  </a:lnTo>
                  <a:lnTo>
                    <a:pt x="211" y="5"/>
                  </a:lnTo>
                  <a:lnTo>
                    <a:pt x="196" y="9"/>
                  </a:lnTo>
                  <a:lnTo>
                    <a:pt x="180" y="15"/>
                  </a:lnTo>
                  <a:lnTo>
                    <a:pt x="164" y="22"/>
                  </a:lnTo>
                  <a:lnTo>
                    <a:pt x="146" y="30"/>
                  </a:lnTo>
                  <a:lnTo>
                    <a:pt x="130" y="40"/>
                  </a:lnTo>
                  <a:lnTo>
                    <a:pt x="113" y="54"/>
                  </a:lnTo>
                  <a:lnTo>
                    <a:pt x="97" y="69"/>
                  </a:lnTo>
                  <a:lnTo>
                    <a:pt x="82" y="87"/>
                  </a:lnTo>
                  <a:lnTo>
                    <a:pt x="68" y="108"/>
                  </a:lnTo>
                  <a:lnTo>
                    <a:pt x="32" y="178"/>
                  </a:lnTo>
                  <a:lnTo>
                    <a:pt x="12" y="244"/>
                  </a:lnTo>
                  <a:lnTo>
                    <a:pt x="1" y="302"/>
                  </a:lnTo>
                  <a:lnTo>
                    <a:pt x="0" y="351"/>
                  </a:lnTo>
                  <a:lnTo>
                    <a:pt x="4" y="393"/>
                  </a:lnTo>
                  <a:lnTo>
                    <a:pt x="11" y="424"/>
                  </a:lnTo>
                  <a:lnTo>
                    <a:pt x="16" y="442"/>
                  </a:lnTo>
                  <a:lnTo>
                    <a:pt x="19" y="4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66760" y="4959720"/>
              <a:ext cx="51120" cy="127080"/>
            </a:xfrm>
            <a:custGeom>
              <a:avLst/>
              <a:gdLst/>
              <a:ahLst/>
              <a:rect l="l" t="t" r="r" b="b"/>
              <a:pathLst>
                <a:path w="229" h="477">
                  <a:moveTo>
                    <a:pt x="47" y="477"/>
                  </a:moveTo>
                  <a:lnTo>
                    <a:pt x="46" y="470"/>
                  </a:lnTo>
                  <a:lnTo>
                    <a:pt x="44" y="449"/>
                  </a:lnTo>
                  <a:lnTo>
                    <a:pt x="41" y="417"/>
                  </a:lnTo>
                  <a:lnTo>
                    <a:pt x="40" y="374"/>
                  </a:lnTo>
                  <a:lnTo>
                    <a:pt x="42" y="325"/>
                  </a:lnTo>
                  <a:lnTo>
                    <a:pt x="50" y="270"/>
                  </a:lnTo>
                  <a:lnTo>
                    <a:pt x="65" y="210"/>
                  </a:lnTo>
                  <a:lnTo>
                    <a:pt x="88" y="149"/>
                  </a:lnTo>
                  <a:lnTo>
                    <a:pt x="110" y="106"/>
                  </a:lnTo>
                  <a:lnTo>
                    <a:pt x="133" y="73"/>
                  </a:lnTo>
                  <a:lnTo>
                    <a:pt x="158" y="46"/>
                  </a:lnTo>
                  <a:lnTo>
                    <a:pt x="179" y="28"/>
                  </a:lnTo>
                  <a:lnTo>
                    <a:pt x="199" y="14"/>
                  </a:lnTo>
                  <a:lnTo>
                    <a:pt x="215" y="6"/>
                  </a:lnTo>
                  <a:lnTo>
                    <a:pt x="226" y="1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223" y="0"/>
                  </a:lnTo>
                  <a:lnTo>
                    <a:pt x="216" y="1"/>
                  </a:lnTo>
                  <a:lnTo>
                    <a:pt x="207" y="2"/>
                  </a:lnTo>
                  <a:lnTo>
                    <a:pt x="197" y="5"/>
                  </a:lnTo>
                  <a:lnTo>
                    <a:pt x="184" y="8"/>
                  </a:lnTo>
                  <a:lnTo>
                    <a:pt x="170" y="12"/>
                  </a:lnTo>
                  <a:lnTo>
                    <a:pt x="155" y="17"/>
                  </a:lnTo>
                  <a:lnTo>
                    <a:pt x="140" y="24"/>
                  </a:lnTo>
                  <a:lnTo>
                    <a:pt x="124" y="33"/>
                  </a:lnTo>
                  <a:lnTo>
                    <a:pt x="108" y="44"/>
                  </a:lnTo>
                  <a:lnTo>
                    <a:pt x="93" y="57"/>
                  </a:lnTo>
                  <a:lnTo>
                    <a:pt x="78" y="70"/>
                  </a:lnTo>
                  <a:lnTo>
                    <a:pt x="63" y="88"/>
                  </a:lnTo>
                  <a:lnTo>
                    <a:pt x="50" y="107"/>
                  </a:lnTo>
                  <a:lnTo>
                    <a:pt x="39" y="129"/>
                  </a:lnTo>
                  <a:lnTo>
                    <a:pt x="11" y="204"/>
                  </a:lnTo>
                  <a:lnTo>
                    <a:pt x="0" y="271"/>
                  </a:lnTo>
                  <a:lnTo>
                    <a:pt x="0" y="331"/>
                  </a:lnTo>
                  <a:lnTo>
                    <a:pt x="7" y="380"/>
                  </a:lnTo>
                  <a:lnTo>
                    <a:pt x="19" y="422"/>
                  </a:lnTo>
                  <a:lnTo>
                    <a:pt x="32" y="452"/>
                  </a:lnTo>
                  <a:lnTo>
                    <a:pt x="42" y="470"/>
                  </a:lnTo>
                  <a:lnTo>
                    <a:pt x="47" y="4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2720" y="4851000"/>
              <a:ext cx="117360" cy="107640"/>
            </a:xfrm>
            <a:custGeom>
              <a:avLst/>
              <a:gdLst/>
              <a:ahLst/>
              <a:rect l="l" t="t" r="r" b="b"/>
              <a:pathLst>
                <a:path w="529" h="404">
                  <a:moveTo>
                    <a:pt x="0" y="404"/>
                  </a:moveTo>
                  <a:lnTo>
                    <a:pt x="1" y="402"/>
                  </a:lnTo>
                  <a:lnTo>
                    <a:pt x="6" y="396"/>
                  </a:lnTo>
                  <a:lnTo>
                    <a:pt x="13" y="387"/>
                  </a:lnTo>
                  <a:lnTo>
                    <a:pt x="23" y="375"/>
                  </a:lnTo>
                  <a:lnTo>
                    <a:pt x="36" y="358"/>
                  </a:lnTo>
                  <a:lnTo>
                    <a:pt x="51" y="341"/>
                  </a:lnTo>
                  <a:lnTo>
                    <a:pt x="68" y="320"/>
                  </a:lnTo>
                  <a:lnTo>
                    <a:pt x="88" y="298"/>
                  </a:lnTo>
                  <a:lnTo>
                    <a:pt x="109" y="275"/>
                  </a:lnTo>
                  <a:lnTo>
                    <a:pt x="132" y="251"/>
                  </a:lnTo>
                  <a:lnTo>
                    <a:pt x="159" y="227"/>
                  </a:lnTo>
                  <a:lnTo>
                    <a:pt x="187" y="202"/>
                  </a:lnTo>
                  <a:lnTo>
                    <a:pt x="217" y="176"/>
                  </a:lnTo>
                  <a:lnTo>
                    <a:pt x="248" y="151"/>
                  </a:lnTo>
                  <a:lnTo>
                    <a:pt x="280" y="127"/>
                  </a:lnTo>
                  <a:lnTo>
                    <a:pt x="314" y="104"/>
                  </a:lnTo>
                  <a:lnTo>
                    <a:pt x="341" y="88"/>
                  </a:lnTo>
                  <a:lnTo>
                    <a:pt x="365" y="75"/>
                  </a:lnTo>
                  <a:lnTo>
                    <a:pt x="387" y="63"/>
                  </a:lnTo>
                  <a:lnTo>
                    <a:pt x="408" y="54"/>
                  </a:lnTo>
                  <a:lnTo>
                    <a:pt x="427" y="46"/>
                  </a:lnTo>
                  <a:lnTo>
                    <a:pt x="445" y="40"/>
                  </a:lnTo>
                  <a:lnTo>
                    <a:pt x="461" y="36"/>
                  </a:lnTo>
                  <a:lnTo>
                    <a:pt x="476" y="32"/>
                  </a:lnTo>
                  <a:lnTo>
                    <a:pt x="487" y="30"/>
                  </a:lnTo>
                  <a:lnTo>
                    <a:pt x="499" y="29"/>
                  </a:lnTo>
                  <a:lnTo>
                    <a:pt x="508" y="28"/>
                  </a:lnTo>
                  <a:lnTo>
                    <a:pt x="515" y="28"/>
                  </a:lnTo>
                  <a:lnTo>
                    <a:pt x="521" y="28"/>
                  </a:lnTo>
                  <a:lnTo>
                    <a:pt x="525" y="29"/>
                  </a:lnTo>
                  <a:lnTo>
                    <a:pt x="528" y="29"/>
                  </a:lnTo>
                  <a:lnTo>
                    <a:pt x="529" y="29"/>
                  </a:lnTo>
                  <a:lnTo>
                    <a:pt x="528" y="28"/>
                  </a:lnTo>
                  <a:lnTo>
                    <a:pt x="524" y="25"/>
                  </a:lnTo>
                  <a:lnTo>
                    <a:pt x="519" y="23"/>
                  </a:lnTo>
                  <a:lnTo>
                    <a:pt x="513" y="19"/>
                  </a:lnTo>
                  <a:lnTo>
                    <a:pt x="503" y="14"/>
                  </a:lnTo>
                  <a:lnTo>
                    <a:pt x="493" y="10"/>
                  </a:lnTo>
                  <a:lnTo>
                    <a:pt x="480" y="6"/>
                  </a:lnTo>
                  <a:lnTo>
                    <a:pt x="466" y="2"/>
                  </a:lnTo>
                  <a:lnTo>
                    <a:pt x="450" y="0"/>
                  </a:lnTo>
                  <a:lnTo>
                    <a:pt x="433" y="0"/>
                  </a:lnTo>
                  <a:lnTo>
                    <a:pt x="413" y="1"/>
                  </a:lnTo>
                  <a:lnTo>
                    <a:pt x="393" y="4"/>
                  </a:lnTo>
                  <a:lnTo>
                    <a:pt x="371" y="9"/>
                  </a:lnTo>
                  <a:lnTo>
                    <a:pt x="348" y="19"/>
                  </a:lnTo>
                  <a:lnTo>
                    <a:pt x="322" y="30"/>
                  </a:lnTo>
                  <a:lnTo>
                    <a:pt x="296" y="45"/>
                  </a:lnTo>
                  <a:lnTo>
                    <a:pt x="253" y="74"/>
                  </a:lnTo>
                  <a:lnTo>
                    <a:pt x="215" y="103"/>
                  </a:lnTo>
                  <a:lnTo>
                    <a:pt x="181" y="134"/>
                  </a:lnTo>
                  <a:lnTo>
                    <a:pt x="150" y="164"/>
                  </a:lnTo>
                  <a:lnTo>
                    <a:pt x="123" y="195"/>
                  </a:lnTo>
                  <a:lnTo>
                    <a:pt x="99" y="224"/>
                  </a:lnTo>
                  <a:lnTo>
                    <a:pt x="77" y="252"/>
                  </a:lnTo>
                  <a:lnTo>
                    <a:pt x="60" y="280"/>
                  </a:lnTo>
                  <a:lnTo>
                    <a:pt x="44" y="307"/>
                  </a:lnTo>
                  <a:lnTo>
                    <a:pt x="31" y="330"/>
                  </a:lnTo>
                  <a:lnTo>
                    <a:pt x="21" y="351"/>
                  </a:lnTo>
                  <a:lnTo>
                    <a:pt x="13" y="369"/>
                  </a:lnTo>
                  <a:lnTo>
                    <a:pt x="7" y="384"/>
                  </a:lnTo>
                  <a:lnTo>
                    <a:pt x="3" y="395"/>
                  </a:lnTo>
                  <a:lnTo>
                    <a:pt x="1" y="402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44880" y="5014800"/>
              <a:ext cx="170640" cy="74880"/>
            </a:xfrm>
            <a:custGeom>
              <a:avLst/>
              <a:gdLst/>
              <a:ahLst/>
              <a:rect l="l" t="t" r="r" b="b"/>
              <a:pathLst>
                <a:path w="767" h="282">
                  <a:moveTo>
                    <a:pt x="0" y="4"/>
                  </a:moveTo>
                  <a:lnTo>
                    <a:pt x="3" y="0"/>
                  </a:lnTo>
                  <a:lnTo>
                    <a:pt x="10" y="3"/>
                  </a:lnTo>
                  <a:lnTo>
                    <a:pt x="21" y="9"/>
                  </a:lnTo>
                  <a:lnTo>
                    <a:pt x="33" y="20"/>
                  </a:lnTo>
                  <a:lnTo>
                    <a:pt x="50" y="34"/>
                  </a:lnTo>
                  <a:lnTo>
                    <a:pt x="69" y="50"/>
                  </a:lnTo>
                  <a:lnTo>
                    <a:pt x="91" y="69"/>
                  </a:lnTo>
                  <a:lnTo>
                    <a:pt x="116" y="89"/>
                  </a:lnTo>
                  <a:lnTo>
                    <a:pt x="144" y="110"/>
                  </a:lnTo>
                  <a:lnTo>
                    <a:pt x="176" y="130"/>
                  </a:lnTo>
                  <a:lnTo>
                    <a:pt x="210" y="150"/>
                  </a:lnTo>
                  <a:lnTo>
                    <a:pt x="248" y="168"/>
                  </a:lnTo>
                  <a:lnTo>
                    <a:pt x="288" y="185"/>
                  </a:lnTo>
                  <a:lnTo>
                    <a:pt x="331" y="198"/>
                  </a:lnTo>
                  <a:lnTo>
                    <a:pt x="377" y="209"/>
                  </a:lnTo>
                  <a:lnTo>
                    <a:pt x="425" y="215"/>
                  </a:lnTo>
                  <a:lnTo>
                    <a:pt x="473" y="217"/>
                  </a:lnTo>
                  <a:lnTo>
                    <a:pt x="516" y="217"/>
                  </a:lnTo>
                  <a:lnTo>
                    <a:pt x="556" y="215"/>
                  </a:lnTo>
                  <a:lnTo>
                    <a:pt x="591" y="211"/>
                  </a:lnTo>
                  <a:lnTo>
                    <a:pt x="623" y="204"/>
                  </a:lnTo>
                  <a:lnTo>
                    <a:pt x="651" y="197"/>
                  </a:lnTo>
                  <a:lnTo>
                    <a:pt x="675" y="189"/>
                  </a:lnTo>
                  <a:lnTo>
                    <a:pt x="697" y="181"/>
                  </a:lnTo>
                  <a:lnTo>
                    <a:pt x="714" y="172"/>
                  </a:lnTo>
                  <a:lnTo>
                    <a:pt x="729" y="163"/>
                  </a:lnTo>
                  <a:lnTo>
                    <a:pt x="742" y="155"/>
                  </a:lnTo>
                  <a:lnTo>
                    <a:pt x="751" y="147"/>
                  </a:lnTo>
                  <a:lnTo>
                    <a:pt x="758" y="140"/>
                  </a:lnTo>
                  <a:lnTo>
                    <a:pt x="764" y="135"/>
                  </a:lnTo>
                  <a:lnTo>
                    <a:pt x="766" y="132"/>
                  </a:lnTo>
                  <a:lnTo>
                    <a:pt x="767" y="130"/>
                  </a:lnTo>
                  <a:lnTo>
                    <a:pt x="766" y="133"/>
                  </a:lnTo>
                  <a:lnTo>
                    <a:pt x="761" y="137"/>
                  </a:lnTo>
                  <a:lnTo>
                    <a:pt x="756" y="147"/>
                  </a:lnTo>
                  <a:lnTo>
                    <a:pt x="745" y="157"/>
                  </a:lnTo>
                  <a:lnTo>
                    <a:pt x="734" y="170"/>
                  </a:lnTo>
                  <a:lnTo>
                    <a:pt x="718" y="183"/>
                  </a:lnTo>
                  <a:lnTo>
                    <a:pt x="700" y="198"/>
                  </a:lnTo>
                  <a:lnTo>
                    <a:pt x="678" y="213"/>
                  </a:lnTo>
                  <a:lnTo>
                    <a:pt x="654" y="228"/>
                  </a:lnTo>
                  <a:lnTo>
                    <a:pt x="627" y="242"/>
                  </a:lnTo>
                  <a:lnTo>
                    <a:pt x="595" y="256"/>
                  </a:lnTo>
                  <a:lnTo>
                    <a:pt x="561" y="266"/>
                  </a:lnTo>
                  <a:lnTo>
                    <a:pt x="523" y="276"/>
                  </a:lnTo>
                  <a:lnTo>
                    <a:pt x="483" y="281"/>
                  </a:lnTo>
                  <a:lnTo>
                    <a:pt x="438" y="282"/>
                  </a:lnTo>
                  <a:lnTo>
                    <a:pt x="389" y="281"/>
                  </a:lnTo>
                  <a:lnTo>
                    <a:pt x="341" y="274"/>
                  </a:lnTo>
                  <a:lnTo>
                    <a:pt x="296" y="264"/>
                  </a:lnTo>
                  <a:lnTo>
                    <a:pt x="253" y="250"/>
                  </a:lnTo>
                  <a:lnTo>
                    <a:pt x="214" y="233"/>
                  </a:lnTo>
                  <a:lnTo>
                    <a:pt x="179" y="215"/>
                  </a:lnTo>
                  <a:lnTo>
                    <a:pt x="146" y="193"/>
                  </a:lnTo>
                  <a:lnTo>
                    <a:pt x="118" y="170"/>
                  </a:lnTo>
                  <a:lnTo>
                    <a:pt x="91" y="147"/>
                  </a:lnTo>
                  <a:lnTo>
                    <a:pt x="68" y="124"/>
                  </a:lnTo>
                  <a:lnTo>
                    <a:pt x="48" y="100"/>
                  </a:lnTo>
                  <a:lnTo>
                    <a:pt x="32" y="79"/>
                  </a:lnTo>
                  <a:lnTo>
                    <a:pt x="20" y="58"/>
                  </a:lnTo>
                  <a:lnTo>
                    <a:pt x="9" y="39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1040" y="5080320"/>
              <a:ext cx="141840" cy="184680"/>
            </a:xfrm>
            <a:custGeom>
              <a:avLst/>
              <a:gdLst/>
              <a:ahLst/>
              <a:rect l="l" t="t" r="r" b="b"/>
              <a:pathLst>
                <a:path w="638" h="692">
                  <a:moveTo>
                    <a:pt x="408" y="232"/>
                  </a:moveTo>
                  <a:lnTo>
                    <a:pt x="422" y="232"/>
                  </a:lnTo>
                  <a:lnTo>
                    <a:pt x="437" y="231"/>
                  </a:lnTo>
                  <a:lnTo>
                    <a:pt x="454" y="230"/>
                  </a:lnTo>
                  <a:lnTo>
                    <a:pt x="471" y="228"/>
                  </a:lnTo>
                  <a:lnTo>
                    <a:pt x="490" y="227"/>
                  </a:lnTo>
                  <a:lnTo>
                    <a:pt x="509" y="223"/>
                  </a:lnTo>
                  <a:lnTo>
                    <a:pt x="528" y="221"/>
                  </a:lnTo>
                  <a:lnTo>
                    <a:pt x="547" y="217"/>
                  </a:lnTo>
                  <a:lnTo>
                    <a:pt x="564" y="213"/>
                  </a:lnTo>
                  <a:lnTo>
                    <a:pt x="582" y="209"/>
                  </a:lnTo>
                  <a:lnTo>
                    <a:pt x="597" y="205"/>
                  </a:lnTo>
                  <a:lnTo>
                    <a:pt x="610" y="200"/>
                  </a:lnTo>
                  <a:lnTo>
                    <a:pt x="621" y="194"/>
                  </a:lnTo>
                  <a:lnTo>
                    <a:pt x="630" y="190"/>
                  </a:lnTo>
                  <a:lnTo>
                    <a:pt x="636" y="184"/>
                  </a:lnTo>
                  <a:lnTo>
                    <a:pt x="638" y="178"/>
                  </a:lnTo>
                  <a:lnTo>
                    <a:pt x="637" y="174"/>
                  </a:lnTo>
                  <a:lnTo>
                    <a:pt x="632" y="169"/>
                  </a:lnTo>
                  <a:lnTo>
                    <a:pt x="624" y="167"/>
                  </a:lnTo>
                  <a:lnTo>
                    <a:pt x="614" y="166"/>
                  </a:lnTo>
                  <a:lnTo>
                    <a:pt x="601" y="164"/>
                  </a:lnTo>
                  <a:lnTo>
                    <a:pt x="586" y="164"/>
                  </a:lnTo>
                  <a:lnTo>
                    <a:pt x="570" y="166"/>
                  </a:lnTo>
                  <a:lnTo>
                    <a:pt x="553" y="167"/>
                  </a:lnTo>
                  <a:lnTo>
                    <a:pt x="534" y="168"/>
                  </a:lnTo>
                  <a:lnTo>
                    <a:pt x="515" y="170"/>
                  </a:lnTo>
                  <a:lnTo>
                    <a:pt x="496" y="171"/>
                  </a:lnTo>
                  <a:lnTo>
                    <a:pt x="478" y="172"/>
                  </a:lnTo>
                  <a:lnTo>
                    <a:pt x="460" y="174"/>
                  </a:lnTo>
                  <a:lnTo>
                    <a:pt x="442" y="175"/>
                  </a:lnTo>
                  <a:lnTo>
                    <a:pt x="427" y="175"/>
                  </a:lnTo>
                  <a:lnTo>
                    <a:pt x="413" y="175"/>
                  </a:lnTo>
                  <a:lnTo>
                    <a:pt x="373" y="170"/>
                  </a:lnTo>
                  <a:lnTo>
                    <a:pt x="334" y="163"/>
                  </a:lnTo>
                  <a:lnTo>
                    <a:pt x="296" y="153"/>
                  </a:lnTo>
                  <a:lnTo>
                    <a:pt x="258" y="141"/>
                  </a:lnTo>
                  <a:lnTo>
                    <a:pt x="222" y="127"/>
                  </a:lnTo>
                  <a:lnTo>
                    <a:pt x="189" y="113"/>
                  </a:lnTo>
                  <a:lnTo>
                    <a:pt x="157" y="98"/>
                  </a:lnTo>
                  <a:lnTo>
                    <a:pt x="127" y="81"/>
                  </a:lnTo>
                  <a:lnTo>
                    <a:pt x="99" y="66"/>
                  </a:lnTo>
                  <a:lnTo>
                    <a:pt x="75" y="51"/>
                  </a:lnTo>
                  <a:lnTo>
                    <a:pt x="53" y="38"/>
                  </a:lnTo>
                  <a:lnTo>
                    <a:pt x="35" y="25"/>
                  </a:lnTo>
                  <a:lnTo>
                    <a:pt x="20" y="15"/>
                  </a:lnTo>
                  <a:lnTo>
                    <a:pt x="9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7"/>
                  </a:lnTo>
                  <a:lnTo>
                    <a:pt x="13" y="16"/>
                  </a:lnTo>
                  <a:lnTo>
                    <a:pt x="22" y="27"/>
                  </a:lnTo>
                  <a:lnTo>
                    <a:pt x="35" y="41"/>
                  </a:lnTo>
                  <a:lnTo>
                    <a:pt x="48" y="56"/>
                  </a:lnTo>
                  <a:lnTo>
                    <a:pt x="66" y="73"/>
                  </a:lnTo>
                  <a:lnTo>
                    <a:pt x="85" y="92"/>
                  </a:lnTo>
                  <a:lnTo>
                    <a:pt x="106" y="110"/>
                  </a:lnTo>
                  <a:lnTo>
                    <a:pt x="130" y="129"/>
                  </a:lnTo>
                  <a:lnTo>
                    <a:pt x="155" y="147"/>
                  </a:lnTo>
                  <a:lnTo>
                    <a:pt x="183" y="164"/>
                  </a:lnTo>
                  <a:lnTo>
                    <a:pt x="213" y="182"/>
                  </a:lnTo>
                  <a:lnTo>
                    <a:pt x="244" y="197"/>
                  </a:lnTo>
                  <a:lnTo>
                    <a:pt x="276" y="209"/>
                  </a:lnTo>
                  <a:lnTo>
                    <a:pt x="311" y="220"/>
                  </a:lnTo>
                  <a:lnTo>
                    <a:pt x="317" y="270"/>
                  </a:lnTo>
                  <a:lnTo>
                    <a:pt x="326" y="338"/>
                  </a:lnTo>
                  <a:lnTo>
                    <a:pt x="336" y="414"/>
                  </a:lnTo>
                  <a:lnTo>
                    <a:pt x="348" y="493"/>
                  </a:lnTo>
                  <a:lnTo>
                    <a:pt x="361" y="568"/>
                  </a:lnTo>
                  <a:lnTo>
                    <a:pt x="374" y="630"/>
                  </a:lnTo>
                  <a:lnTo>
                    <a:pt x="387" y="674"/>
                  </a:lnTo>
                  <a:lnTo>
                    <a:pt x="400" y="692"/>
                  </a:lnTo>
                  <a:lnTo>
                    <a:pt x="409" y="679"/>
                  </a:lnTo>
                  <a:lnTo>
                    <a:pt x="411" y="639"/>
                  </a:lnTo>
                  <a:lnTo>
                    <a:pt x="409" y="580"/>
                  </a:lnTo>
                  <a:lnTo>
                    <a:pt x="403" y="508"/>
                  </a:lnTo>
                  <a:lnTo>
                    <a:pt x="395" y="429"/>
                  </a:lnTo>
                  <a:lnTo>
                    <a:pt x="387" y="352"/>
                  </a:lnTo>
                  <a:lnTo>
                    <a:pt x="378" y="284"/>
                  </a:lnTo>
                  <a:lnTo>
                    <a:pt x="371" y="230"/>
                  </a:lnTo>
                  <a:lnTo>
                    <a:pt x="375" y="230"/>
                  </a:lnTo>
                  <a:lnTo>
                    <a:pt x="380" y="231"/>
                  </a:lnTo>
                  <a:lnTo>
                    <a:pt x="385" y="231"/>
                  </a:lnTo>
                  <a:lnTo>
                    <a:pt x="389" y="231"/>
                  </a:lnTo>
                  <a:lnTo>
                    <a:pt x="394" y="232"/>
                  </a:lnTo>
                  <a:lnTo>
                    <a:pt x="399" y="232"/>
                  </a:lnTo>
                  <a:lnTo>
                    <a:pt x="403" y="232"/>
                  </a:lnTo>
                  <a:lnTo>
                    <a:pt x="408" y="23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07880" y="5133960"/>
              <a:ext cx="111960" cy="129600"/>
            </a:xfrm>
            <a:custGeom>
              <a:avLst/>
              <a:gdLst/>
              <a:ahLst/>
              <a:rect l="l" t="t" r="r" b="b"/>
              <a:pathLst>
                <a:path w="506" h="485">
                  <a:moveTo>
                    <a:pt x="287" y="57"/>
                  </a:moveTo>
                  <a:lnTo>
                    <a:pt x="263" y="61"/>
                  </a:lnTo>
                  <a:lnTo>
                    <a:pt x="238" y="66"/>
                  </a:lnTo>
                  <a:lnTo>
                    <a:pt x="214" y="69"/>
                  </a:lnTo>
                  <a:lnTo>
                    <a:pt x="189" y="71"/>
                  </a:lnTo>
                  <a:lnTo>
                    <a:pt x="165" y="74"/>
                  </a:lnTo>
                  <a:lnTo>
                    <a:pt x="141" y="75"/>
                  </a:lnTo>
                  <a:lnTo>
                    <a:pt x="118" y="76"/>
                  </a:lnTo>
                  <a:lnTo>
                    <a:pt x="97" y="77"/>
                  </a:lnTo>
                  <a:lnTo>
                    <a:pt x="76" y="77"/>
                  </a:lnTo>
                  <a:lnTo>
                    <a:pt x="58" y="77"/>
                  </a:lnTo>
                  <a:lnTo>
                    <a:pt x="42" y="77"/>
                  </a:lnTo>
                  <a:lnTo>
                    <a:pt x="28" y="76"/>
                  </a:lnTo>
                  <a:lnTo>
                    <a:pt x="16" y="76"/>
                  </a:lnTo>
                  <a:lnTo>
                    <a:pt x="7" y="75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1" y="75"/>
                  </a:lnTo>
                  <a:lnTo>
                    <a:pt x="4" y="76"/>
                  </a:lnTo>
                  <a:lnTo>
                    <a:pt x="9" y="78"/>
                  </a:lnTo>
                  <a:lnTo>
                    <a:pt x="15" y="81"/>
                  </a:lnTo>
                  <a:lnTo>
                    <a:pt x="23" y="84"/>
                  </a:lnTo>
                  <a:lnTo>
                    <a:pt x="33" y="88"/>
                  </a:lnTo>
                  <a:lnTo>
                    <a:pt x="44" y="91"/>
                  </a:lnTo>
                  <a:lnTo>
                    <a:pt x="57" y="95"/>
                  </a:lnTo>
                  <a:lnTo>
                    <a:pt x="59" y="119"/>
                  </a:lnTo>
                  <a:lnTo>
                    <a:pt x="65" y="165"/>
                  </a:lnTo>
                  <a:lnTo>
                    <a:pt x="73" y="227"/>
                  </a:lnTo>
                  <a:lnTo>
                    <a:pt x="83" y="295"/>
                  </a:lnTo>
                  <a:lnTo>
                    <a:pt x="95" y="364"/>
                  </a:lnTo>
                  <a:lnTo>
                    <a:pt x="107" y="423"/>
                  </a:lnTo>
                  <a:lnTo>
                    <a:pt x="121" y="467"/>
                  </a:lnTo>
                  <a:lnTo>
                    <a:pt x="135" y="485"/>
                  </a:lnTo>
                  <a:lnTo>
                    <a:pt x="144" y="475"/>
                  </a:lnTo>
                  <a:lnTo>
                    <a:pt x="147" y="439"/>
                  </a:lnTo>
                  <a:lnTo>
                    <a:pt x="146" y="387"/>
                  </a:lnTo>
                  <a:lnTo>
                    <a:pt x="142" y="325"/>
                  </a:lnTo>
                  <a:lnTo>
                    <a:pt x="135" y="258"/>
                  </a:lnTo>
                  <a:lnTo>
                    <a:pt x="128" y="196"/>
                  </a:lnTo>
                  <a:lnTo>
                    <a:pt x="121" y="144"/>
                  </a:lnTo>
                  <a:lnTo>
                    <a:pt x="116" y="109"/>
                  </a:lnTo>
                  <a:lnTo>
                    <a:pt x="137" y="114"/>
                  </a:lnTo>
                  <a:lnTo>
                    <a:pt x="159" y="118"/>
                  </a:lnTo>
                  <a:lnTo>
                    <a:pt x="182" y="120"/>
                  </a:lnTo>
                  <a:lnTo>
                    <a:pt x="205" y="121"/>
                  </a:lnTo>
                  <a:lnTo>
                    <a:pt x="227" y="122"/>
                  </a:lnTo>
                  <a:lnTo>
                    <a:pt x="250" y="121"/>
                  </a:lnTo>
                  <a:lnTo>
                    <a:pt x="272" y="119"/>
                  </a:lnTo>
                  <a:lnTo>
                    <a:pt x="294" y="114"/>
                  </a:lnTo>
                  <a:lnTo>
                    <a:pt x="308" y="111"/>
                  </a:lnTo>
                  <a:lnTo>
                    <a:pt x="321" y="106"/>
                  </a:lnTo>
                  <a:lnTo>
                    <a:pt x="338" y="101"/>
                  </a:lnTo>
                  <a:lnTo>
                    <a:pt x="355" y="96"/>
                  </a:lnTo>
                  <a:lnTo>
                    <a:pt x="373" y="89"/>
                  </a:lnTo>
                  <a:lnTo>
                    <a:pt x="391" y="82"/>
                  </a:lnTo>
                  <a:lnTo>
                    <a:pt x="409" y="75"/>
                  </a:lnTo>
                  <a:lnTo>
                    <a:pt x="426" y="67"/>
                  </a:lnTo>
                  <a:lnTo>
                    <a:pt x="442" y="59"/>
                  </a:lnTo>
                  <a:lnTo>
                    <a:pt x="458" y="52"/>
                  </a:lnTo>
                  <a:lnTo>
                    <a:pt x="472" y="44"/>
                  </a:lnTo>
                  <a:lnTo>
                    <a:pt x="484" y="36"/>
                  </a:lnTo>
                  <a:lnTo>
                    <a:pt x="493" y="28"/>
                  </a:lnTo>
                  <a:lnTo>
                    <a:pt x="501" y="21"/>
                  </a:lnTo>
                  <a:lnTo>
                    <a:pt x="505" y="14"/>
                  </a:lnTo>
                  <a:lnTo>
                    <a:pt x="506" y="8"/>
                  </a:lnTo>
                  <a:lnTo>
                    <a:pt x="503" y="4"/>
                  </a:lnTo>
                  <a:lnTo>
                    <a:pt x="498" y="1"/>
                  </a:lnTo>
                  <a:lnTo>
                    <a:pt x="490" y="0"/>
                  </a:lnTo>
                  <a:lnTo>
                    <a:pt x="479" y="0"/>
                  </a:lnTo>
                  <a:lnTo>
                    <a:pt x="467" y="2"/>
                  </a:lnTo>
                  <a:lnTo>
                    <a:pt x="453" y="6"/>
                  </a:lnTo>
                  <a:lnTo>
                    <a:pt x="437" y="10"/>
                  </a:lnTo>
                  <a:lnTo>
                    <a:pt x="419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6" y="32"/>
                  </a:lnTo>
                  <a:lnTo>
                    <a:pt x="348" y="38"/>
                  </a:lnTo>
                  <a:lnTo>
                    <a:pt x="331" y="44"/>
                  </a:lnTo>
                  <a:lnTo>
                    <a:pt x="314" y="48"/>
                  </a:lnTo>
                  <a:lnTo>
                    <a:pt x="300" y="53"/>
                  </a:lnTo>
                  <a:lnTo>
                    <a:pt x="287" y="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66680" y="4738320"/>
              <a:ext cx="442440" cy="219240"/>
            </a:xfrm>
            <a:custGeom>
              <a:avLst/>
              <a:gdLst/>
              <a:ahLst/>
              <a:rect l="l" t="t" r="r" b="b"/>
              <a:pathLst>
                <a:path w="1992" h="821">
                  <a:moveTo>
                    <a:pt x="1992" y="55"/>
                  </a:moveTo>
                  <a:lnTo>
                    <a:pt x="1990" y="55"/>
                  </a:lnTo>
                  <a:lnTo>
                    <a:pt x="1987" y="53"/>
                  </a:lnTo>
                  <a:lnTo>
                    <a:pt x="1981" y="52"/>
                  </a:lnTo>
                  <a:lnTo>
                    <a:pt x="1973" y="49"/>
                  </a:lnTo>
                  <a:lnTo>
                    <a:pt x="1964" y="46"/>
                  </a:lnTo>
                  <a:lnTo>
                    <a:pt x="1952" y="43"/>
                  </a:lnTo>
                  <a:lnTo>
                    <a:pt x="1938" y="42"/>
                  </a:lnTo>
                  <a:lnTo>
                    <a:pt x="1923" y="41"/>
                  </a:lnTo>
                  <a:lnTo>
                    <a:pt x="1904" y="40"/>
                  </a:lnTo>
                  <a:lnTo>
                    <a:pt x="1886" y="41"/>
                  </a:lnTo>
                  <a:lnTo>
                    <a:pt x="1864" y="43"/>
                  </a:lnTo>
                  <a:lnTo>
                    <a:pt x="1841" y="47"/>
                  </a:lnTo>
                  <a:lnTo>
                    <a:pt x="1817" y="53"/>
                  </a:lnTo>
                  <a:lnTo>
                    <a:pt x="1790" y="60"/>
                  </a:lnTo>
                  <a:lnTo>
                    <a:pt x="1762" y="70"/>
                  </a:lnTo>
                  <a:lnTo>
                    <a:pt x="1734" y="83"/>
                  </a:lnTo>
                  <a:lnTo>
                    <a:pt x="1705" y="99"/>
                  </a:lnTo>
                  <a:lnTo>
                    <a:pt x="1677" y="119"/>
                  </a:lnTo>
                  <a:lnTo>
                    <a:pt x="1653" y="144"/>
                  </a:lnTo>
                  <a:lnTo>
                    <a:pt x="1630" y="170"/>
                  </a:lnTo>
                  <a:lnTo>
                    <a:pt x="1608" y="199"/>
                  </a:lnTo>
                  <a:lnTo>
                    <a:pt x="1589" y="231"/>
                  </a:lnTo>
                  <a:lnTo>
                    <a:pt x="1570" y="263"/>
                  </a:lnTo>
                  <a:lnTo>
                    <a:pt x="1553" y="298"/>
                  </a:lnTo>
                  <a:lnTo>
                    <a:pt x="1537" y="333"/>
                  </a:lnTo>
                  <a:lnTo>
                    <a:pt x="1523" y="367"/>
                  </a:lnTo>
                  <a:lnTo>
                    <a:pt x="1509" y="402"/>
                  </a:lnTo>
                  <a:lnTo>
                    <a:pt x="1496" y="436"/>
                  </a:lnTo>
                  <a:lnTo>
                    <a:pt x="1485" y="469"/>
                  </a:lnTo>
                  <a:lnTo>
                    <a:pt x="1473" y="500"/>
                  </a:lnTo>
                  <a:lnTo>
                    <a:pt x="1463" y="528"/>
                  </a:lnTo>
                  <a:lnTo>
                    <a:pt x="1453" y="554"/>
                  </a:lnTo>
                  <a:lnTo>
                    <a:pt x="1442" y="578"/>
                  </a:lnTo>
                  <a:lnTo>
                    <a:pt x="1430" y="603"/>
                  </a:lnTo>
                  <a:lnTo>
                    <a:pt x="1416" y="627"/>
                  </a:lnTo>
                  <a:lnTo>
                    <a:pt x="1401" y="653"/>
                  </a:lnTo>
                  <a:lnTo>
                    <a:pt x="1384" y="677"/>
                  </a:lnTo>
                  <a:lnTo>
                    <a:pt x="1365" y="700"/>
                  </a:lnTo>
                  <a:lnTo>
                    <a:pt x="1346" y="722"/>
                  </a:lnTo>
                  <a:lnTo>
                    <a:pt x="1324" y="743"/>
                  </a:lnTo>
                  <a:lnTo>
                    <a:pt x="1301" y="761"/>
                  </a:lnTo>
                  <a:lnTo>
                    <a:pt x="1276" y="778"/>
                  </a:lnTo>
                  <a:lnTo>
                    <a:pt x="1250" y="792"/>
                  </a:lnTo>
                  <a:lnTo>
                    <a:pt x="1222" y="804"/>
                  </a:lnTo>
                  <a:lnTo>
                    <a:pt x="1193" y="813"/>
                  </a:lnTo>
                  <a:lnTo>
                    <a:pt x="1164" y="819"/>
                  </a:lnTo>
                  <a:lnTo>
                    <a:pt x="1131" y="821"/>
                  </a:lnTo>
                  <a:lnTo>
                    <a:pt x="1098" y="819"/>
                  </a:lnTo>
                  <a:lnTo>
                    <a:pt x="1059" y="809"/>
                  </a:lnTo>
                  <a:lnTo>
                    <a:pt x="1029" y="791"/>
                  </a:lnTo>
                  <a:lnTo>
                    <a:pt x="1006" y="766"/>
                  </a:lnTo>
                  <a:lnTo>
                    <a:pt x="988" y="735"/>
                  </a:lnTo>
                  <a:lnTo>
                    <a:pt x="975" y="700"/>
                  </a:lnTo>
                  <a:lnTo>
                    <a:pt x="962" y="661"/>
                  </a:lnTo>
                  <a:lnTo>
                    <a:pt x="948" y="622"/>
                  </a:lnTo>
                  <a:lnTo>
                    <a:pt x="933" y="581"/>
                  </a:lnTo>
                  <a:lnTo>
                    <a:pt x="925" y="561"/>
                  </a:lnTo>
                  <a:lnTo>
                    <a:pt x="917" y="540"/>
                  </a:lnTo>
                  <a:lnTo>
                    <a:pt x="908" y="518"/>
                  </a:lnTo>
                  <a:lnTo>
                    <a:pt x="900" y="495"/>
                  </a:lnTo>
                  <a:lnTo>
                    <a:pt x="889" y="473"/>
                  </a:lnTo>
                  <a:lnTo>
                    <a:pt x="878" y="450"/>
                  </a:lnTo>
                  <a:lnTo>
                    <a:pt x="864" y="428"/>
                  </a:lnTo>
                  <a:lnTo>
                    <a:pt x="848" y="406"/>
                  </a:lnTo>
                  <a:lnTo>
                    <a:pt x="828" y="386"/>
                  </a:lnTo>
                  <a:lnTo>
                    <a:pt x="805" y="365"/>
                  </a:lnTo>
                  <a:lnTo>
                    <a:pt x="779" y="346"/>
                  </a:lnTo>
                  <a:lnTo>
                    <a:pt x="749" y="328"/>
                  </a:lnTo>
                  <a:lnTo>
                    <a:pt x="713" y="312"/>
                  </a:lnTo>
                  <a:lnTo>
                    <a:pt x="672" y="297"/>
                  </a:lnTo>
                  <a:lnTo>
                    <a:pt x="626" y="284"/>
                  </a:lnTo>
                  <a:lnTo>
                    <a:pt x="573" y="273"/>
                  </a:lnTo>
                  <a:lnTo>
                    <a:pt x="512" y="266"/>
                  </a:lnTo>
                  <a:lnTo>
                    <a:pt x="452" y="265"/>
                  </a:lnTo>
                  <a:lnTo>
                    <a:pt x="395" y="269"/>
                  </a:lnTo>
                  <a:lnTo>
                    <a:pt x="342" y="280"/>
                  </a:lnTo>
                  <a:lnTo>
                    <a:pt x="292" y="293"/>
                  </a:lnTo>
                  <a:lnTo>
                    <a:pt x="244" y="311"/>
                  </a:lnTo>
                  <a:lnTo>
                    <a:pt x="201" y="330"/>
                  </a:lnTo>
                  <a:lnTo>
                    <a:pt x="162" y="351"/>
                  </a:lnTo>
                  <a:lnTo>
                    <a:pt x="125" y="372"/>
                  </a:lnTo>
                  <a:lnTo>
                    <a:pt x="94" y="394"/>
                  </a:lnTo>
                  <a:lnTo>
                    <a:pt x="66" y="414"/>
                  </a:lnTo>
                  <a:lnTo>
                    <a:pt x="43" y="433"/>
                  </a:lnTo>
                  <a:lnTo>
                    <a:pt x="24" y="449"/>
                  </a:lnTo>
                  <a:lnTo>
                    <a:pt x="11" y="462"/>
                  </a:lnTo>
                  <a:lnTo>
                    <a:pt x="3" y="470"/>
                  </a:lnTo>
                  <a:lnTo>
                    <a:pt x="0" y="472"/>
                  </a:lnTo>
                  <a:lnTo>
                    <a:pt x="3" y="469"/>
                  </a:lnTo>
                  <a:lnTo>
                    <a:pt x="11" y="458"/>
                  </a:lnTo>
                  <a:lnTo>
                    <a:pt x="23" y="443"/>
                  </a:lnTo>
                  <a:lnTo>
                    <a:pt x="41" y="424"/>
                  </a:lnTo>
                  <a:lnTo>
                    <a:pt x="62" y="399"/>
                  </a:lnTo>
                  <a:lnTo>
                    <a:pt x="89" y="374"/>
                  </a:lnTo>
                  <a:lnTo>
                    <a:pt x="120" y="346"/>
                  </a:lnTo>
                  <a:lnTo>
                    <a:pt x="155" y="319"/>
                  </a:lnTo>
                  <a:lnTo>
                    <a:pt x="194" y="292"/>
                  </a:lnTo>
                  <a:lnTo>
                    <a:pt x="238" y="267"/>
                  </a:lnTo>
                  <a:lnTo>
                    <a:pt x="285" y="244"/>
                  </a:lnTo>
                  <a:lnTo>
                    <a:pt x="337" y="224"/>
                  </a:lnTo>
                  <a:lnTo>
                    <a:pt x="392" y="209"/>
                  </a:lnTo>
                  <a:lnTo>
                    <a:pt x="449" y="200"/>
                  </a:lnTo>
                  <a:lnTo>
                    <a:pt x="512" y="198"/>
                  </a:lnTo>
                  <a:lnTo>
                    <a:pt x="577" y="202"/>
                  </a:lnTo>
                  <a:lnTo>
                    <a:pt x="630" y="212"/>
                  </a:lnTo>
                  <a:lnTo>
                    <a:pt x="679" y="223"/>
                  </a:lnTo>
                  <a:lnTo>
                    <a:pt x="721" y="237"/>
                  </a:lnTo>
                  <a:lnTo>
                    <a:pt x="759" y="253"/>
                  </a:lnTo>
                  <a:lnTo>
                    <a:pt x="792" y="270"/>
                  </a:lnTo>
                  <a:lnTo>
                    <a:pt x="821" y="290"/>
                  </a:lnTo>
                  <a:lnTo>
                    <a:pt x="847" y="310"/>
                  </a:lnTo>
                  <a:lnTo>
                    <a:pt x="869" y="331"/>
                  </a:lnTo>
                  <a:lnTo>
                    <a:pt x="887" y="353"/>
                  </a:lnTo>
                  <a:lnTo>
                    <a:pt x="904" y="376"/>
                  </a:lnTo>
                  <a:lnTo>
                    <a:pt x="918" y="399"/>
                  </a:lnTo>
                  <a:lnTo>
                    <a:pt x="931" y="422"/>
                  </a:lnTo>
                  <a:lnTo>
                    <a:pt x="941" y="445"/>
                  </a:lnTo>
                  <a:lnTo>
                    <a:pt x="952" y="469"/>
                  </a:lnTo>
                  <a:lnTo>
                    <a:pt x="960" y="489"/>
                  </a:lnTo>
                  <a:lnTo>
                    <a:pt x="969" y="510"/>
                  </a:lnTo>
                  <a:lnTo>
                    <a:pt x="984" y="551"/>
                  </a:lnTo>
                  <a:lnTo>
                    <a:pt x="997" y="594"/>
                  </a:lnTo>
                  <a:lnTo>
                    <a:pt x="1009" y="634"/>
                  </a:lnTo>
                  <a:lnTo>
                    <a:pt x="1024" y="672"/>
                  </a:lnTo>
                  <a:lnTo>
                    <a:pt x="1041" y="706"/>
                  </a:lnTo>
                  <a:lnTo>
                    <a:pt x="1064" y="730"/>
                  </a:lnTo>
                  <a:lnTo>
                    <a:pt x="1094" y="745"/>
                  </a:lnTo>
                  <a:lnTo>
                    <a:pt x="1134" y="748"/>
                  </a:lnTo>
                  <a:lnTo>
                    <a:pt x="1158" y="745"/>
                  </a:lnTo>
                  <a:lnTo>
                    <a:pt x="1180" y="740"/>
                  </a:lnTo>
                  <a:lnTo>
                    <a:pt x="1202" y="732"/>
                  </a:lnTo>
                  <a:lnTo>
                    <a:pt x="1221" y="723"/>
                  </a:lnTo>
                  <a:lnTo>
                    <a:pt x="1241" y="712"/>
                  </a:lnTo>
                  <a:lnTo>
                    <a:pt x="1259" y="699"/>
                  </a:lnTo>
                  <a:lnTo>
                    <a:pt x="1276" y="684"/>
                  </a:lnTo>
                  <a:lnTo>
                    <a:pt x="1294" y="668"/>
                  </a:lnTo>
                  <a:lnTo>
                    <a:pt x="1309" y="649"/>
                  </a:lnTo>
                  <a:lnTo>
                    <a:pt x="1324" y="631"/>
                  </a:lnTo>
                  <a:lnTo>
                    <a:pt x="1337" y="610"/>
                  </a:lnTo>
                  <a:lnTo>
                    <a:pt x="1351" y="589"/>
                  </a:lnTo>
                  <a:lnTo>
                    <a:pt x="1363" y="568"/>
                  </a:lnTo>
                  <a:lnTo>
                    <a:pt x="1375" y="545"/>
                  </a:lnTo>
                  <a:lnTo>
                    <a:pt x="1386" y="521"/>
                  </a:lnTo>
                  <a:lnTo>
                    <a:pt x="1396" y="497"/>
                  </a:lnTo>
                  <a:lnTo>
                    <a:pt x="1407" y="472"/>
                  </a:lnTo>
                  <a:lnTo>
                    <a:pt x="1418" y="443"/>
                  </a:lnTo>
                  <a:lnTo>
                    <a:pt x="1430" y="412"/>
                  </a:lnTo>
                  <a:lnTo>
                    <a:pt x="1443" y="380"/>
                  </a:lnTo>
                  <a:lnTo>
                    <a:pt x="1457" y="346"/>
                  </a:lnTo>
                  <a:lnTo>
                    <a:pt x="1472" y="312"/>
                  </a:lnTo>
                  <a:lnTo>
                    <a:pt x="1488" y="277"/>
                  </a:lnTo>
                  <a:lnTo>
                    <a:pt x="1506" y="243"/>
                  </a:lnTo>
                  <a:lnTo>
                    <a:pt x="1524" y="208"/>
                  </a:lnTo>
                  <a:lnTo>
                    <a:pt x="1544" y="176"/>
                  </a:lnTo>
                  <a:lnTo>
                    <a:pt x="1564" y="144"/>
                  </a:lnTo>
                  <a:lnTo>
                    <a:pt x="1587" y="115"/>
                  </a:lnTo>
                  <a:lnTo>
                    <a:pt x="1612" y="88"/>
                  </a:lnTo>
                  <a:lnTo>
                    <a:pt x="1637" y="64"/>
                  </a:lnTo>
                  <a:lnTo>
                    <a:pt x="1665" y="43"/>
                  </a:lnTo>
                  <a:lnTo>
                    <a:pt x="1693" y="27"/>
                  </a:lnTo>
                  <a:lnTo>
                    <a:pt x="1723" y="15"/>
                  </a:lnTo>
                  <a:lnTo>
                    <a:pt x="1752" y="7"/>
                  </a:lnTo>
                  <a:lnTo>
                    <a:pt x="1780" y="2"/>
                  </a:lnTo>
                  <a:lnTo>
                    <a:pt x="1807" y="0"/>
                  </a:lnTo>
                  <a:lnTo>
                    <a:pt x="1833" y="0"/>
                  </a:lnTo>
                  <a:lnTo>
                    <a:pt x="1858" y="3"/>
                  </a:lnTo>
                  <a:lnTo>
                    <a:pt x="1881" y="7"/>
                  </a:lnTo>
                  <a:lnTo>
                    <a:pt x="1902" y="12"/>
                  </a:lnTo>
                  <a:lnTo>
                    <a:pt x="1921" y="19"/>
                  </a:lnTo>
                  <a:lnTo>
                    <a:pt x="1939" y="26"/>
                  </a:lnTo>
                  <a:lnTo>
                    <a:pt x="1955" y="33"/>
                  </a:lnTo>
                  <a:lnTo>
                    <a:pt x="1967" y="40"/>
                  </a:lnTo>
                  <a:lnTo>
                    <a:pt x="1978" y="46"/>
                  </a:lnTo>
                  <a:lnTo>
                    <a:pt x="1986" y="50"/>
                  </a:lnTo>
                  <a:lnTo>
                    <a:pt x="1990" y="54"/>
                  </a:lnTo>
                  <a:lnTo>
                    <a:pt x="1992" y="5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34960" y="4913280"/>
              <a:ext cx="69480" cy="208080"/>
            </a:xfrm>
            <a:custGeom>
              <a:avLst/>
              <a:gdLst/>
              <a:ahLst/>
              <a:rect l="l" t="t" r="r" b="b"/>
              <a:pathLst>
                <a:path w="313" h="780">
                  <a:moveTo>
                    <a:pt x="0" y="780"/>
                  </a:moveTo>
                  <a:lnTo>
                    <a:pt x="2" y="778"/>
                  </a:lnTo>
                  <a:lnTo>
                    <a:pt x="7" y="771"/>
                  </a:lnTo>
                  <a:lnTo>
                    <a:pt x="15" y="760"/>
                  </a:lnTo>
                  <a:lnTo>
                    <a:pt x="26" y="747"/>
                  </a:lnTo>
                  <a:lnTo>
                    <a:pt x="39" y="729"/>
                  </a:lnTo>
                  <a:lnTo>
                    <a:pt x="54" y="709"/>
                  </a:lnTo>
                  <a:lnTo>
                    <a:pt x="71" y="686"/>
                  </a:lnTo>
                  <a:lnTo>
                    <a:pt x="88" y="659"/>
                  </a:lnTo>
                  <a:lnTo>
                    <a:pt x="107" y="630"/>
                  </a:lnTo>
                  <a:lnTo>
                    <a:pt x="125" y="600"/>
                  </a:lnTo>
                  <a:lnTo>
                    <a:pt x="144" y="568"/>
                  </a:lnTo>
                  <a:lnTo>
                    <a:pt x="162" y="535"/>
                  </a:lnTo>
                  <a:lnTo>
                    <a:pt x="179" y="499"/>
                  </a:lnTo>
                  <a:lnTo>
                    <a:pt x="195" y="463"/>
                  </a:lnTo>
                  <a:lnTo>
                    <a:pt x="209" y="426"/>
                  </a:lnTo>
                  <a:lnTo>
                    <a:pt x="222" y="389"/>
                  </a:lnTo>
                  <a:lnTo>
                    <a:pt x="243" y="316"/>
                  </a:lnTo>
                  <a:lnTo>
                    <a:pt x="259" y="245"/>
                  </a:lnTo>
                  <a:lnTo>
                    <a:pt x="271" y="180"/>
                  </a:lnTo>
                  <a:lnTo>
                    <a:pt x="281" y="121"/>
                  </a:lnTo>
                  <a:lnTo>
                    <a:pt x="286" y="72"/>
                  </a:lnTo>
                  <a:lnTo>
                    <a:pt x="291" y="34"/>
                  </a:lnTo>
                  <a:lnTo>
                    <a:pt x="293" y="9"/>
                  </a:lnTo>
                  <a:lnTo>
                    <a:pt x="293" y="0"/>
                  </a:lnTo>
                  <a:lnTo>
                    <a:pt x="296" y="10"/>
                  </a:lnTo>
                  <a:lnTo>
                    <a:pt x="300" y="39"/>
                  </a:lnTo>
                  <a:lnTo>
                    <a:pt x="306" y="84"/>
                  </a:lnTo>
                  <a:lnTo>
                    <a:pt x="311" y="141"/>
                  </a:lnTo>
                  <a:lnTo>
                    <a:pt x="313" y="207"/>
                  </a:lnTo>
                  <a:lnTo>
                    <a:pt x="311" y="280"/>
                  </a:lnTo>
                  <a:lnTo>
                    <a:pt x="301" y="355"/>
                  </a:lnTo>
                  <a:lnTo>
                    <a:pt x="283" y="430"/>
                  </a:lnTo>
                  <a:lnTo>
                    <a:pt x="270" y="467"/>
                  </a:lnTo>
                  <a:lnTo>
                    <a:pt x="253" y="501"/>
                  </a:lnTo>
                  <a:lnTo>
                    <a:pt x="235" y="536"/>
                  </a:lnTo>
                  <a:lnTo>
                    <a:pt x="213" y="568"/>
                  </a:lnTo>
                  <a:lnTo>
                    <a:pt x="190" y="599"/>
                  </a:lnTo>
                  <a:lnTo>
                    <a:pt x="167" y="628"/>
                  </a:lnTo>
                  <a:lnTo>
                    <a:pt x="142" y="654"/>
                  </a:lnTo>
                  <a:lnTo>
                    <a:pt x="118" y="679"/>
                  </a:lnTo>
                  <a:lnTo>
                    <a:pt x="95" y="702"/>
                  </a:lnTo>
                  <a:lnTo>
                    <a:pt x="73" y="721"/>
                  </a:lnTo>
                  <a:lnTo>
                    <a:pt x="53" y="739"/>
                  </a:lnTo>
                  <a:lnTo>
                    <a:pt x="35" y="753"/>
                  </a:lnTo>
                  <a:lnTo>
                    <a:pt x="20" y="765"/>
                  </a:lnTo>
                  <a:lnTo>
                    <a:pt x="9" y="773"/>
                  </a:lnTo>
                  <a:lnTo>
                    <a:pt x="2" y="778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35320" y="4797000"/>
              <a:ext cx="108720" cy="128520"/>
            </a:xfrm>
            <a:custGeom>
              <a:avLst/>
              <a:gdLst/>
              <a:ahLst/>
              <a:rect l="l" t="t" r="r" b="b"/>
              <a:pathLst>
                <a:path w="489" h="481">
                  <a:moveTo>
                    <a:pt x="429" y="373"/>
                  </a:moveTo>
                  <a:lnTo>
                    <a:pt x="414" y="388"/>
                  </a:lnTo>
                  <a:lnTo>
                    <a:pt x="397" y="399"/>
                  </a:lnTo>
                  <a:lnTo>
                    <a:pt x="375" y="406"/>
                  </a:lnTo>
                  <a:lnTo>
                    <a:pt x="352" y="410"/>
                  </a:lnTo>
                  <a:lnTo>
                    <a:pt x="329" y="411"/>
                  </a:lnTo>
                  <a:lnTo>
                    <a:pt x="306" y="409"/>
                  </a:lnTo>
                  <a:lnTo>
                    <a:pt x="284" y="404"/>
                  </a:lnTo>
                  <a:lnTo>
                    <a:pt x="265" y="396"/>
                  </a:lnTo>
                  <a:lnTo>
                    <a:pt x="236" y="373"/>
                  </a:lnTo>
                  <a:lnTo>
                    <a:pt x="219" y="341"/>
                  </a:lnTo>
                  <a:lnTo>
                    <a:pt x="212" y="304"/>
                  </a:lnTo>
                  <a:lnTo>
                    <a:pt x="211" y="263"/>
                  </a:lnTo>
                  <a:lnTo>
                    <a:pt x="215" y="227"/>
                  </a:lnTo>
                  <a:lnTo>
                    <a:pt x="221" y="196"/>
                  </a:lnTo>
                  <a:lnTo>
                    <a:pt x="227" y="174"/>
                  </a:lnTo>
                  <a:lnTo>
                    <a:pt x="229" y="166"/>
                  </a:lnTo>
                  <a:lnTo>
                    <a:pt x="224" y="167"/>
                  </a:lnTo>
                  <a:lnTo>
                    <a:pt x="214" y="169"/>
                  </a:lnTo>
                  <a:lnTo>
                    <a:pt x="198" y="172"/>
                  </a:lnTo>
                  <a:lnTo>
                    <a:pt x="177" y="175"/>
                  </a:lnTo>
                  <a:lnTo>
                    <a:pt x="155" y="175"/>
                  </a:lnTo>
                  <a:lnTo>
                    <a:pt x="133" y="172"/>
                  </a:lnTo>
                  <a:lnTo>
                    <a:pt x="114" y="167"/>
                  </a:lnTo>
                  <a:lnTo>
                    <a:pt x="97" y="156"/>
                  </a:lnTo>
                  <a:lnTo>
                    <a:pt x="86" y="145"/>
                  </a:lnTo>
                  <a:lnTo>
                    <a:pt x="80" y="132"/>
                  </a:lnTo>
                  <a:lnTo>
                    <a:pt x="77" y="117"/>
                  </a:lnTo>
                  <a:lnTo>
                    <a:pt x="77" y="102"/>
                  </a:lnTo>
                  <a:lnTo>
                    <a:pt x="80" y="87"/>
                  </a:lnTo>
                  <a:lnTo>
                    <a:pt x="85" y="72"/>
                  </a:lnTo>
                  <a:lnTo>
                    <a:pt x="93" y="60"/>
                  </a:lnTo>
                  <a:lnTo>
                    <a:pt x="102" y="48"/>
                  </a:lnTo>
                  <a:lnTo>
                    <a:pt x="113" y="38"/>
                  </a:lnTo>
                  <a:lnTo>
                    <a:pt x="121" y="28"/>
                  </a:lnTo>
                  <a:lnTo>
                    <a:pt x="129" y="20"/>
                  </a:lnTo>
                  <a:lnTo>
                    <a:pt x="136" y="14"/>
                  </a:lnTo>
                  <a:lnTo>
                    <a:pt x="140" y="8"/>
                  </a:lnTo>
                  <a:lnTo>
                    <a:pt x="144" y="3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37" y="0"/>
                  </a:lnTo>
                  <a:lnTo>
                    <a:pt x="124" y="1"/>
                  </a:lnTo>
                  <a:lnTo>
                    <a:pt x="109" y="3"/>
                  </a:lnTo>
                  <a:lnTo>
                    <a:pt x="92" y="9"/>
                  </a:lnTo>
                  <a:lnTo>
                    <a:pt x="72" y="18"/>
                  </a:lnTo>
                  <a:lnTo>
                    <a:pt x="54" y="31"/>
                  </a:lnTo>
                  <a:lnTo>
                    <a:pt x="35" y="4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8" y="87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12" y="168"/>
                  </a:lnTo>
                  <a:lnTo>
                    <a:pt x="31" y="191"/>
                  </a:lnTo>
                  <a:lnTo>
                    <a:pt x="59" y="212"/>
                  </a:lnTo>
                  <a:lnTo>
                    <a:pt x="86" y="222"/>
                  </a:lnTo>
                  <a:lnTo>
                    <a:pt x="114" y="223"/>
                  </a:lnTo>
                  <a:lnTo>
                    <a:pt x="139" y="219"/>
                  </a:lnTo>
                  <a:lnTo>
                    <a:pt x="162" y="210"/>
                  </a:lnTo>
                  <a:lnTo>
                    <a:pt x="179" y="201"/>
                  </a:lnTo>
                  <a:lnTo>
                    <a:pt x="191" y="194"/>
                  </a:lnTo>
                  <a:lnTo>
                    <a:pt x="196" y="191"/>
                  </a:lnTo>
                  <a:lnTo>
                    <a:pt x="192" y="199"/>
                  </a:lnTo>
                  <a:lnTo>
                    <a:pt x="183" y="222"/>
                  </a:lnTo>
                  <a:lnTo>
                    <a:pt x="174" y="255"/>
                  </a:lnTo>
                  <a:lnTo>
                    <a:pt x="166" y="296"/>
                  </a:lnTo>
                  <a:lnTo>
                    <a:pt x="164" y="341"/>
                  </a:lnTo>
                  <a:lnTo>
                    <a:pt x="174" y="386"/>
                  </a:lnTo>
                  <a:lnTo>
                    <a:pt x="198" y="427"/>
                  </a:lnTo>
                  <a:lnTo>
                    <a:pt x="238" y="462"/>
                  </a:lnTo>
                  <a:lnTo>
                    <a:pt x="249" y="467"/>
                  </a:lnTo>
                  <a:lnTo>
                    <a:pt x="260" y="472"/>
                  </a:lnTo>
                  <a:lnTo>
                    <a:pt x="273" y="475"/>
                  </a:lnTo>
                  <a:lnTo>
                    <a:pt x="285" y="479"/>
                  </a:lnTo>
                  <a:lnTo>
                    <a:pt x="299" y="481"/>
                  </a:lnTo>
                  <a:lnTo>
                    <a:pt x="313" y="481"/>
                  </a:lnTo>
                  <a:lnTo>
                    <a:pt x="327" y="481"/>
                  </a:lnTo>
                  <a:lnTo>
                    <a:pt x="341" y="480"/>
                  </a:lnTo>
                  <a:lnTo>
                    <a:pt x="355" y="479"/>
                  </a:lnTo>
                  <a:lnTo>
                    <a:pt x="367" y="475"/>
                  </a:lnTo>
                  <a:lnTo>
                    <a:pt x="381" y="471"/>
                  </a:lnTo>
                  <a:lnTo>
                    <a:pt x="393" y="466"/>
                  </a:lnTo>
                  <a:lnTo>
                    <a:pt x="404" y="459"/>
                  </a:lnTo>
                  <a:lnTo>
                    <a:pt x="414" y="452"/>
                  </a:lnTo>
                  <a:lnTo>
                    <a:pt x="424" y="443"/>
                  </a:lnTo>
                  <a:lnTo>
                    <a:pt x="432" y="434"/>
                  </a:lnTo>
                  <a:lnTo>
                    <a:pt x="446" y="413"/>
                  </a:lnTo>
                  <a:lnTo>
                    <a:pt x="457" y="391"/>
                  </a:lnTo>
                  <a:lnTo>
                    <a:pt x="466" y="371"/>
                  </a:lnTo>
                  <a:lnTo>
                    <a:pt x="474" y="351"/>
                  </a:lnTo>
                  <a:lnTo>
                    <a:pt x="481" y="335"/>
                  </a:lnTo>
                  <a:lnTo>
                    <a:pt x="486" y="321"/>
                  </a:lnTo>
                  <a:lnTo>
                    <a:pt x="488" y="313"/>
                  </a:lnTo>
                  <a:lnTo>
                    <a:pt x="489" y="310"/>
                  </a:lnTo>
                  <a:lnTo>
                    <a:pt x="488" y="311"/>
                  </a:lnTo>
                  <a:lnTo>
                    <a:pt x="485" y="313"/>
                  </a:lnTo>
                  <a:lnTo>
                    <a:pt x="479" y="318"/>
                  </a:lnTo>
                  <a:lnTo>
                    <a:pt x="472" y="323"/>
                  </a:lnTo>
                  <a:lnTo>
                    <a:pt x="463" y="333"/>
                  </a:lnTo>
                  <a:lnTo>
                    <a:pt x="452" y="343"/>
                  </a:lnTo>
                  <a:lnTo>
                    <a:pt x="441" y="357"/>
                  </a:lnTo>
                  <a:lnTo>
                    <a:pt x="429" y="3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74480" y="4653360"/>
              <a:ext cx="168480" cy="105120"/>
            </a:xfrm>
            <a:custGeom>
              <a:avLst/>
              <a:gdLst/>
              <a:ahLst/>
              <a:rect l="l" t="t" r="r" b="b"/>
              <a:pathLst>
                <a:path w="757" h="394">
                  <a:moveTo>
                    <a:pt x="76" y="369"/>
                  </a:moveTo>
                  <a:lnTo>
                    <a:pt x="74" y="366"/>
                  </a:lnTo>
                  <a:lnTo>
                    <a:pt x="69" y="358"/>
                  </a:lnTo>
                  <a:lnTo>
                    <a:pt x="63" y="345"/>
                  </a:lnTo>
                  <a:lnTo>
                    <a:pt x="59" y="329"/>
                  </a:lnTo>
                  <a:lnTo>
                    <a:pt x="56" y="311"/>
                  </a:lnTo>
                  <a:lnTo>
                    <a:pt x="61" y="291"/>
                  </a:lnTo>
                  <a:lnTo>
                    <a:pt x="71" y="270"/>
                  </a:lnTo>
                  <a:lnTo>
                    <a:pt x="92" y="252"/>
                  </a:lnTo>
                  <a:lnTo>
                    <a:pt x="106" y="244"/>
                  </a:lnTo>
                  <a:lnTo>
                    <a:pt x="120" y="237"/>
                  </a:lnTo>
                  <a:lnTo>
                    <a:pt x="135" y="232"/>
                  </a:lnTo>
                  <a:lnTo>
                    <a:pt x="151" y="230"/>
                  </a:lnTo>
                  <a:lnTo>
                    <a:pt x="166" y="228"/>
                  </a:lnTo>
                  <a:lnTo>
                    <a:pt x="182" y="228"/>
                  </a:lnTo>
                  <a:lnTo>
                    <a:pt x="197" y="228"/>
                  </a:lnTo>
                  <a:lnTo>
                    <a:pt x="212" y="229"/>
                  </a:lnTo>
                  <a:lnTo>
                    <a:pt x="226" y="231"/>
                  </a:lnTo>
                  <a:lnTo>
                    <a:pt x="238" y="233"/>
                  </a:lnTo>
                  <a:lnTo>
                    <a:pt x="250" y="236"/>
                  </a:lnTo>
                  <a:lnTo>
                    <a:pt x="260" y="238"/>
                  </a:lnTo>
                  <a:lnTo>
                    <a:pt x="268" y="240"/>
                  </a:lnTo>
                  <a:lnTo>
                    <a:pt x="274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76" y="239"/>
                  </a:lnTo>
                  <a:lnTo>
                    <a:pt x="268" y="227"/>
                  </a:lnTo>
                  <a:lnTo>
                    <a:pt x="259" y="209"/>
                  </a:lnTo>
                  <a:lnTo>
                    <a:pt x="250" y="189"/>
                  </a:lnTo>
                  <a:lnTo>
                    <a:pt x="244" y="168"/>
                  </a:lnTo>
                  <a:lnTo>
                    <a:pt x="245" y="147"/>
                  </a:lnTo>
                  <a:lnTo>
                    <a:pt x="254" y="132"/>
                  </a:lnTo>
                  <a:lnTo>
                    <a:pt x="275" y="122"/>
                  </a:lnTo>
                  <a:lnTo>
                    <a:pt x="285" y="121"/>
                  </a:lnTo>
                  <a:lnTo>
                    <a:pt x="298" y="122"/>
                  </a:lnTo>
                  <a:lnTo>
                    <a:pt x="312" y="125"/>
                  </a:lnTo>
                  <a:lnTo>
                    <a:pt x="329" y="130"/>
                  </a:lnTo>
                  <a:lnTo>
                    <a:pt x="347" y="136"/>
                  </a:lnTo>
                  <a:lnTo>
                    <a:pt x="364" y="142"/>
                  </a:lnTo>
                  <a:lnTo>
                    <a:pt x="382" y="150"/>
                  </a:lnTo>
                  <a:lnTo>
                    <a:pt x="401" y="159"/>
                  </a:lnTo>
                  <a:lnTo>
                    <a:pt x="418" y="167"/>
                  </a:lnTo>
                  <a:lnTo>
                    <a:pt x="435" y="174"/>
                  </a:lnTo>
                  <a:lnTo>
                    <a:pt x="450" y="182"/>
                  </a:lnTo>
                  <a:lnTo>
                    <a:pt x="464" y="189"/>
                  </a:lnTo>
                  <a:lnTo>
                    <a:pt x="474" y="194"/>
                  </a:lnTo>
                  <a:lnTo>
                    <a:pt x="484" y="199"/>
                  </a:lnTo>
                  <a:lnTo>
                    <a:pt x="488" y="201"/>
                  </a:lnTo>
                  <a:lnTo>
                    <a:pt x="490" y="202"/>
                  </a:lnTo>
                  <a:lnTo>
                    <a:pt x="488" y="191"/>
                  </a:lnTo>
                  <a:lnTo>
                    <a:pt x="484" y="162"/>
                  </a:lnTo>
                  <a:lnTo>
                    <a:pt x="479" y="127"/>
                  </a:lnTo>
                  <a:lnTo>
                    <a:pt x="479" y="97"/>
                  </a:lnTo>
                  <a:lnTo>
                    <a:pt x="481" y="92"/>
                  </a:lnTo>
                  <a:lnTo>
                    <a:pt x="487" y="89"/>
                  </a:lnTo>
                  <a:lnTo>
                    <a:pt x="494" y="87"/>
                  </a:lnTo>
                  <a:lnTo>
                    <a:pt x="504" y="88"/>
                  </a:lnTo>
                  <a:lnTo>
                    <a:pt x="517" y="91"/>
                  </a:lnTo>
                  <a:lnTo>
                    <a:pt x="531" y="95"/>
                  </a:lnTo>
                  <a:lnTo>
                    <a:pt x="546" y="101"/>
                  </a:lnTo>
                  <a:lnTo>
                    <a:pt x="562" y="109"/>
                  </a:lnTo>
                  <a:lnTo>
                    <a:pt x="579" y="118"/>
                  </a:lnTo>
                  <a:lnTo>
                    <a:pt x="596" y="130"/>
                  </a:lnTo>
                  <a:lnTo>
                    <a:pt x="614" y="142"/>
                  </a:lnTo>
                  <a:lnTo>
                    <a:pt x="630" y="157"/>
                  </a:lnTo>
                  <a:lnTo>
                    <a:pt x="646" y="174"/>
                  </a:lnTo>
                  <a:lnTo>
                    <a:pt x="661" y="191"/>
                  </a:lnTo>
                  <a:lnTo>
                    <a:pt x="675" y="210"/>
                  </a:lnTo>
                  <a:lnTo>
                    <a:pt x="686" y="231"/>
                  </a:lnTo>
                  <a:lnTo>
                    <a:pt x="704" y="270"/>
                  </a:lnTo>
                  <a:lnTo>
                    <a:pt x="715" y="305"/>
                  </a:lnTo>
                  <a:lnTo>
                    <a:pt x="720" y="332"/>
                  </a:lnTo>
                  <a:lnTo>
                    <a:pt x="722" y="356"/>
                  </a:lnTo>
                  <a:lnTo>
                    <a:pt x="721" y="372"/>
                  </a:lnTo>
                  <a:lnTo>
                    <a:pt x="719" y="384"/>
                  </a:lnTo>
                  <a:lnTo>
                    <a:pt x="716" y="391"/>
                  </a:lnTo>
                  <a:lnTo>
                    <a:pt x="715" y="394"/>
                  </a:lnTo>
                  <a:lnTo>
                    <a:pt x="719" y="390"/>
                  </a:lnTo>
                  <a:lnTo>
                    <a:pt x="727" y="379"/>
                  </a:lnTo>
                  <a:lnTo>
                    <a:pt x="738" y="361"/>
                  </a:lnTo>
                  <a:lnTo>
                    <a:pt x="748" y="336"/>
                  </a:lnTo>
                  <a:lnTo>
                    <a:pt x="755" y="306"/>
                  </a:lnTo>
                  <a:lnTo>
                    <a:pt x="757" y="269"/>
                  </a:lnTo>
                  <a:lnTo>
                    <a:pt x="750" y="228"/>
                  </a:lnTo>
                  <a:lnTo>
                    <a:pt x="732" y="182"/>
                  </a:lnTo>
                  <a:lnTo>
                    <a:pt x="719" y="159"/>
                  </a:lnTo>
                  <a:lnTo>
                    <a:pt x="702" y="136"/>
                  </a:lnTo>
                  <a:lnTo>
                    <a:pt x="685" y="115"/>
                  </a:lnTo>
                  <a:lnTo>
                    <a:pt x="666" y="96"/>
                  </a:lnTo>
                  <a:lnTo>
                    <a:pt x="645" y="78"/>
                  </a:lnTo>
                  <a:lnTo>
                    <a:pt x="623" y="63"/>
                  </a:lnTo>
                  <a:lnTo>
                    <a:pt x="600" y="48"/>
                  </a:lnTo>
                  <a:lnTo>
                    <a:pt x="578" y="35"/>
                  </a:lnTo>
                  <a:lnTo>
                    <a:pt x="556" y="25"/>
                  </a:lnTo>
                  <a:lnTo>
                    <a:pt x="535" y="16"/>
                  </a:lnTo>
                  <a:lnTo>
                    <a:pt x="516" y="9"/>
                  </a:lnTo>
                  <a:lnTo>
                    <a:pt x="497" y="3"/>
                  </a:lnTo>
                  <a:lnTo>
                    <a:pt x="481" y="1"/>
                  </a:lnTo>
                  <a:lnTo>
                    <a:pt x="469" y="0"/>
                  </a:lnTo>
                  <a:lnTo>
                    <a:pt x="457" y="1"/>
                  </a:lnTo>
                  <a:lnTo>
                    <a:pt x="450" y="4"/>
                  </a:lnTo>
                  <a:lnTo>
                    <a:pt x="439" y="19"/>
                  </a:lnTo>
                  <a:lnTo>
                    <a:pt x="433" y="40"/>
                  </a:lnTo>
                  <a:lnTo>
                    <a:pt x="431" y="64"/>
                  </a:lnTo>
                  <a:lnTo>
                    <a:pt x="433" y="88"/>
                  </a:lnTo>
                  <a:lnTo>
                    <a:pt x="436" y="112"/>
                  </a:lnTo>
                  <a:lnTo>
                    <a:pt x="441" y="131"/>
                  </a:lnTo>
                  <a:lnTo>
                    <a:pt x="444" y="145"/>
                  </a:lnTo>
                  <a:lnTo>
                    <a:pt x="446" y="149"/>
                  </a:lnTo>
                  <a:lnTo>
                    <a:pt x="443" y="148"/>
                  </a:lnTo>
                  <a:lnTo>
                    <a:pt x="437" y="145"/>
                  </a:lnTo>
                  <a:lnTo>
                    <a:pt x="428" y="139"/>
                  </a:lnTo>
                  <a:lnTo>
                    <a:pt x="417" y="133"/>
                  </a:lnTo>
                  <a:lnTo>
                    <a:pt x="403" y="125"/>
                  </a:lnTo>
                  <a:lnTo>
                    <a:pt x="386" y="116"/>
                  </a:lnTo>
                  <a:lnTo>
                    <a:pt x="368" y="107"/>
                  </a:lnTo>
                  <a:lnTo>
                    <a:pt x="350" y="97"/>
                  </a:lnTo>
                  <a:lnTo>
                    <a:pt x="330" y="88"/>
                  </a:lnTo>
                  <a:lnTo>
                    <a:pt x="311" y="79"/>
                  </a:lnTo>
                  <a:lnTo>
                    <a:pt x="291" y="71"/>
                  </a:lnTo>
                  <a:lnTo>
                    <a:pt x="272" y="64"/>
                  </a:lnTo>
                  <a:lnTo>
                    <a:pt x="254" y="58"/>
                  </a:lnTo>
                  <a:lnTo>
                    <a:pt x="238" y="55"/>
                  </a:lnTo>
                  <a:lnTo>
                    <a:pt x="224" y="54"/>
                  </a:lnTo>
                  <a:lnTo>
                    <a:pt x="213" y="55"/>
                  </a:lnTo>
                  <a:lnTo>
                    <a:pt x="190" y="66"/>
                  </a:lnTo>
                  <a:lnTo>
                    <a:pt x="178" y="85"/>
                  </a:lnTo>
                  <a:lnTo>
                    <a:pt x="178" y="108"/>
                  </a:lnTo>
                  <a:lnTo>
                    <a:pt x="184" y="132"/>
                  </a:lnTo>
                  <a:lnTo>
                    <a:pt x="194" y="156"/>
                  </a:lnTo>
                  <a:lnTo>
                    <a:pt x="205" y="176"/>
                  </a:lnTo>
                  <a:lnTo>
                    <a:pt x="214" y="190"/>
                  </a:lnTo>
                  <a:lnTo>
                    <a:pt x="218" y="195"/>
                  </a:lnTo>
                  <a:lnTo>
                    <a:pt x="216" y="195"/>
                  </a:lnTo>
                  <a:lnTo>
                    <a:pt x="213" y="194"/>
                  </a:lnTo>
                  <a:lnTo>
                    <a:pt x="206" y="192"/>
                  </a:lnTo>
                  <a:lnTo>
                    <a:pt x="198" y="190"/>
                  </a:lnTo>
                  <a:lnTo>
                    <a:pt x="189" y="187"/>
                  </a:lnTo>
                  <a:lnTo>
                    <a:pt x="177" y="185"/>
                  </a:lnTo>
                  <a:lnTo>
                    <a:pt x="165" y="183"/>
                  </a:lnTo>
                  <a:lnTo>
                    <a:pt x="151" y="182"/>
                  </a:lnTo>
                  <a:lnTo>
                    <a:pt x="136" y="180"/>
                  </a:lnTo>
                  <a:lnTo>
                    <a:pt x="121" y="180"/>
                  </a:lnTo>
                  <a:lnTo>
                    <a:pt x="105" y="182"/>
                  </a:lnTo>
                  <a:lnTo>
                    <a:pt x="89" y="184"/>
                  </a:lnTo>
                  <a:lnTo>
                    <a:pt x="72" y="187"/>
                  </a:lnTo>
                  <a:lnTo>
                    <a:pt x="56" y="193"/>
                  </a:lnTo>
                  <a:lnTo>
                    <a:pt x="40" y="200"/>
                  </a:lnTo>
                  <a:lnTo>
                    <a:pt x="25" y="209"/>
                  </a:lnTo>
                  <a:lnTo>
                    <a:pt x="4" y="232"/>
                  </a:lnTo>
                  <a:lnTo>
                    <a:pt x="0" y="258"/>
                  </a:lnTo>
                  <a:lnTo>
                    <a:pt x="7" y="284"/>
                  </a:lnTo>
                  <a:lnTo>
                    <a:pt x="22" y="309"/>
                  </a:lnTo>
                  <a:lnTo>
                    <a:pt x="39" y="334"/>
                  </a:lnTo>
                  <a:lnTo>
                    <a:pt x="57" y="352"/>
                  </a:lnTo>
                  <a:lnTo>
                    <a:pt x="70" y="365"/>
                  </a:lnTo>
                  <a:lnTo>
                    <a:pt x="76" y="36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68800" y="4763880"/>
              <a:ext cx="19080" cy="2268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43" y="87"/>
                  </a:moveTo>
                  <a:lnTo>
                    <a:pt x="51" y="86"/>
                  </a:lnTo>
                  <a:lnTo>
                    <a:pt x="59" y="83"/>
                  </a:lnTo>
                  <a:lnTo>
                    <a:pt x="66" y="80"/>
                  </a:lnTo>
                  <a:lnTo>
                    <a:pt x="73" y="74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5" y="52"/>
                  </a:lnTo>
                  <a:lnTo>
                    <a:pt x="86" y="43"/>
                  </a:lnTo>
                  <a:lnTo>
                    <a:pt x="85" y="35"/>
                  </a:lnTo>
                  <a:lnTo>
                    <a:pt x="82" y="27"/>
                  </a:lnTo>
                  <a:lnTo>
                    <a:pt x="79" y="20"/>
                  </a:lnTo>
                  <a:lnTo>
                    <a:pt x="73" y="13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7"/>
                  </a:lnTo>
                  <a:lnTo>
                    <a:pt x="12" y="13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2"/>
                  </a:lnTo>
                  <a:lnTo>
                    <a:pt x="3" y="60"/>
                  </a:lnTo>
                  <a:lnTo>
                    <a:pt x="6" y="67"/>
                  </a:lnTo>
                  <a:lnTo>
                    <a:pt x="12" y="74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4" y="86"/>
                  </a:lnTo>
                  <a:lnTo>
                    <a:pt x="43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0120" y="4763880"/>
              <a:ext cx="74160" cy="99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229"/>
                  </a:moveTo>
                  <a:lnTo>
                    <a:pt x="1" y="232"/>
                  </a:lnTo>
                  <a:lnTo>
                    <a:pt x="6" y="237"/>
                  </a:lnTo>
                  <a:lnTo>
                    <a:pt x="13" y="247"/>
                  </a:lnTo>
                  <a:lnTo>
                    <a:pt x="22" y="259"/>
                  </a:lnTo>
                  <a:lnTo>
                    <a:pt x="35" y="273"/>
                  </a:lnTo>
                  <a:lnTo>
                    <a:pt x="49" y="288"/>
                  </a:lnTo>
                  <a:lnTo>
                    <a:pt x="65" y="303"/>
                  </a:lnTo>
                  <a:lnTo>
                    <a:pt x="82" y="319"/>
                  </a:lnTo>
                  <a:lnTo>
                    <a:pt x="103" y="333"/>
                  </a:lnTo>
                  <a:lnTo>
                    <a:pt x="124" y="347"/>
                  </a:lnTo>
                  <a:lnTo>
                    <a:pt x="147" y="358"/>
                  </a:lnTo>
                  <a:lnTo>
                    <a:pt x="171" y="366"/>
                  </a:lnTo>
                  <a:lnTo>
                    <a:pt x="196" y="372"/>
                  </a:lnTo>
                  <a:lnTo>
                    <a:pt x="223" y="373"/>
                  </a:lnTo>
                  <a:lnTo>
                    <a:pt x="250" y="370"/>
                  </a:lnTo>
                  <a:lnTo>
                    <a:pt x="278" y="361"/>
                  </a:lnTo>
                  <a:lnTo>
                    <a:pt x="289" y="354"/>
                  </a:lnTo>
                  <a:lnTo>
                    <a:pt x="295" y="346"/>
                  </a:lnTo>
                  <a:lnTo>
                    <a:pt x="296" y="335"/>
                  </a:lnTo>
                  <a:lnTo>
                    <a:pt x="293" y="325"/>
                  </a:lnTo>
                  <a:lnTo>
                    <a:pt x="285" y="313"/>
                  </a:lnTo>
                  <a:lnTo>
                    <a:pt x="276" y="301"/>
                  </a:lnTo>
                  <a:lnTo>
                    <a:pt x="263" y="288"/>
                  </a:lnTo>
                  <a:lnTo>
                    <a:pt x="249" y="274"/>
                  </a:lnTo>
                  <a:lnTo>
                    <a:pt x="233" y="260"/>
                  </a:lnTo>
                  <a:lnTo>
                    <a:pt x="218" y="247"/>
                  </a:lnTo>
                  <a:lnTo>
                    <a:pt x="203" y="233"/>
                  </a:lnTo>
                  <a:lnTo>
                    <a:pt x="190" y="219"/>
                  </a:lnTo>
                  <a:lnTo>
                    <a:pt x="178" y="206"/>
                  </a:lnTo>
                  <a:lnTo>
                    <a:pt x="168" y="194"/>
                  </a:lnTo>
                  <a:lnTo>
                    <a:pt x="163" y="182"/>
                  </a:lnTo>
                  <a:lnTo>
                    <a:pt x="160" y="171"/>
                  </a:lnTo>
                  <a:lnTo>
                    <a:pt x="167" y="149"/>
                  </a:lnTo>
                  <a:lnTo>
                    <a:pt x="188" y="128"/>
                  </a:lnTo>
                  <a:lnTo>
                    <a:pt x="216" y="107"/>
                  </a:lnTo>
                  <a:lnTo>
                    <a:pt x="248" y="88"/>
                  </a:lnTo>
                  <a:lnTo>
                    <a:pt x="279" y="68"/>
                  </a:lnTo>
                  <a:lnTo>
                    <a:pt x="307" y="49"/>
                  </a:lnTo>
                  <a:lnTo>
                    <a:pt x="327" y="30"/>
                  </a:lnTo>
                  <a:lnTo>
                    <a:pt x="334" y="12"/>
                  </a:lnTo>
                  <a:lnTo>
                    <a:pt x="333" y="8"/>
                  </a:lnTo>
                  <a:lnTo>
                    <a:pt x="329" y="5"/>
                  </a:lnTo>
                  <a:lnTo>
                    <a:pt x="323" y="2"/>
                  </a:lnTo>
                  <a:lnTo>
                    <a:pt x="315" y="1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9" y="1"/>
                  </a:lnTo>
                  <a:lnTo>
                    <a:pt x="264" y="2"/>
                  </a:lnTo>
                  <a:lnTo>
                    <a:pt x="248" y="4"/>
                  </a:lnTo>
                  <a:lnTo>
                    <a:pt x="232" y="7"/>
                  </a:lnTo>
                  <a:lnTo>
                    <a:pt x="216" y="9"/>
                  </a:lnTo>
                  <a:lnTo>
                    <a:pt x="198" y="13"/>
                  </a:lnTo>
                  <a:lnTo>
                    <a:pt x="182" y="16"/>
                  </a:lnTo>
                  <a:lnTo>
                    <a:pt x="165" y="21"/>
                  </a:lnTo>
                  <a:lnTo>
                    <a:pt x="149" y="25"/>
                  </a:lnTo>
                  <a:lnTo>
                    <a:pt x="134" y="30"/>
                  </a:lnTo>
                  <a:lnTo>
                    <a:pt x="105" y="39"/>
                  </a:lnTo>
                  <a:lnTo>
                    <a:pt x="82" y="49"/>
                  </a:lnTo>
                  <a:lnTo>
                    <a:pt x="61" y="58"/>
                  </a:lnTo>
                  <a:lnTo>
                    <a:pt x="46" y="65"/>
                  </a:lnTo>
                  <a:lnTo>
                    <a:pt x="35" y="70"/>
                  </a:lnTo>
                  <a:lnTo>
                    <a:pt x="26" y="76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2" y="58"/>
                  </a:lnTo>
                  <a:lnTo>
                    <a:pt x="197" y="60"/>
                  </a:lnTo>
                  <a:lnTo>
                    <a:pt x="186" y="68"/>
                  </a:lnTo>
                  <a:lnTo>
                    <a:pt x="170" y="80"/>
                  </a:lnTo>
                  <a:lnTo>
                    <a:pt x="151" y="95"/>
                  </a:lnTo>
                  <a:lnTo>
                    <a:pt x="133" y="112"/>
                  </a:lnTo>
                  <a:lnTo>
                    <a:pt x="119" y="130"/>
                  </a:lnTo>
                  <a:lnTo>
                    <a:pt x="111" y="151"/>
                  </a:lnTo>
                  <a:lnTo>
                    <a:pt x="111" y="171"/>
                  </a:lnTo>
                  <a:lnTo>
                    <a:pt x="121" y="191"/>
                  </a:lnTo>
                  <a:lnTo>
                    <a:pt x="137" y="214"/>
                  </a:lnTo>
                  <a:lnTo>
                    <a:pt x="159" y="237"/>
                  </a:lnTo>
                  <a:lnTo>
                    <a:pt x="180" y="259"/>
                  </a:lnTo>
                  <a:lnTo>
                    <a:pt x="200" y="279"/>
                  </a:lnTo>
                  <a:lnTo>
                    <a:pt x="213" y="295"/>
                  </a:lnTo>
                  <a:lnTo>
                    <a:pt x="219" y="307"/>
                  </a:lnTo>
                  <a:lnTo>
                    <a:pt x="213" y="311"/>
                  </a:lnTo>
                  <a:lnTo>
                    <a:pt x="205" y="311"/>
                  </a:lnTo>
                  <a:lnTo>
                    <a:pt x="194" y="309"/>
                  </a:lnTo>
                  <a:lnTo>
                    <a:pt x="181" y="305"/>
                  </a:lnTo>
                  <a:lnTo>
                    <a:pt x="165" y="300"/>
                  </a:lnTo>
                  <a:lnTo>
                    <a:pt x="149" y="294"/>
                  </a:lnTo>
                  <a:lnTo>
                    <a:pt x="130" y="287"/>
                  </a:lnTo>
                  <a:lnTo>
                    <a:pt x="112" y="279"/>
                  </a:lnTo>
                  <a:lnTo>
                    <a:pt x="94" y="272"/>
                  </a:lnTo>
                  <a:lnTo>
                    <a:pt x="76" y="264"/>
                  </a:lnTo>
                  <a:lnTo>
                    <a:pt x="59" y="256"/>
                  </a:lnTo>
                  <a:lnTo>
                    <a:pt x="43" y="249"/>
                  </a:lnTo>
                  <a:lnTo>
                    <a:pt x="29" y="243"/>
                  </a:lnTo>
                  <a:lnTo>
                    <a:pt x="18" y="237"/>
                  </a:lnTo>
                  <a:lnTo>
                    <a:pt x="8" y="233"/>
                  </a:lnTo>
                  <a:lnTo>
                    <a:pt x="3" y="23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6019920" y="3139920"/>
            <a:ext cx="583920" cy="525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Virginia’s transportation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’s transportation system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595160" cy="167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038480" y="1905120"/>
            <a:ext cx="2133720" cy="117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629400" y="1474920"/>
            <a:ext cx="2133720" cy="1573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3809880" y="4038480"/>
            <a:ext cx="20574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Virginia’s transportation systems used? Give 3 exam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’s transportation system is us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raw materials to fa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finished products t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agricultur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manufacturing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490400" cy="16542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9889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057400" y="5105520"/>
            <a:ext cx="2825640" cy="1444680"/>
            <a:chOff x="2057400" y="5105520"/>
            <a:chExt cx="2825640" cy="1444680"/>
          </a:xfrm>
        </p:grpSpPr>
        <p:pic>
          <p:nvPicPr>
            <p:cNvPr id="399" name="" descr=""/>
            <p:cNvPicPr/>
            <p:nvPr/>
          </p:nvPicPr>
          <p:blipFill>
            <a:blip r:embed="rId3"/>
            <a:stretch/>
          </p:blipFill>
          <p:spPr>
            <a:xfrm>
              <a:off x="2057400" y="5105520"/>
              <a:ext cx="282564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4"/>
            <a:stretch/>
          </p:blipFill>
          <p:spPr>
            <a:xfrm>
              <a:off x="3809880" y="5181840"/>
              <a:ext cx="40896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11239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2 large bodies of water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or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rgin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computer systems, communications systems, and technology helped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4083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has brough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the world (WW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term tourism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581280" y="2743200"/>
            <a:ext cx="172908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6172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m means the travel of tourists, especially when thought of as a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400800" y="1523880"/>
            <a:ext cx="2374920" cy="2120760"/>
            <a:chOff x="6400800" y="1523880"/>
            <a:chExt cx="2374920" cy="21207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7391520" y="1523880"/>
              <a:ext cx="1384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6400800" y="2895480"/>
              <a:ext cx="1827360" cy="74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914400" y="5181480"/>
            <a:ext cx="2367000" cy="137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2133360" cy="1989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3733920" y="3276720"/>
            <a:ext cx="1295280" cy="11318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609480" y="3352680"/>
            <a:ext cx="1812960" cy="15447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886200" y="4724280"/>
            <a:ext cx="1828800" cy="1828800"/>
            <a:chOff x="3886200" y="4724280"/>
            <a:chExt cx="1828800" cy="1828800"/>
          </a:xfrm>
        </p:grpSpPr>
        <p:sp>
          <p:nvSpPr>
            <p:cNvPr id="424" name=""/>
            <p:cNvSpPr/>
            <p:nvPr/>
          </p:nvSpPr>
          <p:spPr>
            <a:xfrm>
              <a:off x="3886200" y="4724280"/>
              <a:ext cx="1828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7"/>
            <a:stretch/>
          </p:blipFill>
          <p:spPr>
            <a:xfrm>
              <a:off x="4038480" y="4876920"/>
              <a:ext cx="1608120" cy="166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 flipH="1">
            <a:off x="8010000" y="3733920"/>
            <a:ext cx="113364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-0.05917 C 0.03264 -0.0564 0.01563 -0.05478 0.00191 -0.03236 C -0.00278 -0.02473 -0.00694 -0.01664 -0.01128 -0.00878 C -0.01285 -0.00601 -0.0158 -4.78502E-006 -0.0158 -4.78502E-006 C -0.02222 0.02543 -0.02569 0.05178 -0.04028 0.0712 C -0.04167 0.07698 -0.04323 0.08299 -0.04462 0.08877 C -0.04635 0.09547 -0.05364 0.10657 -0.05364 0.10657 C -0.05712 0.12136 -0.06128 0.13616 -0.06476 0.15095 C -0.0651 0.15257 -0.0684 0.16713 -0.0691 0.16875 C -0.08264 0.20088 -0.07187 0.17707 -0.08472 0.19233 C -0.11059 0.22331 -0.09097 0.20504 -0.10694 0.21914 C -0.11389 0.23278 -0.1158 0.24365 -0.12691 0.24873 C -0.1375 0.26283 -0.14219 0.26307 -0.15573 0.26931 C -0.1875 0.26769 -0.20642 0.26977 -0.23351 0.26052 C -0.24305 0.25035 -0.25121 0.23718 -0.2625 0.23093 C -0.27535 0.22377 -0.2875 0.22423 -0.29809 0.21013 C -0.30972 0.19487 -0.31979 0.17823 -0.33142 0.16274 C -0.34635 0.14286 -0.32413 0.16413 -0.34271 0.14795 C -0.34531 0.1424 -0.34618 0.13546 -0.34913 0.13038 C -0.3691 0.0964 -0.35521 0.12506 -0.37135 0.10356 C -0.38611 0.08392 -0.36493 0.10472 -0.38264 0.08877 C -0.3842 0.08577 -0.38472 0.08184 -0.38698 0.07999 C -0.39149 0.07629 -0.41024 0.06773 -0.41597 0.06519 C -0.42552 0.06612 -0.43507 0.06612 -0.44462 0.0682 C -0.44948 0.06912 -0.45347 0.07213 -0.45816 0.07398 C -0.46024 0.0749 -0.46493 0.07698 -0.46493 0.07698 C -0.47517 0.08646 -0.47969 0.09524 -0.48698 0.10957 C -0.48837 0.11212 -0.50503 0.11512 -0.50694 0.11558 C -0.51285 0.12737 -0.51649 0.12992 -0.52691 0.13315 C -0.53177 0.13755 -0.53542 0.14379 -0.54028 0.14795 C -0.54618 0.15326 -0.55573 0.15396 -0.5625 0.15696 C -0.57135 0.15604 -0.58038 0.15627 -0.58906 0.15396 C -0.59167 0.15326 -0.5934 0.14933 -0.59583 0.14795 C -0.60017 0.1454 -0.60469 0.14402 -0.6092 0.14217 C -0.61493 0.13963 -0.62413 0.13755 -0.62917 0.13315 C -0.63976 0.12368 -0.65052 0.11489 -0.66267 0.10957 C -0.68246 0.1105 -0.7026 0.10911 -0.72239 0.11258 C -0.74514 0.11651 -0.71545 0.12391 -0.73351 0.13038 C -0.74288 0.13362 -0.75278 0.13223 -0.7625 0.13315 C -0.77066 0.13685 -0.77413 0.14448 -0.78246 0.14795 C -0.78472 0.15095 -0.78628 0.15488 -0.78906 0.15696 C -0.80226 0.16667 -0.81944 0.16829 -0.83368 0.17476 C -0.85642 0.17384 -0.87951 0.17361 -0.90243 0.17176 C -0.91233 0.17106 -0.9217 0.16135 -0.93142 0.15997 C -0.95781 0.15627 -0.96615 0.15696 -0.99132 0.15696 E">
                                      <p:cBhvr>
                                        <p:cTn id="383" dur="5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in Virginia work for the federal government.  Name some jobs that would be considered federal government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17667" y="3794"/>
                </a:moveTo>
                <a:lnTo>
                  <a:pt x="31680" y="10800"/>
                </a:lnTo>
                <a:lnTo>
                  <a:pt x="17667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jobs w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er T. Washington National Mon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Security &amp; Veterans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y, Navy, Marines, National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4.10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47920" y="2590920"/>
            <a:ext cx="6476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 of This Sec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/>
          <p:nvPr/>
        </p:nvSpPr>
        <p:spPr>
          <a:xfrm>
            <a:off x="8077320" y="59436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88c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lantic Ocean &amp; Chesapeake B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6506" t="27323" r="5810" b="11876"/>
          <a:stretch/>
        </p:blipFill>
        <p:spPr>
          <a:xfrm>
            <a:off x="1600200" y="2362320"/>
            <a:ext cx="5883120" cy="41907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picture clues, explain how water features influenced the development of Virgin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825920" cy="13035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4648320"/>
            <a:ext cx="1836720" cy="1157400"/>
            <a:chOff x="533520" y="4648320"/>
            <a:chExt cx="1836720" cy="1157400"/>
          </a:xfrm>
        </p:grpSpPr>
        <p:sp>
          <p:nvSpPr>
            <p:cNvPr id="71" name=""/>
            <p:cNvSpPr/>
            <p:nvPr/>
          </p:nvSpPr>
          <p:spPr>
            <a:xfrm>
              <a:off x="533520" y="4648320"/>
              <a:ext cx="1773360" cy="1065240"/>
            </a:xfrm>
            <a:custGeom>
              <a:avLst/>
              <a:gdLst/>
              <a:ahLst/>
              <a:rect l="l" t="t" r="r" b="b"/>
              <a:pathLst>
                <a:path w="2234" h="1341">
                  <a:moveTo>
                    <a:pt x="601" y="1152"/>
                  </a:moveTo>
                  <a:lnTo>
                    <a:pt x="627" y="1165"/>
                  </a:lnTo>
                  <a:lnTo>
                    <a:pt x="654" y="1176"/>
                  </a:lnTo>
                  <a:lnTo>
                    <a:pt x="681" y="1188"/>
                  </a:lnTo>
                  <a:lnTo>
                    <a:pt x="708" y="1198"/>
                  </a:lnTo>
                  <a:lnTo>
                    <a:pt x="737" y="1210"/>
                  </a:lnTo>
                  <a:lnTo>
                    <a:pt x="764" y="1220"/>
                  </a:lnTo>
                  <a:lnTo>
                    <a:pt x="793" y="1230"/>
                  </a:lnTo>
                  <a:lnTo>
                    <a:pt x="822" y="1240"/>
                  </a:lnTo>
                  <a:lnTo>
                    <a:pt x="851" y="1249"/>
                  </a:lnTo>
                  <a:lnTo>
                    <a:pt x="881" y="1258"/>
                  </a:lnTo>
                  <a:lnTo>
                    <a:pt x="911" y="1266"/>
                  </a:lnTo>
                  <a:lnTo>
                    <a:pt x="941" y="1274"/>
                  </a:lnTo>
                  <a:lnTo>
                    <a:pt x="970" y="1282"/>
                  </a:lnTo>
                  <a:lnTo>
                    <a:pt x="1002" y="1289"/>
                  </a:lnTo>
                  <a:lnTo>
                    <a:pt x="1033" y="1296"/>
                  </a:lnTo>
                  <a:lnTo>
                    <a:pt x="1064" y="1303"/>
                  </a:lnTo>
                  <a:lnTo>
                    <a:pt x="1094" y="1309"/>
                  </a:lnTo>
                  <a:lnTo>
                    <a:pt x="1125" y="1315"/>
                  </a:lnTo>
                  <a:lnTo>
                    <a:pt x="1155" y="1319"/>
                  </a:lnTo>
                  <a:lnTo>
                    <a:pt x="1185" y="1324"/>
                  </a:lnTo>
                  <a:lnTo>
                    <a:pt x="1215" y="1327"/>
                  </a:lnTo>
                  <a:lnTo>
                    <a:pt x="1243" y="1331"/>
                  </a:lnTo>
                  <a:lnTo>
                    <a:pt x="1273" y="1333"/>
                  </a:lnTo>
                  <a:lnTo>
                    <a:pt x="1302" y="1335"/>
                  </a:lnTo>
                  <a:lnTo>
                    <a:pt x="1331" y="1338"/>
                  </a:lnTo>
                  <a:lnTo>
                    <a:pt x="1360" y="1339"/>
                  </a:lnTo>
                  <a:lnTo>
                    <a:pt x="1388" y="1340"/>
                  </a:lnTo>
                  <a:lnTo>
                    <a:pt x="1416" y="1341"/>
                  </a:lnTo>
                  <a:lnTo>
                    <a:pt x="1444" y="1341"/>
                  </a:lnTo>
                  <a:lnTo>
                    <a:pt x="1471" y="1341"/>
                  </a:lnTo>
                  <a:lnTo>
                    <a:pt x="1499" y="1340"/>
                  </a:lnTo>
                  <a:lnTo>
                    <a:pt x="1525" y="1339"/>
                  </a:lnTo>
                  <a:lnTo>
                    <a:pt x="1552" y="1337"/>
                  </a:lnTo>
                  <a:lnTo>
                    <a:pt x="1578" y="1334"/>
                  </a:lnTo>
                  <a:lnTo>
                    <a:pt x="1604" y="1332"/>
                  </a:lnTo>
                  <a:lnTo>
                    <a:pt x="1629" y="1330"/>
                  </a:lnTo>
                  <a:lnTo>
                    <a:pt x="1654" y="1326"/>
                  </a:lnTo>
                  <a:lnTo>
                    <a:pt x="1680" y="1322"/>
                  </a:lnTo>
                  <a:lnTo>
                    <a:pt x="1704" y="1318"/>
                  </a:lnTo>
                  <a:lnTo>
                    <a:pt x="1728" y="1313"/>
                  </a:lnTo>
                  <a:lnTo>
                    <a:pt x="1751" y="1308"/>
                  </a:lnTo>
                  <a:lnTo>
                    <a:pt x="1774" y="1303"/>
                  </a:lnTo>
                  <a:lnTo>
                    <a:pt x="1797" y="1297"/>
                  </a:lnTo>
                  <a:lnTo>
                    <a:pt x="1820" y="1290"/>
                  </a:lnTo>
                  <a:lnTo>
                    <a:pt x="1842" y="1284"/>
                  </a:lnTo>
                  <a:lnTo>
                    <a:pt x="1863" y="1277"/>
                  </a:lnTo>
                  <a:lnTo>
                    <a:pt x="1884" y="1270"/>
                  </a:lnTo>
                  <a:lnTo>
                    <a:pt x="1904" y="1262"/>
                  </a:lnTo>
                  <a:lnTo>
                    <a:pt x="1939" y="1247"/>
                  </a:lnTo>
                  <a:lnTo>
                    <a:pt x="1972" y="1230"/>
                  </a:lnTo>
                  <a:lnTo>
                    <a:pt x="2005" y="1213"/>
                  </a:lnTo>
                  <a:lnTo>
                    <a:pt x="2034" y="1195"/>
                  </a:lnTo>
                  <a:lnTo>
                    <a:pt x="2062" y="1175"/>
                  </a:lnTo>
                  <a:lnTo>
                    <a:pt x="2089" y="1154"/>
                  </a:lnTo>
                  <a:lnTo>
                    <a:pt x="2113" y="1134"/>
                  </a:lnTo>
                  <a:lnTo>
                    <a:pt x="2135" y="1111"/>
                  </a:lnTo>
                  <a:lnTo>
                    <a:pt x="2155" y="1086"/>
                  </a:lnTo>
                  <a:lnTo>
                    <a:pt x="2173" y="1062"/>
                  </a:lnTo>
                  <a:lnTo>
                    <a:pt x="2189" y="1036"/>
                  </a:lnTo>
                  <a:lnTo>
                    <a:pt x="2203" y="1009"/>
                  </a:lnTo>
                  <a:lnTo>
                    <a:pt x="2213" y="982"/>
                  </a:lnTo>
                  <a:lnTo>
                    <a:pt x="2222" y="953"/>
                  </a:lnTo>
                  <a:lnTo>
                    <a:pt x="2229" y="923"/>
                  </a:lnTo>
                  <a:lnTo>
                    <a:pt x="2233" y="893"/>
                  </a:lnTo>
                  <a:lnTo>
                    <a:pt x="2234" y="861"/>
                  </a:lnTo>
                  <a:lnTo>
                    <a:pt x="2233" y="827"/>
                  </a:lnTo>
                  <a:lnTo>
                    <a:pt x="2228" y="794"/>
                  </a:lnTo>
                  <a:lnTo>
                    <a:pt x="2221" y="761"/>
                  </a:lnTo>
                  <a:lnTo>
                    <a:pt x="2211" y="728"/>
                  </a:lnTo>
                  <a:lnTo>
                    <a:pt x="2198" y="695"/>
                  </a:lnTo>
                  <a:lnTo>
                    <a:pt x="2183" y="662"/>
                  </a:lnTo>
                  <a:lnTo>
                    <a:pt x="2166" y="629"/>
                  </a:lnTo>
                  <a:lnTo>
                    <a:pt x="2146" y="597"/>
                  </a:lnTo>
                  <a:lnTo>
                    <a:pt x="2123" y="564"/>
                  </a:lnTo>
                  <a:lnTo>
                    <a:pt x="2099" y="533"/>
                  </a:lnTo>
                  <a:lnTo>
                    <a:pt x="2071" y="501"/>
                  </a:lnTo>
                  <a:lnTo>
                    <a:pt x="2043" y="470"/>
                  </a:lnTo>
                  <a:lnTo>
                    <a:pt x="2011" y="440"/>
                  </a:lnTo>
                  <a:lnTo>
                    <a:pt x="1978" y="410"/>
                  </a:lnTo>
                  <a:lnTo>
                    <a:pt x="1943" y="380"/>
                  </a:lnTo>
                  <a:lnTo>
                    <a:pt x="1907" y="352"/>
                  </a:lnTo>
                  <a:lnTo>
                    <a:pt x="1867" y="324"/>
                  </a:lnTo>
                  <a:lnTo>
                    <a:pt x="1827" y="297"/>
                  </a:lnTo>
                  <a:lnTo>
                    <a:pt x="1785" y="271"/>
                  </a:lnTo>
                  <a:lnTo>
                    <a:pt x="1741" y="245"/>
                  </a:lnTo>
                  <a:lnTo>
                    <a:pt x="1695" y="220"/>
                  </a:lnTo>
                  <a:lnTo>
                    <a:pt x="1649" y="197"/>
                  </a:lnTo>
                  <a:lnTo>
                    <a:pt x="1600" y="174"/>
                  </a:lnTo>
                  <a:lnTo>
                    <a:pt x="1550" y="153"/>
                  </a:lnTo>
                  <a:lnTo>
                    <a:pt x="1499" y="132"/>
                  </a:lnTo>
                  <a:lnTo>
                    <a:pt x="1447" y="114"/>
                  </a:lnTo>
                  <a:lnTo>
                    <a:pt x="1393" y="95"/>
                  </a:lnTo>
                  <a:lnTo>
                    <a:pt x="1339" y="79"/>
                  </a:lnTo>
                  <a:lnTo>
                    <a:pt x="1284" y="64"/>
                  </a:lnTo>
                  <a:lnTo>
                    <a:pt x="1227" y="51"/>
                  </a:lnTo>
                  <a:lnTo>
                    <a:pt x="1170" y="38"/>
                  </a:lnTo>
                  <a:lnTo>
                    <a:pt x="1139" y="32"/>
                  </a:lnTo>
                  <a:lnTo>
                    <a:pt x="1107" y="26"/>
                  </a:lnTo>
                  <a:lnTo>
                    <a:pt x="1076" y="22"/>
                  </a:lnTo>
                  <a:lnTo>
                    <a:pt x="1045" y="17"/>
                  </a:lnTo>
                  <a:lnTo>
                    <a:pt x="1015" y="14"/>
                  </a:lnTo>
                  <a:lnTo>
                    <a:pt x="985" y="10"/>
                  </a:lnTo>
                  <a:lnTo>
                    <a:pt x="954" y="7"/>
                  </a:lnTo>
                  <a:lnTo>
                    <a:pt x="926" y="4"/>
                  </a:lnTo>
                  <a:lnTo>
                    <a:pt x="896" y="2"/>
                  </a:lnTo>
                  <a:lnTo>
                    <a:pt x="866" y="1"/>
                  </a:lnTo>
                  <a:lnTo>
                    <a:pt x="837" y="0"/>
                  </a:lnTo>
                  <a:lnTo>
                    <a:pt x="808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1"/>
                  </a:lnTo>
                  <a:lnTo>
                    <a:pt x="696" y="3"/>
                  </a:lnTo>
                  <a:lnTo>
                    <a:pt x="669" y="4"/>
                  </a:lnTo>
                  <a:lnTo>
                    <a:pt x="642" y="8"/>
                  </a:lnTo>
                  <a:lnTo>
                    <a:pt x="616" y="10"/>
                  </a:lnTo>
                  <a:lnTo>
                    <a:pt x="589" y="14"/>
                  </a:lnTo>
                  <a:lnTo>
                    <a:pt x="564" y="17"/>
                  </a:lnTo>
                  <a:lnTo>
                    <a:pt x="539" y="22"/>
                  </a:lnTo>
                  <a:lnTo>
                    <a:pt x="514" y="26"/>
                  </a:lnTo>
                  <a:lnTo>
                    <a:pt x="490" y="31"/>
                  </a:lnTo>
                  <a:lnTo>
                    <a:pt x="466" y="37"/>
                  </a:lnTo>
                  <a:lnTo>
                    <a:pt x="442" y="42"/>
                  </a:lnTo>
                  <a:lnTo>
                    <a:pt x="419" y="49"/>
                  </a:lnTo>
                  <a:lnTo>
                    <a:pt x="397" y="56"/>
                  </a:lnTo>
                  <a:lnTo>
                    <a:pt x="375" y="63"/>
                  </a:lnTo>
                  <a:lnTo>
                    <a:pt x="353" y="71"/>
                  </a:lnTo>
                  <a:lnTo>
                    <a:pt x="333" y="79"/>
                  </a:lnTo>
                  <a:lnTo>
                    <a:pt x="312" y="87"/>
                  </a:lnTo>
                  <a:lnTo>
                    <a:pt x="278" y="102"/>
                  </a:lnTo>
                  <a:lnTo>
                    <a:pt x="247" y="118"/>
                  </a:lnTo>
                  <a:lnTo>
                    <a:pt x="217" y="136"/>
                  </a:lnTo>
                  <a:lnTo>
                    <a:pt x="189" y="154"/>
                  </a:lnTo>
                  <a:lnTo>
                    <a:pt x="162" y="174"/>
                  </a:lnTo>
                  <a:lnTo>
                    <a:pt x="138" y="193"/>
                  </a:lnTo>
                  <a:lnTo>
                    <a:pt x="115" y="215"/>
                  </a:lnTo>
                  <a:lnTo>
                    <a:pt x="94" y="237"/>
                  </a:lnTo>
                  <a:lnTo>
                    <a:pt x="75" y="260"/>
                  </a:lnTo>
                  <a:lnTo>
                    <a:pt x="57" y="284"/>
                  </a:lnTo>
                  <a:lnTo>
                    <a:pt x="42" y="310"/>
                  </a:lnTo>
                  <a:lnTo>
                    <a:pt x="30" y="336"/>
                  </a:lnTo>
                  <a:lnTo>
                    <a:pt x="19" y="363"/>
                  </a:lnTo>
                  <a:lnTo>
                    <a:pt x="11" y="390"/>
                  </a:lnTo>
                  <a:lnTo>
                    <a:pt x="4" y="419"/>
                  </a:lnTo>
                  <a:lnTo>
                    <a:pt x="1" y="449"/>
                  </a:lnTo>
                  <a:lnTo>
                    <a:pt x="0" y="498"/>
                  </a:lnTo>
                  <a:lnTo>
                    <a:pt x="5" y="545"/>
                  </a:lnTo>
                  <a:lnTo>
                    <a:pt x="16" y="593"/>
                  </a:lnTo>
                  <a:lnTo>
                    <a:pt x="33" y="642"/>
                  </a:lnTo>
                  <a:lnTo>
                    <a:pt x="55" y="690"/>
                  </a:lnTo>
                  <a:lnTo>
                    <a:pt x="83" y="737"/>
                  </a:lnTo>
                  <a:lnTo>
                    <a:pt x="115" y="783"/>
                  </a:lnTo>
                  <a:lnTo>
                    <a:pt x="153" y="829"/>
                  </a:lnTo>
                  <a:lnTo>
                    <a:pt x="194" y="876"/>
                  </a:lnTo>
                  <a:lnTo>
                    <a:pt x="240" y="919"/>
                  </a:lnTo>
                  <a:lnTo>
                    <a:pt x="291" y="962"/>
                  </a:lnTo>
                  <a:lnTo>
                    <a:pt x="346" y="1003"/>
                  </a:lnTo>
                  <a:lnTo>
                    <a:pt x="405" y="1044"/>
                  </a:lnTo>
                  <a:lnTo>
                    <a:pt x="467" y="1082"/>
                  </a:lnTo>
                  <a:lnTo>
                    <a:pt x="532" y="1118"/>
                  </a:lnTo>
                  <a:lnTo>
                    <a:pt x="601" y="115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4400" y="4808880"/>
              <a:ext cx="1815840" cy="996840"/>
            </a:xfrm>
            <a:custGeom>
              <a:avLst/>
              <a:gdLst/>
              <a:ahLst/>
              <a:rect l="l" t="t" r="r" b="b"/>
              <a:pathLst>
                <a:path w="2288" h="1257">
                  <a:moveTo>
                    <a:pt x="2284" y="196"/>
                  </a:moveTo>
                  <a:lnTo>
                    <a:pt x="2279" y="197"/>
                  </a:lnTo>
                  <a:lnTo>
                    <a:pt x="2272" y="200"/>
                  </a:lnTo>
                  <a:lnTo>
                    <a:pt x="2262" y="207"/>
                  </a:lnTo>
                  <a:lnTo>
                    <a:pt x="2249" y="216"/>
                  </a:lnTo>
                  <a:lnTo>
                    <a:pt x="2232" y="227"/>
                  </a:lnTo>
                  <a:lnTo>
                    <a:pt x="2211" y="239"/>
                  </a:lnTo>
                  <a:lnTo>
                    <a:pt x="2186" y="253"/>
                  </a:lnTo>
                  <a:lnTo>
                    <a:pt x="2155" y="268"/>
                  </a:lnTo>
                  <a:lnTo>
                    <a:pt x="2134" y="276"/>
                  </a:lnTo>
                  <a:lnTo>
                    <a:pt x="2117" y="282"/>
                  </a:lnTo>
                  <a:lnTo>
                    <a:pt x="2102" y="285"/>
                  </a:lnTo>
                  <a:lnTo>
                    <a:pt x="2088" y="287"/>
                  </a:lnTo>
                  <a:lnTo>
                    <a:pt x="2078" y="285"/>
                  </a:lnTo>
                  <a:lnTo>
                    <a:pt x="2068" y="281"/>
                  </a:lnTo>
                  <a:lnTo>
                    <a:pt x="2063" y="275"/>
                  </a:lnTo>
                  <a:lnTo>
                    <a:pt x="2058" y="266"/>
                  </a:lnTo>
                  <a:lnTo>
                    <a:pt x="2063" y="266"/>
                  </a:lnTo>
                  <a:lnTo>
                    <a:pt x="2068" y="265"/>
                  </a:lnTo>
                  <a:lnTo>
                    <a:pt x="2073" y="265"/>
                  </a:lnTo>
                  <a:lnTo>
                    <a:pt x="2080" y="264"/>
                  </a:lnTo>
                  <a:lnTo>
                    <a:pt x="2086" y="261"/>
                  </a:lnTo>
                  <a:lnTo>
                    <a:pt x="2093" y="259"/>
                  </a:lnTo>
                  <a:lnTo>
                    <a:pt x="2100" y="255"/>
                  </a:lnTo>
                  <a:lnTo>
                    <a:pt x="2106" y="251"/>
                  </a:lnTo>
                  <a:lnTo>
                    <a:pt x="2121" y="237"/>
                  </a:lnTo>
                  <a:lnTo>
                    <a:pt x="2136" y="222"/>
                  </a:lnTo>
                  <a:lnTo>
                    <a:pt x="2149" y="207"/>
                  </a:lnTo>
                  <a:lnTo>
                    <a:pt x="2162" y="192"/>
                  </a:lnTo>
                  <a:lnTo>
                    <a:pt x="2174" y="178"/>
                  </a:lnTo>
                  <a:lnTo>
                    <a:pt x="2187" y="167"/>
                  </a:lnTo>
                  <a:lnTo>
                    <a:pt x="2200" y="156"/>
                  </a:lnTo>
                  <a:lnTo>
                    <a:pt x="2212" y="148"/>
                  </a:lnTo>
                  <a:lnTo>
                    <a:pt x="2225" y="145"/>
                  </a:lnTo>
                  <a:lnTo>
                    <a:pt x="2234" y="143"/>
                  </a:lnTo>
                  <a:lnTo>
                    <a:pt x="2242" y="143"/>
                  </a:lnTo>
                  <a:lnTo>
                    <a:pt x="2248" y="144"/>
                  </a:lnTo>
                  <a:lnTo>
                    <a:pt x="2254" y="146"/>
                  </a:lnTo>
                  <a:lnTo>
                    <a:pt x="2257" y="147"/>
                  </a:lnTo>
                  <a:lnTo>
                    <a:pt x="2262" y="148"/>
                  </a:lnTo>
                  <a:lnTo>
                    <a:pt x="2265" y="149"/>
                  </a:lnTo>
                  <a:lnTo>
                    <a:pt x="2271" y="146"/>
                  </a:lnTo>
                  <a:lnTo>
                    <a:pt x="2273" y="137"/>
                  </a:lnTo>
                  <a:lnTo>
                    <a:pt x="2269" y="126"/>
                  </a:lnTo>
                  <a:lnTo>
                    <a:pt x="2254" y="115"/>
                  </a:lnTo>
                  <a:lnTo>
                    <a:pt x="2247" y="111"/>
                  </a:lnTo>
                  <a:lnTo>
                    <a:pt x="2239" y="107"/>
                  </a:lnTo>
                  <a:lnTo>
                    <a:pt x="2230" y="103"/>
                  </a:lnTo>
                  <a:lnTo>
                    <a:pt x="2219" y="99"/>
                  </a:lnTo>
                  <a:lnTo>
                    <a:pt x="2208" y="94"/>
                  </a:lnTo>
                  <a:lnTo>
                    <a:pt x="2196" y="91"/>
                  </a:lnTo>
                  <a:lnTo>
                    <a:pt x="2184" y="86"/>
                  </a:lnTo>
                  <a:lnTo>
                    <a:pt x="2170" y="81"/>
                  </a:lnTo>
                  <a:lnTo>
                    <a:pt x="2156" y="77"/>
                  </a:lnTo>
                  <a:lnTo>
                    <a:pt x="2142" y="72"/>
                  </a:lnTo>
                  <a:lnTo>
                    <a:pt x="2128" y="69"/>
                  </a:lnTo>
                  <a:lnTo>
                    <a:pt x="2115" y="64"/>
                  </a:lnTo>
                  <a:lnTo>
                    <a:pt x="2101" y="61"/>
                  </a:lnTo>
                  <a:lnTo>
                    <a:pt x="2088" y="58"/>
                  </a:lnTo>
                  <a:lnTo>
                    <a:pt x="2075" y="55"/>
                  </a:lnTo>
                  <a:lnTo>
                    <a:pt x="2063" y="53"/>
                  </a:lnTo>
                  <a:lnTo>
                    <a:pt x="2053" y="52"/>
                  </a:lnTo>
                  <a:lnTo>
                    <a:pt x="2043" y="49"/>
                  </a:lnTo>
                  <a:lnTo>
                    <a:pt x="2033" y="48"/>
                  </a:lnTo>
                  <a:lnTo>
                    <a:pt x="2021" y="46"/>
                  </a:lnTo>
                  <a:lnTo>
                    <a:pt x="2009" y="43"/>
                  </a:lnTo>
                  <a:lnTo>
                    <a:pt x="1996" y="41"/>
                  </a:lnTo>
                  <a:lnTo>
                    <a:pt x="1982" y="39"/>
                  </a:lnTo>
                  <a:lnTo>
                    <a:pt x="1968" y="37"/>
                  </a:lnTo>
                  <a:lnTo>
                    <a:pt x="1953" y="35"/>
                  </a:lnTo>
                  <a:lnTo>
                    <a:pt x="1937" y="32"/>
                  </a:lnTo>
                  <a:lnTo>
                    <a:pt x="1921" y="30"/>
                  </a:lnTo>
                  <a:lnTo>
                    <a:pt x="1904" y="27"/>
                  </a:lnTo>
                  <a:lnTo>
                    <a:pt x="1885" y="25"/>
                  </a:lnTo>
                  <a:lnTo>
                    <a:pt x="1867" y="23"/>
                  </a:lnTo>
                  <a:lnTo>
                    <a:pt x="1849" y="20"/>
                  </a:lnTo>
                  <a:lnTo>
                    <a:pt x="1829" y="18"/>
                  </a:lnTo>
                  <a:lnTo>
                    <a:pt x="1809" y="16"/>
                  </a:lnTo>
                  <a:lnTo>
                    <a:pt x="1789" y="13"/>
                  </a:lnTo>
                  <a:lnTo>
                    <a:pt x="1768" y="11"/>
                  </a:lnTo>
                  <a:lnTo>
                    <a:pt x="1747" y="9"/>
                  </a:lnTo>
                  <a:lnTo>
                    <a:pt x="1726" y="8"/>
                  </a:lnTo>
                  <a:lnTo>
                    <a:pt x="1705" y="5"/>
                  </a:lnTo>
                  <a:lnTo>
                    <a:pt x="1682" y="4"/>
                  </a:lnTo>
                  <a:lnTo>
                    <a:pt x="1660" y="2"/>
                  </a:lnTo>
                  <a:lnTo>
                    <a:pt x="1637" y="1"/>
                  </a:lnTo>
                  <a:lnTo>
                    <a:pt x="1612" y="1"/>
                  </a:lnTo>
                  <a:lnTo>
                    <a:pt x="1589" y="0"/>
                  </a:lnTo>
                  <a:lnTo>
                    <a:pt x="1565" y="0"/>
                  </a:lnTo>
                  <a:lnTo>
                    <a:pt x="1540" y="0"/>
                  </a:lnTo>
                  <a:lnTo>
                    <a:pt x="1516" y="0"/>
                  </a:lnTo>
                  <a:lnTo>
                    <a:pt x="1490" y="0"/>
                  </a:lnTo>
                  <a:lnTo>
                    <a:pt x="1464" y="1"/>
                  </a:lnTo>
                  <a:lnTo>
                    <a:pt x="1451" y="2"/>
                  </a:lnTo>
                  <a:lnTo>
                    <a:pt x="1437" y="3"/>
                  </a:lnTo>
                  <a:lnTo>
                    <a:pt x="1422" y="4"/>
                  </a:lnTo>
                  <a:lnTo>
                    <a:pt x="1409" y="5"/>
                  </a:lnTo>
                  <a:lnTo>
                    <a:pt x="1393" y="8"/>
                  </a:lnTo>
                  <a:lnTo>
                    <a:pt x="1378" y="10"/>
                  </a:lnTo>
                  <a:lnTo>
                    <a:pt x="1361" y="13"/>
                  </a:lnTo>
                  <a:lnTo>
                    <a:pt x="1345" y="16"/>
                  </a:lnTo>
                  <a:lnTo>
                    <a:pt x="1328" y="20"/>
                  </a:lnTo>
                  <a:lnTo>
                    <a:pt x="1311" y="24"/>
                  </a:lnTo>
                  <a:lnTo>
                    <a:pt x="1293" y="28"/>
                  </a:lnTo>
                  <a:lnTo>
                    <a:pt x="1275" y="33"/>
                  </a:lnTo>
                  <a:lnTo>
                    <a:pt x="1257" y="38"/>
                  </a:lnTo>
                  <a:lnTo>
                    <a:pt x="1238" y="43"/>
                  </a:lnTo>
                  <a:lnTo>
                    <a:pt x="1220" y="49"/>
                  </a:lnTo>
                  <a:lnTo>
                    <a:pt x="1200" y="56"/>
                  </a:lnTo>
                  <a:lnTo>
                    <a:pt x="1181" y="63"/>
                  </a:lnTo>
                  <a:lnTo>
                    <a:pt x="1161" y="71"/>
                  </a:lnTo>
                  <a:lnTo>
                    <a:pt x="1143" y="78"/>
                  </a:lnTo>
                  <a:lnTo>
                    <a:pt x="1123" y="87"/>
                  </a:lnTo>
                  <a:lnTo>
                    <a:pt x="1103" y="95"/>
                  </a:lnTo>
                  <a:lnTo>
                    <a:pt x="1084" y="105"/>
                  </a:lnTo>
                  <a:lnTo>
                    <a:pt x="1063" y="114"/>
                  </a:lnTo>
                  <a:lnTo>
                    <a:pt x="1044" y="124"/>
                  </a:lnTo>
                  <a:lnTo>
                    <a:pt x="1024" y="133"/>
                  </a:lnTo>
                  <a:lnTo>
                    <a:pt x="1004" y="145"/>
                  </a:lnTo>
                  <a:lnTo>
                    <a:pt x="985" y="155"/>
                  </a:lnTo>
                  <a:lnTo>
                    <a:pt x="965" y="167"/>
                  </a:lnTo>
                  <a:lnTo>
                    <a:pt x="945" y="178"/>
                  </a:lnTo>
                  <a:lnTo>
                    <a:pt x="925" y="191"/>
                  </a:lnTo>
                  <a:lnTo>
                    <a:pt x="905" y="204"/>
                  </a:lnTo>
                  <a:lnTo>
                    <a:pt x="886" y="216"/>
                  </a:lnTo>
                  <a:lnTo>
                    <a:pt x="847" y="243"/>
                  </a:lnTo>
                  <a:lnTo>
                    <a:pt x="809" y="270"/>
                  </a:lnTo>
                  <a:lnTo>
                    <a:pt x="773" y="299"/>
                  </a:lnTo>
                  <a:lnTo>
                    <a:pt x="737" y="328"/>
                  </a:lnTo>
                  <a:lnTo>
                    <a:pt x="703" y="358"/>
                  </a:lnTo>
                  <a:lnTo>
                    <a:pt x="671" y="387"/>
                  </a:lnTo>
                  <a:lnTo>
                    <a:pt x="638" y="417"/>
                  </a:lnTo>
                  <a:lnTo>
                    <a:pt x="608" y="446"/>
                  </a:lnTo>
                  <a:lnTo>
                    <a:pt x="581" y="474"/>
                  </a:lnTo>
                  <a:lnTo>
                    <a:pt x="554" y="502"/>
                  </a:lnTo>
                  <a:lnTo>
                    <a:pt x="529" y="529"/>
                  </a:lnTo>
                  <a:lnTo>
                    <a:pt x="506" y="555"/>
                  </a:lnTo>
                  <a:lnTo>
                    <a:pt x="485" y="579"/>
                  </a:lnTo>
                  <a:lnTo>
                    <a:pt x="466" y="602"/>
                  </a:lnTo>
                  <a:lnTo>
                    <a:pt x="449" y="623"/>
                  </a:lnTo>
                  <a:lnTo>
                    <a:pt x="434" y="642"/>
                  </a:lnTo>
                  <a:lnTo>
                    <a:pt x="421" y="658"/>
                  </a:lnTo>
                  <a:lnTo>
                    <a:pt x="406" y="673"/>
                  </a:lnTo>
                  <a:lnTo>
                    <a:pt x="391" y="686"/>
                  </a:lnTo>
                  <a:lnTo>
                    <a:pt x="376" y="699"/>
                  </a:lnTo>
                  <a:lnTo>
                    <a:pt x="360" y="709"/>
                  </a:lnTo>
                  <a:lnTo>
                    <a:pt x="343" y="720"/>
                  </a:lnTo>
                  <a:lnTo>
                    <a:pt x="327" y="728"/>
                  </a:lnTo>
                  <a:lnTo>
                    <a:pt x="310" y="736"/>
                  </a:lnTo>
                  <a:lnTo>
                    <a:pt x="293" y="743"/>
                  </a:lnTo>
                  <a:lnTo>
                    <a:pt x="276" y="749"/>
                  </a:lnTo>
                  <a:lnTo>
                    <a:pt x="258" y="753"/>
                  </a:lnTo>
                  <a:lnTo>
                    <a:pt x="241" y="759"/>
                  </a:lnTo>
                  <a:lnTo>
                    <a:pt x="224" y="762"/>
                  </a:lnTo>
                  <a:lnTo>
                    <a:pt x="206" y="766"/>
                  </a:lnTo>
                  <a:lnTo>
                    <a:pt x="189" y="769"/>
                  </a:lnTo>
                  <a:lnTo>
                    <a:pt x="172" y="773"/>
                  </a:lnTo>
                  <a:lnTo>
                    <a:pt x="137" y="779"/>
                  </a:lnTo>
                  <a:lnTo>
                    <a:pt x="105" y="784"/>
                  </a:lnTo>
                  <a:lnTo>
                    <a:pt x="75" y="789"/>
                  </a:lnTo>
                  <a:lnTo>
                    <a:pt x="50" y="794"/>
                  </a:lnTo>
                  <a:lnTo>
                    <a:pt x="28" y="798"/>
                  </a:lnTo>
                  <a:lnTo>
                    <a:pt x="13" y="803"/>
                  </a:lnTo>
                  <a:lnTo>
                    <a:pt x="3" y="807"/>
                  </a:lnTo>
                  <a:lnTo>
                    <a:pt x="0" y="812"/>
                  </a:lnTo>
                  <a:lnTo>
                    <a:pt x="3" y="814"/>
                  </a:lnTo>
                  <a:lnTo>
                    <a:pt x="6" y="816"/>
                  </a:lnTo>
                  <a:lnTo>
                    <a:pt x="12" y="818"/>
                  </a:lnTo>
                  <a:lnTo>
                    <a:pt x="20" y="819"/>
                  </a:lnTo>
                  <a:lnTo>
                    <a:pt x="28" y="819"/>
                  </a:lnTo>
                  <a:lnTo>
                    <a:pt x="38" y="820"/>
                  </a:lnTo>
                  <a:lnTo>
                    <a:pt x="50" y="820"/>
                  </a:lnTo>
                  <a:lnTo>
                    <a:pt x="63" y="820"/>
                  </a:lnTo>
                  <a:lnTo>
                    <a:pt x="75" y="820"/>
                  </a:lnTo>
                  <a:lnTo>
                    <a:pt x="90" y="820"/>
                  </a:lnTo>
                  <a:lnTo>
                    <a:pt x="105" y="819"/>
                  </a:lnTo>
                  <a:lnTo>
                    <a:pt x="121" y="818"/>
                  </a:lnTo>
                  <a:lnTo>
                    <a:pt x="137" y="817"/>
                  </a:lnTo>
                  <a:lnTo>
                    <a:pt x="155" y="816"/>
                  </a:lnTo>
                  <a:lnTo>
                    <a:pt x="172" y="813"/>
                  </a:lnTo>
                  <a:lnTo>
                    <a:pt x="189" y="811"/>
                  </a:lnTo>
                  <a:lnTo>
                    <a:pt x="206" y="809"/>
                  </a:lnTo>
                  <a:lnTo>
                    <a:pt x="225" y="805"/>
                  </a:lnTo>
                  <a:lnTo>
                    <a:pt x="242" y="802"/>
                  </a:lnTo>
                  <a:lnTo>
                    <a:pt x="261" y="798"/>
                  </a:lnTo>
                  <a:lnTo>
                    <a:pt x="278" y="794"/>
                  </a:lnTo>
                  <a:lnTo>
                    <a:pt x="295" y="789"/>
                  </a:lnTo>
                  <a:lnTo>
                    <a:pt x="312" y="783"/>
                  </a:lnTo>
                  <a:lnTo>
                    <a:pt x="330" y="776"/>
                  </a:lnTo>
                  <a:lnTo>
                    <a:pt x="346" y="769"/>
                  </a:lnTo>
                  <a:lnTo>
                    <a:pt x="363" y="760"/>
                  </a:lnTo>
                  <a:lnTo>
                    <a:pt x="379" y="751"/>
                  </a:lnTo>
                  <a:lnTo>
                    <a:pt x="395" y="741"/>
                  </a:lnTo>
                  <a:lnTo>
                    <a:pt x="410" y="728"/>
                  </a:lnTo>
                  <a:lnTo>
                    <a:pt x="425" y="715"/>
                  </a:lnTo>
                  <a:lnTo>
                    <a:pt x="440" y="700"/>
                  </a:lnTo>
                  <a:lnTo>
                    <a:pt x="454" y="684"/>
                  </a:lnTo>
                  <a:lnTo>
                    <a:pt x="469" y="667"/>
                  </a:lnTo>
                  <a:lnTo>
                    <a:pt x="486" y="646"/>
                  </a:lnTo>
                  <a:lnTo>
                    <a:pt x="505" y="625"/>
                  </a:lnTo>
                  <a:lnTo>
                    <a:pt x="527" y="602"/>
                  </a:lnTo>
                  <a:lnTo>
                    <a:pt x="550" y="578"/>
                  </a:lnTo>
                  <a:lnTo>
                    <a:pt x="574" y="553"/>
                  </a:lnTo>
                  <a:lnTo>
                    <a:pt x="601" y="526"/>
                  </a:lnTo>
                  <a:lnTo>
                    <a:pt x="630" y="500"/>
                  </a:lnTo>
                  <a:lnTo>
                    <a:pt x="660" y="472"/>
                  </a:lnTo>
                  <a:lnTo>
                    <a:pt x="691" y="444"/>
                  </a:lnTo>
                  <a:lnTo>
                    <a:pt x="725" y="417"/>
                  </a:lnTo>
                  <a:lnTo>
                    <a:pt x="759" y="389"/>
                  </a:lnTo>
                  <a:lnTo>
                    <a:pt x="795" y="363"/>
                  </a:lnTo>
                  <a:lnTo>
                    <a:pt x="832" y="335"/>
                  </a:lnTo>
                  <a:lnTo>
                    <a:pt x="870" y="310"/>
                  </a:lnTo>
                  <a:lnTo>
                    <a:pt x="909" y="284"/>
                  </a:lnTo>
                  <a:lnTo>
                    <a:pt x="948" y="260"/>
                  </a:lnTo>
                  <a:lnTo>
                    <a:pt x="988" y="238"/>
                  </a:lnTo>
                  <a:lnTo>
                    <a:pt x="1029" y="216"/>
                  </a:lnTo>
                  <a:lnTo>
                    <a:pt x="1069" y="197"/>
                  </a:lnTo>
                  <a:lnTo>
                    <a:pt x="1109" y="179"/>
                  </a:lnTo>
                  <a:lnTo>
                    <a:pt x="1148" y="162"/>
                  </a:lnTo>
                  <a:lnTo>
                    <a:pt x="1188" y="147"/>
                  </a:lnTo>
                  <a:lnTo>
                    <a:pt x="1226" y="132"/>
                  </a:lnTo>
                  <a:lnTo>
                    <a:pt x="1264" y="119"/>
                  </a:lnTo>
                  <a:lnTo>
                    <a:pt x="1299" y="109"/>
                  </a:lnTo>
                  <a:lnTo>
                    <a:pt x="1335" y="99"/>
                  </a:lnTo>
                  <a:lnTo>
                    <a:pt x="1368" y="91"/>
                  </a:lnTo>
                  <a:lnTo>
                    <a:pt x="1401" y="83"/>
                  </a:lnTo>
                  <a:lnTo>
                    <a:pt x="1432" y="77"/>
                  </a:lnTo>
                  <a:lnTo>
                    <a:pt x="1460" y="73"/>
                  </a:lnTo>
                  <a:lnTo>
                    <a:pt x="1487" y="70"/>
                  </a:lnTo>
                  <a:lnTo>
                    <a:pt x="1538" y="66"/>
                  </a:lnTo>
                  <a:lnTo>
                    <a:pt x="1586" y="63"/>
                  </a:lnTo>
                  <a:lnTo>
                    <a:pt x="1634" y="62"/>
                  </a:lnTo>
                  <a:lnTo>
                    <a:pt x="1680" y="61"/>
                  </a:lnTo>
                  <a:lnTo>
                    <a:pt x="1724" y="61"/>
                  </a:lnTo>
                  <a:lnTo>
                    <a:pt x="1767" y="61"/>
                  </a:lnTo>
                  <a:lnTo>
                    <a:pt x="1807" y="62"/>
                  </a:lnTo>
                  <a:lnTo>
                    <a:pt x="1845" y="64"/>
                  </a:lnTo>
                  <a:lnTo>
                    <a:pt x="1882" y="66"/>
                  </a:lnTo>
                  <a:lnTo>
                    <a:pt x="1915" y="69"/>
                  </a:lnTo>
                  <a:lnTo>
                    <a:pt x="1948" y="71"/>
                  </a:lnTo>
                  <a:lnTo>
                    <a:pt x="1977" y="75"/>
                  </a:lnTo>
                  <a:lnTo>
                    <a:pt x="2004" y="77"/>
                  </a:lnTo>
                  <a:lnTo>
                    <a:pt x="2028" y="79"/>
                  </a:lnTo>
                  <a:lnTo>
                    <a:pt x="2050" y="83"/>
                  </a:lnTo>
                  <a:lnTo>
                    <a:pt x="2070" y="85"/>
                  </a:lnTo>
                  <a:lnTo>
                    <a:pt x="2087" y="88"/>
                  </a:lnTo>
                  <a:lnTo>
                    <a:pt x="2106" y="92"/>
                  </a:lnTo>
                  <a:lnTo>
                    <a:pt x="2125" y="96"/>
                  </a:lnTo>
                  <a:lnTo>
                    <a:pt x="2144" y="101"/>
                  </a:lnTo>
                  <a:lnTo>
                    <a:pt x="2163" y="107"/>
                  </a:lnTo>
                  <a:lnTo>
                    <a:pt x="2181" y="113"/>
                  </a:lnTo>
                  <a:lnTo>
                    <a:pt x="2199" y="117"/>
                  </a:lnTo>
                  <a:lnTo>
                    <a:pt x="2215" y="122"/>
                  </a:lnTo>
                  <a:lnTo>
                    <a:pt x="2210" y="123"/>
                  </a:lnTo>
                  <a:lnTo>
                    <a:pt x="2204" y="125"/>
                  </a:lnTo>
                  <a:lnTo>
                    <a:pt x="2199" y="128"/>
                  </a:lnTo>
                  <a:lnTo>
                    <a:pt x="2194" y="129"/>
                  </a:lnTo>
                  <a:lnTo>
                    <a:pt x="2179" y="137"/>
                  </a:lnTo>
                  <a:lnTo>
                    <a:pt x="2166" y="146"/>
                  </a:lnTo>
                  <a:lnTo>
                    <a:pt x="2156" y="158"/>
                  </a:lnTo>
                  <a:lnTo>
                    <a:pt x="2146" y="170"/>
                  </a:lnTo>
                  <a:lnTo>
                    <a:pt x="2136" y="184"/>
                  </a:lnTo>
                  <a:lnTo>
                    <a:pt x="2126" y="198"/>
                  </a:lnTo>
                  <a:lnTo>
                    <a:pt x="2115" y="213"/>
                  </a:lnTo>
                  <a:lnTo>
                    <a:pt x="2101" y="227"/>
                  </a:lnTo>
                  <a:lnTo>
                    <a:pt x="2086" y="238"/>
                  </a:lnTo>
                  <a:lnTo>
                    <a:pt x="2073" y="245"/>
                  </a:lnTo>
                  <a:lnTo>
                    <a:pt x="2062" y="249"/>
                  </a:lnTo>
                  <a:lnTo>
                    <a:pt x="2052" y="250"/>
                  </a:lnTo>
                  <a:lnTo>
                    <a:pt x="2044" y="251"/>
                  </a:lnTo>
                  <a:lnTo>
                    <a:pt x="2039" y="251"/>
                  </a:lnTo>
                  <a:lnTo>
                    <a:pt x="2034" y="252"/>
                  </a:lnTo>
                  <a:lnTo>
                    <a:pt x="2032" y="254"/>
                  </a:lnTo>
                  <a:lnTo>
                    <a:pt x="2030" y="262"/>
                  </a:lnTo>
                  <a:lnTo>
                    <a:pt x="2029" y="275"/>
                  </a:lnTo>
                  <a:lnTo>
                    <a:pt x="2030" y="290"/>
                  </a:lnTo>
                  <a:lnTo>
                    <a:pt x="2036" y="305"/>
                  </a:lnTo>
                  <a:lnTo>
                    <a:pt x="2048" y="317"/>
                  </a:lnTo>
                  <a:lnTo>
                    <a:pt x="2066" y="322"/>
                  </a:lnTo>
                  <a:lnTo>
                    <a:pt x="2095" y="319"/>
                  </a:lnTo>
                  <a:lnTo>
                    <a:pt x="2135" y="303"/>
                  </a:lnTo>
                  <a:lnTo>
                    <a:pt x="2161" y="290"/>
                  </a:lnTo>
                  <a:lnTo>
                    <a:pt x="2185" y="277"/>
                  </a:lnTo>
                  <a:lnTo>
                    <a:pt x="2207" y="266"/>
                  </a:lnTo>
                  <a:lnTo>
                    <a:pt x="2226" y="255"/>
                  </a:lnTo>
                  <a:lnTo>
                    <a:pt x="2241" y="246"/>
                  </a:lnTo>
                  <a:lnTo>
                    <a:pt x="2254" y="239"/>
                  </a:lnTo>
                  <a:lnTo>
                    <a:pt x="2262" y="235"/>
                  </a:lnTo>
                  <a:lnTo>
                    <a:pt x="2264" y="234"/>
                  </a:lnTo>
                  <a:lnTo>
                    <a:pt x="2263" y="235"/>
                  </a:lnTo>
                  <a:lnTo>
                    <a:pt x="2262" y="237"/>
                  </a:lnTo>
                  <a:lnTo>
                    <a:pt x="2258" y="242"/>
                  </a:lnTo>
                  <a:lnTo>
                    <a:pt x="2254" y="249"/>
                  </a:lnTo>
                  <a:lnTo>
                    <a:pt x="2247" y="255"/>
                  </a:lnTo>
                  <a:lnTo>
                    <a:pt x="2239" y="265"/>
                  </a:lnTo>
                  <a:lnTo>
                    <a:pt x="2229" y="276"/>
                  </a:lnTo>
                  <a:lnTo>
                    <a:pt x="2217" y="288"/>
                  </a:lnTo>
                  <a:lnTo>
                    <a:pt x="2203" y="300"/>
                  </a:lnTo>
                  <a:lnTo>
                    <a:pt x="2187" y="314"/>
                  </a:lnTo>
                  <a:lnTo>
                    <a:pt x="2170" y="329"/>
                  </a:lnTo>
                  <a:lnTo>
                    <a:pt x="2149" y="344"/>
                  </a:lnTo>
                  <a:lnTo>
                    <a:pt x="2127" y="359"/>
                  </a:lnTo>
                  <a:lnTo>
                    <a:pt x="2103" y="374"/>
                  </a:lnTo>
                  <a:lnTo>
                    <a:pt x="2077" y="388"/>
                  </a:lnTo>
                  <a:lnTo>
                    <a:pt x="2047" y="402"/>
                  </a:lnTo>
                  <a:lnTo>
                    <a:pt x="2027" y="409"/>
                  </a:lnTo>
                  <a:lnTo>
                    <a:pt x="2007" y="414"/>
                  </a:lnTo>
                  <a:lnTo>
                    <a:pt x="1989" y="418"/>
                  </a:lnTo>
                  <a:lnTo>
                    <a:pt x="1972" y="419"/>
                  </a:lnTo>
                  <a:lnTo>
                    <a:pt x="1954" y="420"/>
                  </a:lnTo>
                  <a:lnTo>
                    <a:pt x="1939" y="419"/>
                  </a:lnTo>
                  <a:lnTo>
                    <a:pt x="1925" y="418"/>
                  </a:lnTo>
                  <a:lnTo>
                    <a:pt x="1911" y="416"/>
                  </a:lnTo>
                  <a:lnTo>
                    <a:pt x="1898" y="413"/>
                  </a:lnTo>
                  <a:lnTo>
                    <a:pt x="1887" y="411"/>
                  </a:lnTo>
                  <a:lnTo>
                    <a:pt x="1877" y="408"/>
                  </a:lnTo>
                  <a:lnTo>
                    <a:pt x="1869" y="404"/>
                  </a:lnTo>
                  <a:lnTo>
                    <a:pt x="1862" y="402"/>
                  </a:lnTo>
                  <a:lnTo>
                    <a:pt x="1858" y="400"/>
                  </a:lnTo>
                  <a:lnTo>
                    <a:pt x="1854" y="398"/>
                  </a:lnTo>
                  <a:lnTo>
                    <a:pt x="1853" y="398"/>
                  </a:lnTo>
                  <a:lnTo>
                    <a:pt x="1847" y="401"/>
                  </a:lnTo>
                  <a:lnTo>
                    <a:pt x="1838" y="405"/>
                  </a:lnTo>
                  <a:lnTo>
                    <a:pt x="1827" y="412"/>
                  </a:lnTo>
                  <a:lnTo>
                    <a:pt x="1812" y="421"/>
                  </a:lnTo>
                  <a:lnTo>
                    <a:pt x="1793" y="432"/>
                  </a:lnTo>
                  <a:lnTo>
                    <a:pt x="1773" y="443"/>
                  </a:lnTo>
                  <a:lnTo>
                    <a:pt x="1748" y="457"/>
                  </a:lnTo>
                  <a:lnTo>
                    <a:pt x="1721" y="471"/>
                  </a:lnTo>
                  <a:lnTo>
                    <a:pt x="1690" y="485"/>
                  </a:lnTo>
                  <a:lnTo>
                    <a:pt x="1655" y="500"/>
                  </a:lnTo>
                  <a:lnTo>
                    <a:pt x="1617" y="515"/>
                  </a:lnTo>
                  <a:lnTo>
                    <a:pt x="1576" y="530"/>
                  </a:lnTo>
                  <a:lnTo>
                    <a:pt x="1530" y="545"/>
                  </a:lnTo>
                  <a:lnTo>
                    <a:pt x="1480" y="559"/>
                  </a:lnTo>
                  <a:lnTo>
                    <a:pt x="1427" y="572"/>
                  </a:lnTo>
                  <a:lnTo>
                    <a:pt x="1369" y="585"/>
                  </a:lnTo>
                  <a:lnTo>
                    <a:pt x="1345" y="590"/>
                  </a:lnTo>
                  <a:lnTo>
                    <a:pt x="1321" y="594"/>
                  </a:lnTo>
                  <a:lnTo>
                    <a:pt x="1298" y="598"/>
                  </a:lnTo>
                  <a:lnTo>
                    <a:pt x="1276" y="602"/>
                  </a:lnTo>
                  <a:lnTo>
                    <a:pt x="1254" y="606"/>
                  </a:lnTo>
                  <a:lnTo>
                    <a:pt x="1232" y="609"/>
                  </a:lnTo>
                  <a:lnTo>
                    <a:pt x="1212" y="613"/>
                  </a:lnTo>
                  <a:lnTo>
                    <a:pt x="1192" y="616"/>
                  </a:lnTo>
                  <a:lnTo>
                    <a:pt x="1171" y="620"/>
                  </a:lnTo>
                  <a:lnTo>
                    <a:pt x="1152" y="623"/>
                  </a:lnTo>
                  <a:lnTo>
                    <a:pt x="1132" y="627"/>
                  </a:lnTo>
                  <a:lnTo>
                    <a:pt x="1114" y="630"/>
                  </a:lnTo>
                  <a:lnTo>
                    <a:pt x="1095" y="632"/>
                  </a:lnTo>
                  <a:lnTo>
                    <a:pt x="1077" y="636"/>
                  </a:lnTo>
                  <a:lnTo>
                    <a:pt x="1059" y="639"/>
                  </a:lnTo>
                  <a:lnTo>
                    <a:pt x="1041" y="643"/>
                  </a:lnTo>
                  <a:lnTo>
                    <a:pt x="1024" y="646"/>
                  </a:lnTo>
                  <a:lnTo>
                    <a:pt x="1007" y="650"/>
                  </a:lnTo>
                  <a:lnTo>
                    <a:pt x="989" y="653"/>
                  </a:lnTo>
                  <a:lnTo>
                    <a:pt x="973" y="656"/>
                  </a:lnTo>
                  <a:lnTo>
                    <a:pt x="957" y="660"/>
                  </a:lnTo>
                  <a:lnTo>
                    <a:pt x="941" y="663"/>
                  </a:lnTo>
                  <a:lnTo>
                    <a:pt x="926" y="668"/>
                  </a:lnTo>
                  <a:lnTo>
                    <a:pt x="910" y="671"/>
                  </a:lnTo>
                  <a:lnTo>
                    <a:pt x="895" y="675"/>
                  </a:lnTo>
                  <a:lnTo>
                    <a:pt x="880" y="678"/>
                  </a:lnTo>
                  <a:lnTo>
                    <a:pt x="865" y="683"/>
                  </a:lnTo>
                  <a:lnTo>
                    <a:pt x="851" y="688"/>
                  </a:lnTo>
                  <a:lnTo>
                    <a:pt x="836" y="691"/>
                  </a:lnTo>
                  <a:lnTo>
                    <a:pt x="823" y="696"/>
                  </a:lnTo>
                  <a:lnTo>
                    <a:pt x="809" y="700"/>
                  </a:lnTo>
                  <a:lnTo>
                    <a:pt x="795" y="705"/>
                  </a:lnTo>
                  <a:lnTo>
                    <a:pt x="767" y="714"/>
                  </a:lnTo>
                  <a:lnTo>
                    <a:pt x="741" y="724"/>
                  </a:lnTo>
                  <a:lnTo>
                    <a:pt x="714" y="735"/>
                  </a:lnTo>
                  <a:lnTo>
                    <a:pt x="689" y="745"/>
                  </a:lnTo>
                  <a:lnTo>
                    <a:pt x="665" y="756"/>
                  </a:lnTo>
                  <a:lnTo>
                    <a:pt x="641" y="767"/>
                  </a:lnTo>
                  <a:lnTo>
                    <a:pt x="618" y="779"/>
                  </a:lnTo>
                  <a:lnTo>
                    <a:pt x="595" y="791"/>
                  </a:lnTo>
                  <a:lnTo>
                    <a:pt x="573" y="805"/>
                  </a:lnTo>
                  <a:lnTo>
                    <a:pt x="552" y="819"/>
                  </a:lnTo>
                  <a:lnTo>
                    <a:pt x="531" y="834"/>
                  </a:lnTo>
                  <a:lnTo>
                    <a:pt x="512" y="850"/>
                  </a:lnTo>
                  <a:lnTo>
                    <a:pt x="492" y="866"/>
                  </a:lnTo>
                  <a:lnTo>
                    <a:pt x="474" y="885"/>
                  </a:lnTo>
                  <a:lnTo>
                    <a:pt x="455" y="903"/>
                  </a:lnTo>
                  <a:lnTo>
                    <a:pt x="438" y="924"/>
                  </a:lnTo>
                  <a:lnTo>
                    <a:pt x="423" y="946"/>
                  </a:lnTo>
                  <a:lnTo>
                    <a:pt x="411" y="969"/>
                  </a:lnTo>
                  <a:lnTo>
                    <a:pt x="402" y="993"/>
                  </a:lnTo>
                  <a:lnTo>
                    <a:pt x="395" y="1017"/>
                  </a:lnTo>
                  <a:lnTo>
                    <a:pt x="392" y="1044"/>
                  </a:lnTo>
                  <a:lnTo>
                    <a:pt x="390" y="1070"/>
                  </a:lnTo>
                  <a:lnTo>
                    <a:pt x="390" y="1096"/>
                  </a:lnTo>
                  <a:lnTo>
                    <a:pt x="392" y="1122"/>
                  </a:lnTo>
                  <a:lnTo>
                    <a:pt x="396" y="1147"/>
                  </a:lnTo>
                  <a:lnTo>
                    <a:pt x="402" y="1173"/>
                  </a:lnTo>
                  <a:lnTo>
                    <a:pt x="408" y="1195"/>
                  </a:lnTo>
                  <a:lnTo>
                    <a:pt x="415" y="1214"/>
                  </a:lnTo>
                  <a:lnTo>
                    <a:pt x="422" y="1231"/>
                  </a:lnTo>
                  <a:lnTo>
                    <a:pt x="429" y="1244"/>
                  </a:lnTo>
                  <a:lnTo>
                    <a:pt x="434" y="1253"/>
                  </a:lnTo>
                  <a:lnTo>
                    <a:pt x="438" y="1257"/>
                  </a:lnTo>
                  <a:lnTo>
                    <a:pt x="439" y="1249"/>
                  </a:lnTo>
                  <a:lnTo>
                    <a:pt x="432" y="1223"/>
                  </a:lnTo>
                  <a:lnTo>
                    <a:pt x="423" y="1187"/>
                  </a:lnTo>
                  <a:lnTo>
                    <a:pt x="415" y="1140"/>
                  </a:lnTo>
                  <a:lnTo>
                    <a:pt x="413" y="1115"/>
                  </a:lnTo>
                  <a:lnTo>
                    <a:pt x="413" y="1090"/>
                  </a:lnTo>
                  <a:lnTo>
                    <a:pt x="415" y="1063"/>
                  </a:lnTo>
                  <a:lnTo>
                    <a:pt x="418" y="1038"/>
                  </a:lnTo>
                  <a:lnTo>
                    <a:pt x="425" y="1011"/>
                  </a:lnTo>
                  <a:lnTo>
                    <a:pt x="436" y="985"/>
                  </a:lnTo>
                  <a:lnTo>
                    <a:pt x="448" y="960"/>
                  </a:lnTo>
                  <a:lnTo>
                    <a:pt x="466" y="935"/>
                  </a:lnTo>
                  <a:lnTo>
                    <a:pt x="475" y="924"/>
                  </a:lnTo>
                  <a:lnTo>
                    <a:pt x="486" y="912"/>
                  </a:lnTo>
                  <a:lnTo>
                    <a:pt x="499" y="900"/>
                  </a:lnTo>
                  <a:lnTo>
                    <a:pt x="513" y="887"/>
                  </a:lnTo>
                  <a:lnTo>
                    <a:pt x="529" y="874"/>
                  </a:lnTo>
                  <a:lnTo>
                    <a:pt x="546" y="860"/>
                  </a:lnTo>
                  <a:lnTo>
                    <a:pt x="563" y="848"/>
                  </a:lnTo>
                  <a:lnTo>
                    <a:pt x="583" y="834"/>
                  </a:lnTo>
                  <a:lnTo>
                    <a:pt x="603" y="821"/>
                  </a:lnTo>
                  <a:lnTo>
                    <a:pt x="623" y="807"/>
                  </a:lnTo>
                  <a:lnTo>
                    <a:pt x="644" y="795"/>
                  </a:lnTo>
                  <a:lnTo>
                    <a:pt x="665" y="783"/>
                  </a:lnTo>
                  <a:lnTo>
                    <a:pt x="687" y="772"/>
                  </a:lnTo>
                  <a:lnTo>
                    <a:pt x="709" y="760"/>
                  </a:lnTo>
                  <a:lnTo>
                    <a:pt x="729" y="750"/>
                  </a:lnTo>
                  <a:lnTo>
                    <a:pt x="751" y="741"/>
                  </a:lnTo>
                  <a:lnTo>
                    <a:pt x="741" y="749"/>
                  </a:lnTo>
                  <a:lnTo>
                    <a:pt x="730" y="759"/>
                  </a:lnTo>
                  <a:lnTo>
                    <a:pt x="720" y="771"/>
                  </a:lnTo>
                  <a:lnTo>
                    <a:pt x="710" y="782"/>
                  </a:lnTo>
                  <a:lnTo>
                    <a:pt x="699" y="795"/>
                  </a:lnTo>
                  <a:lnTo>
                    <a:pt x="690" y="807"/>
                  </a:lnTo>
                  <a:lnTo>
                    <a:pt x="683" y="818"/>
                  </a:lnTo>
                  <a:lnTo>
                    <a:pt x="676" y="828"/>
                  </a:lnTo>
                  <a:lnTo>
                    <a:pt x="666" y="844"/>
                  </a:lnTo>
                  <a:lnTo>
                    <a:pt x="654" y="858"/>
                  </a:lnTo>
                  <a:lnTo>
                    <a:pt x="644" y="869"/>
                  </a:lnTo>
                  <a:lnTo>
                    <a:pt x="634" y="878"/>
                  </a:lnTo>
                  <a:lnTo>
                    <a:pt x="624" y="885"/>
                  </a:lnTo>
                  <a:lnTo>
                    <a:pt x="618" y="889"/>
                  </a:lnTo>
                  <a:lnTo>
                    <a:pt x="613" y="892"/>
                  </a:lnTo>
                  <a:lnTo>
                    <a:pt x="612" y="893"/>
                  </a:lnTo>
                  <a:lnTo>
                    <a:pt x="611" y="893"/>
                  </a:lnTo>
                  <a:lnTo>
                    <a:pt x="609" y="893"/>
                  </a:lnTo>
                  <a:lnTo>
                    <a:pt x="606" y="889"/>
                  </a:lnTo>
                  <a:lnTo>
                    <a:pt x="600" y="881"/>
                  </a:lnTo>
                  <a:lnTo>
                    <a:pt x="596" y="871"/>
                  </a:lnTo>
                  <a:lnTo>
                    <a:pt x="595" y="862"/>
                  </a:lnTo>
                  <a:lnTo>
                    <a:pt x="593" y="856"/>
                  </a:lnTo>
                  <a:lnTo>
                    <a:pt x="591" y="854"/>
                  </a:lnTo>
                  <a:lnTo>
                    <a:pt x="585" y="859"/>
                  </a:lnTo>
                  <a:lnTo>
                    <a:pt x="581" y="872"/>
                  </a:lnTo>
                  <a:lnTo>
                    <a:pt x="581" y="888"/>
                  </a:lnTo>
                  <a:lnTo>
                    <a:pt x="585" y="903"/>
                  </a:lnTo>
                  <a:lnTo>
                    <a:pt x="593" y="919"/>
                  </a:lnTo>
                  <a:lnTo>
                    <a:pt x="600" y="935"/>
                  </a:lnTo>
                  <a:lnTo>
                    <a:pt x="605" y="948"/>
                  </a:lnTo>
                  <a:lnTo>
                    <a:pt x="606" y="953"/>
                  </a:lnTo>
                  <a:lnTo>
                    <a:pt x="609" y="950"/>
                  </a:lnTo>
                  <a:lnTo>
                    <a:pt x="616" y="946"/>
                  </a:lnTo>
                  <a:lnTo>
                    <a:pt x="628" y="937"/>
                  </a:lnTo>
                  <a:lnTo>
                    <a:pt x="643" y="924"/>
                  </a:lnTo>
                  <a:lnTo>
                    <a:pt x="659" y="909"/>
                  </a:lnTo>
                  <a:lnTo>
                    <a:pt x="674" y="892"/>
                  </a:lnTo>
                  <a:lnTo>
                    <a:pt x="690" y="871"/>
                  </a:lnTo>
                  <a:lnTo>
                    <a:pt x="703" y="849"/>
                  </a:lnTo>
                  <a:lnTo>
                    <a:pt x="711" y="833"/>
                  </a:lnTo>
                  <a:lnTo>
                    <a:pt x="722" y="816"/>
                  </a:lnTo>
                  <a:lnTo>
                    <a:pt x="734" y="797"/>
                  </a:lnTo>
                  <a:lnTo>
                    <a:pt x="747" y="779"/>
                  </a:lnTo>
                  <a:lnTo>
                    <a:pt x="758" y="761"/>
                  </a:lnTo>
                  <a:lnTo>
                    <a:pt x="771" y="746"/>
                  </a:lnTo>
                  <a:lnTo>
                    <a:pt x="781" y="734"/>
                  </a:lnTo>
                  <a:lnTo>
                    <a:pt x="789" y="727"/>
                  </a:lnTo>
                  <a:lnTo>
                    <a:pt x="794" y="724"/>
                  </a:lnTo>
                  <a:lnTo>
                    <a:pt x="798" y="722"/>
                  </a:lnTo>
                  <a:lnTo>
                    <a:pt x="805" y="720"/>
                  </a:lnTo>
                  <a:lnTo>
                    <a:pt x="813" y="718"/>
                  </a:lnTo>
                  <a:lnTo>
                    <a:pt x="823" y="714"/>
                  </a:lnTo>
                  <a:lnTo>
                    <a:pt x="833" y="711"/>
                  </a:lnTo>
                  <a:lnTo>
                    <a:pt x="843" y="708"/>
                  </a:lnTo>
                  <a:lnTo>
                    <a:pt x="856" y="705"/>
                  </a:lnTo>
                  <a:lnTo>
                    <a:pt x="869" y="701"/>
                  </a:lnTo>
                  <a:lnTo>
                    <a:pt x="884" y="698"/>
                  </a:lnTo>
                  <a:lnTo>
                    <a:pt x="899" y="695"/>
                  </a:lnTo>
                  <a:lnTo>
                    <a:pt x="915" y="692"/>
                  </a:lnTo>
                  <a:lnTo>
                    <a:pt x="931" y="689"/>
                  </a:lnTo>
                  <a:lnTo>
                    <a:pt x="949" y="685"/>
                  </a:lnTo>
                  <a:lnTo>
                    <a:pt x="968" y="683"/>
                  </a:lnTo>
                  <a:lnTo>
                    <a:pt x="987" y="680"/>
                  </a:lnTo>
                  <a:lnTo>
                    <a:pt x="1007" y="677"/>
                  </a:lnTo>
                  <a:lnTo>
                    <a:pt x="1027" y="675"/>
                  </a:lnTo>
                  <a:lnTo>
                    <a:pt x="1048" y="673"/>
                  </a:lnTo>
                  <a:lnTo>
                    <a:pt x="1070" y="671"/>
                  </a:lnTo>
                  <a:lnTo>
                    <a:pt x="1092" y="670"/>
                  </a:lnTo>
                  <a:lnTo>
                    <a:pt x="1115" y="669"/>
                  </a:lnTo>
                  <a:lnTo>
                    <a:pt x="1138" y="667"/>
                  </a:lnTo>
                  <a:lnTo>
                    <a:pt x="1162" y="666"/>
                  </a:lnTo>
                  <a:lnTo>
                    <a:pt x="1186" y="665"/>
                  </a:lnTo>
                  <a:lnTo>
                    <a:pt x="1212" y="662"/>
                  </a:lnTo>
                  <a:lnTo>
                    <a:pt x="1237" y="661"/>
                  </a:lnTo>
                  <a:lnTo>
                    <a:pt x="1264" y="659"/>
                  </a:lnTo>
                  <a:lnTo>
                    <a:pt x="1290" y="656"/>
                  </a:lnTo>
                  <a:lnTo>
                    <a:pt x="1317" y="653"/>
                  </a:lnTo>
                  <a:lnTo>
                    <a:pt x="1344" y="650"/>
                  </a:lnTo>
                  <a:lnTo>
                    <a:pt x="1373" y="646"/>
                  </a:lnTo>
                  <a:lnTo>
                    <a:pt x="1406" y="640"/>
                  </a:lnTo>
                  <a:lnTo>
                    <a:pt x="1439" y="635"/>
                  </a:lnTo>
                  <a:lnTo>
                    <a:pt x="1470" y="628"/>
                  </a:lnTo>
                  <a:lnTo>
                    <a:pt x="1498" y="621"/>
                  </a:lnTo>
                  <a:lnTo>
                    <a:pt x="1526" y="614"/>
                  </a:lnTo>
                  <a:lnTo>
                    <a:pt x="1553" y="606"/>
                  </a:lnTo>
                  <a:lnTo>
                    <a:pt x="1578" y="598"/>
                  </a:lnTo>
                  <a:lnTo>
                    <a:pt x="1602" y="588"/>
                  </a:lnTo>
                  <a:lnTo>
                    <a:pt x="1624" y="580"/>
                  </a:lnTo>
                  <a:lnTo>
                    <a:pt x="1646" y="571"/>
                  </a:lnTo>
                  <a:lnTo>
                    <a:pt x="1665" y="562"/>
                  </a:lnTo>
                  <a:lnTo>
                    <a:pt x="1684" y="553"/>
                  </a:lnTo>
                  <a:lnTo>
                    <a:pt x="1702" y="544"/>
                  </a:lnTo>
                  <a:lnTo>
                    <a:pt x="1718" y="534"/>
                  </a:lnTo>
                  <a:lnTo>
                    <a:pt x="1735" y="524"/>
                  </a:lnTo>
                  <a:lnTo>
                    <a:pt x="1748" y="515"/>
                  </a:lnTo>
                  <a:lnTo>
                    <a:pt x="1774" y="496"/>
                  </a:lnTo>
                  <a:lnTo>
                    <a:pt x="1796" y="480"/>
                  </a:lnTo>
                  <a:lnTo>
                    <a:pt x="1813" y="466"/>
                  </a:lnTo>
                  <a:lnTo>
                    <a:pt x="1827" y="455"/>
                  </a:lnTo>
                  <a:lnTo>
                    <a:pt x="1837" y="444"/>
                  </a:lnTo>
                  <a:lnTo>
                    <a:pt x="1846" y="435"/>
                  </a:lnTo>
                  <a:lnTo>
                    <a:pt x="1852" y="428"/>
                  </a:lnTo>
                  <a:lnTo>
                    <a:pt x="1855" y="421"/>
                  </a:lnTo>
                  <a:lnTo>
                    <a:pt x="1858" y="427"/>
                  </a:lnTo>
                  <a:lnTo>
                    <a:pt x="1861" y="434"/>
                  </a:lnTo>
                  <a:lnTo>
                    <a:pt x="1865" y="441"/>
                  </a:lnTo>
                  <a:lnTo>
                    <a:pt x="1870" y="447"/>
                  </a:lnTo>
                  <a:lnTo>
                    <a:pt x="1877" y="454"/>
                  </a:lnTo>
                  <a:lnTo>
                    <a:pt x="1885" y="459"/>
                  </a:lnTo>
                  <a:lnTo>
                    <a:pt x="1895" y="464"/>
                  </a:lnTo>
                  <a:lnTo>
                    <a:pt x="1906" y="469"/>
                  </a:lnTo>
                  <a:lnTo>
                    <a:pt x="1918" y="472"/>
                  </a:lnTo>
                  <a:lnTo>
                    <a:pt x="1931" y="473"/>
                  </a:lnTo>
                  <a:lnTo>
                    <a:pt x="1946" y="473"/>
                  </a:lnTo>
                  <a:lnTo>
                    <a:pt x="1964" y="472"/>
                  </a:lnTo>
                  <a:lnTo>
                    <a:pt x="1982" y="469"/>
                  </a:lnTo>
                  <a:lnTo>
                    <a:pt x="2002" y="464"/>
                  </a:lnTo>
                  <a:lnTo>
                    <a:pt x="2022" y="456"/>
                  </a:lnTo>
                  <a:lnTo>
                    <a:pt x="2045" y="446"/>
                  </a:lnTo>
                  <a:lnTo>
                    <a:pt x="2070" y="433"/>
                  </a:lnTo>
                  <a:lnTo>
                    <a:pt x="2093" y="419"/>
                  </a:lnTo>
                  <a:lnTo>
                    <a:pt x="2115" y="406"/>
                  </a:lnTo>
                  <a:lnTo>
                    <a:pt x="2134" y="394"/>
                  </a:lnTo>
                  <a:lnTo>
                    <a:pt x="2151" y="381"/>
                  </a:lnTo>
                  <a:lnTo>
                    <a:pt x="2167" y="368"/>
                  </a:lnTo>
                  <a:lnTo>
                    <a:pt x="2182" y="357"/>
                  </a:lnTo>
                  <a:lnTo>
                    <a:pt x="2196" y="344"/>
                  </a:lnTo>
                  <a:lnTo>
                    <a:pt x="2208" y="333"/>
                  </a:lnTo>
                  <a:lnTo>
                    <a:pt x="2218" y="322"/>
                  </a:lnTo>
                  <a:lnTo>
                    <a:pt x="2229" y="312"/>
                  </a:lnTo>
                  <a:lnTo>
                    <a:pt x="2238" y="303"/>
                  </a:lnTo>
                  <a:lnTo>
                    <a:pt x="2245" y="294"/>
                  </a:lnTo>
                  <a:lnTo>
                    <a:pt x="2252" y="284"/>
                  </a:lnTo>
                  <a:lnTo>
                    <a:pt x="2257" y="277"/>
                  </a:lnTo>
                  <a:lnTo>
                    <a:pt x="2263" y="270"/>
                  </a:lnTo>
                  <a:lnTo>
                    <a:pt x="2279" y="243"/>
                  </a:lnTo>
                  <a:lnTo>
                    <a:pt x="2287" y="220"/>
                  </a:lnTo>
                  <a:lnTo>
                    <a:pt x="2288" y="204"/>
                  </a:lnTo>
                  <a:lnTo>
                    <a:pt x="228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9440" y="5531040"/>
              <a:ext cx="190440" cy="212760"/>
            </a:xfrm>
            <a:custGeom>
              <a:avLst/>
              <a:gdLst/>
              <a:ahLst/>
              <a:rect l="l" t="t" r="r" b="b"/>
              <a:pathLst>
                <a:path w="241" h="268">
                  <a:moveTo>
                    <a:pt x="147" y="194"/>
                  </a:moveTo>
                  <a:lnTo>
                    <a:pt x="136" y="154"/>
                  </a:lnTo>
                  <a:lnTo>
                    <a:pt x="135" y="119"/>
                  </a:lnTo>
                  <a:lnTo>
                    <a:pt x="136" y="93"/>
                  </a:lnTo>
                  <a:lnTo>
                    <a:pt x="138" y="83"/>
                  </a:lnTo>
                  <a:lnTo>
                    <a:pt x="137" y="84"/>
                  </a:lnTo>
                  <a:lnTo>
                    <a:pt x="133" y="86"/>
                  </a:lnTo>
                  <a:lnTo>
                    <a:pt x="126" y="89"/>
                  </a:lnTo>
                  <a:lnTo>
                    <a:pt x="115" y="91"/>
                  </a:lnTo>
                  <a:lnTo>
                    <a:pt x="104" y="91"/>
                  </a:lnTo>
                  <a:lnTo>
                    <a:pt x="89" y="90"/>
                  </a:lnTo>
                  <a:lnTo>
                    <a:pt x="73" y="85"/>
                  </a:lnTo>
                  <a:lnTo>
                    <a:pt x="54" y="76"/>
                  </a:lnTo>
                  <a:lnTo>
                    <a:pt x="42" y="66"/>
                  </a:lnTo>
                  <a:lnTo>
                    <a:pt x="30" y="54"/>
                  </a:lnTo>
                  <a:lnTo>
                    <a:pt x="21" y="41"/>
                  </a:lnTo>
                  <a:lnTo>
                    <a:pt x="13" y="29"/>
                  </a:lnTo>
                  <a:lnTo>
                    <a:pt x="7" y="18"/>
                  </a:lnTo>
                  <a:lnTo>
                    <a:pt x="4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6" y="10"/>
                  </a:lnTo>
                  <a:lnTo>
                    <a:pt x="27" y="17"/>
                  </a:lnTo>
                  <a:lnTo>
                    <a:pt x="39" y="24"/>
                  </a:lnTo>
                  <a:lnTo>
                    <a:pt x="53" y="32"/>
                  </a:lnTo>
                  <a:lnTo>
                    <a:pt x="68" y="39"/>
                  </a:lnTo>
                  <a:lnTo>
                    <a:pt x="83" y="46"/>
                  </a:lnTo>
                  <a:lnTo>
                    <a:pt x="98" y="51"/>
                  </a:lnTo>
                  <a:lnTo>
                    <a:pt x="112" y="53"/>
                  </a:lnTo>
                  <a:lnTo>
                    <a:pt x="126" y="55"/>
                  </a:lnTo>
                  <a:lnTo>
                    <a:pt x="138" y="55"/>
                  </a:lnTo>
                  <a:lnTo>
                    <a:pt x="150" y="55"/>
                  </a:lnTo>
                  <a:lnTo>
                    <a:pt x="158" y="54"/>
                  </a:lnTo>
                  <a:lnTo>
                    <a:pt x="162" y="53"/>
                  </a:lnTo>
                  <a:lnTo>
                    <a:pt x="165" y="53"/>
                  </a:lnTo>
                  <a:lnTo>
                    <a:pt x="165" y="65"/>
                  </a:lnTo>
                  <a:lnTo>
                    <a:pt x="165" y="91"/>
                  </a:lnTo>
                  <a:lnTo>
                    <a:pt x="167" y="124"/>
                  </a:lnTo>
                  <a:lnTo>
                    <a:pt x="173" y="157"/>
                  </a:lnTo>
                  <a:lnTo>
                    <a:pt x="180" y="172"/>
                  </a:lnTo>
                  <a:lnTo>
                    <a:pt x="189" y="190"/>
                  </a:lnTo>
                  <a:lnTo>
                    <a:pt x="200" y="209"/>
                  </a:lnTo>
                  <a:lnTo>
                    <a:pt x="212" y="226"/>
                  </a:lnTo>
                  <a:lnTo>
                    <a:pt x="222" y="243"/>
                  </a:lnTo>
                  <a:lnTo>
                    <a:pt x="232" y="256"/>
                  </a:lnTo>
                  <a:lnTo>
                    <a:pt x="238" y="265"/>
                  </a:lnTo>
                  <a:lnTo>
                    <a:pt x="241" y="268"/>
                  </a:lnTo>
                  <a:lnTo>
                    <a:pt x="237" y="267"/>
                  </a:lnTo>
                  <a:lnTo>
                    <a:pt x="228" y="262"/>
                  </a:lnTo>
                  <a:lnTo>
                    <a:pt x="215" y="255"/>
                  </a:lnTo>
                  <a:lnTo>
                    <a:pt x="200" y="244"/>
                  </a:lnTo>
                  <a:lnTo>
                    <a:pt x="184" y="234"/>
                  </a:lnTo>
                  <a:lnTo>
                    <a:pt x="169" y="221"/>
                  </a:lnTo>
                  <a:lnTo>
                    <a:pt x="157" y="207"/>
                  </a:lnTo>
                  <a:lnTo>
                    <a:pt x="147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16440" y="4908960"/>
              <a:ext cx="44280" cy="554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29" y="36"/>
                  </a:moveTo>
                  <a:lnTo>
                    <a:pt x="28" y="26"/>
                  </a:lnTo>
                  <a:lnTo>
                    <a:pt x="30" y="15"/>
                  </a:lnTo>
                  <a:lnTo>
                    <a:pt x="34" y="7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18" y="5"/>
                  </a:lnTo>
                  <a:lnTo>
                    <a:pt x="7" y="15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3" y="69"/>
                  </a:lnTo>
                  <a:lnTo>
                    <a:pt x="40" y="71"/>
                  </a:lnTo>
                  <a:lnTo>
                    <a:pt x="46" y="69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5" y="66"/>
                  </a:lnTo>
                  <a:lnTo>
                    <a:pt x="57" y="65"/>
                  </a:lnTo>
                  <a:lnTo>
                    <a:pt x="48" y="61"/>
                  </a:lnTo>
                  <a:lnTo>
                    <a:pt x="40" y="56"/>
                  </a:lnTo>
                  <a:lnTo>
                    <a:pt x="34" y="46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13080" y="4973760"/>
              <a:ext cx="176400" cy="20664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122" y="0"/>
                  </a:moveTo>
                  <a:lnTo>
                    <a:pt x="117" y="0"/>
                  </a:lnTo>
                  <a:lnTo>
                    <a:pt x="102" y="3"/>
                  </a:lnTo>
                  <a:lnTo>
                    <a:pt x="81" y="11"/>
                  </a:lnTo>
                  <a:lnTo>
                    <a:pt x="57" y="28"/>
                  </a:lnTo>
                  <a:lnTo>
                    <a:pt x="34" y="58"/>
                  </a:lnTo>
                  <a:lnTo>
                    <a:pt x="14" y="103"/>
                  </a:lnTo>
                  <a:lnTo>
                    <a:pt x="3" y="167"/>
                  </a:lnTo>
                  <a:lnTo>
                    <a:pt x="0" y="255"/>
                  </a:lnTo>
                  <a:lnTo>
                    <a:pt x="3" y="255"/>
                  </a:lnTo>
                  <a:lnTo>
                    <a:pt x="8" y="257"/>
                  </a:lnTo>
                  <a:lnTo>
                    <a:pt x="18" y="258"/>
                  </a:lnTo>
                  <a:lnTo>
                    <a:pt x="29" y="260"/>
                  </a:lnTo>
                  <a:lnTo>
                    <a:pt x="44" y="261"/>
                  </a:lnTo>
                  <a:lnTo>
                    <a:pt x="60" y="261"/>
                  </a:lnTo>
                  <a:lnTo>
                    <a:pt x="78" y="260"/>
                  </a:lnTo>
                  <a:lnTo>
                    <a:pt x="97" y="256"/>
                  </a:lnTo>
                  <a:lnTo>
                    <a:pt x="116" y="250"/>
                  </a:lnTo>
                  <a:lnTo>
                    <a:pt x="135" y="243"/>
                  </a:lnTo>
                  <a:lnTo>
                    <a:pt x="154" y="232"/>
                  </a:lnTo>
                  <a:lnTo>
                    <a:pt x="171" y="218"/>
                  </a:lnTo>
                  <a:lnTo>
                    <a:pt x="187" y="200"/>
                  </a:lnTo>
                  <a:lnTo>
                    <a:pt x="201" y="177"/>
                  </a:lnTo>
                  <a:lnTo>
                    <a:pt x="212" y="149"/>
                  </a:lnTo>
                  <a:lnTo>
                    <a:pt x="222" y="117"/>
                  </a:lnTo>
                  <a:lnTo>
                    <a:pt x="217" y="121"/>
                  </a:lnTo>
                  <a:lnTo>
                    <a:pt x="205" y="134"/>
                  </a:lnTo>
                  <a:lnTo>
                    <a:pt x="188" y="150"/>
                  </a:lnTo>
                  <a:lnTo>
                    <a:pt x="164" y="167"/>
                  </a:lnTo>
                  <a:lnTo>
                    <a:pt x="137" y="185"/>
                  </a:lnTo>
                  <a:lnTo>
                    <a:pt x="108" y="196"/>
                  </a:lnTo>
                  <a:lnTo>
                    <a:pt x="76" y="200"/>
                  </a:lnTo>
                  <a:lnTo>
                    <a:pt x="44" y="194"/>
                  </a:lnTo>
                  <a:lnTo>
                    <a:pt x="43" y="188"/>
                  </a:lnTo>
                  <a:lnTo>
                    <a:pt x="41" y="171"/>
                  </a:lnTo>
                  <a:lnTo>
                    <a:pt x="40" y="147"/>
                  </a:lnTo>
                  <a:lnTo>
                    <a:pt x="42" y="118"/>
                  </a:lnTo>
                  <a:lnTo>
                    <a:pt x="49" y="86"/>
                  </a:lnTo>
                  <a:lnTo>
                    <a:pt x="63" y="53"/>
                  </a:lnTo>
                  <a:lnTo>
                    <a:pt x="87" y="2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3680" y="490716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46" y="0"/>
                  </a:moveTo>
                  <a:lnTo>
                    <a:pt x="45" y="1"/>
                  </a:lnTo>
                  <a:lnTo>
                    <a:pt x="40" y="6"/>
                  </a:lnTo>
                  <a:lnTo>
                    <a:pt x="35" y="12"/>
                  </a:lnTo>
                  <a:lnTo>
                    <a:pt x="27" y="21"/>
                  </a:lnTo>
                  <a:lnTo>
                    <a:pt x="20" y="31"/>
                  </a:lnTo>
                  <a:lnTo>
                    <a:pt x="13" y="44"/>
                  </a:lnTo>
                  <a:lnTo>
                    <a:pt x="6" y="58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1" y="108"/>
                  </a:lnTo>
                  <a:lnTo>
                    <a:pt x="7" y="127"/>
                  </a:lnTo>
                  <a:lnTo>
                    <a:pt x="19" y="145"/>
                  </a:lnTo>
                  <a:lnTo>
                    <a:pt x="35" y="165"/>
                  </a:lnTo>
                  <a:lnTo>
                    <a:pt x="57" y="184"/>
                  </a:lnTo>
                  <a:lnTo>
                    <a:pt x="86" y="203"/>
                  </a:lnTo>
                  <a:lnTo>
                    <a:pt x="123" y="223"/>
                  </a:lnTo>
                  <a:lnTo>
                    <a:pt x="118" y="218"/>
                  </a:lnTo>
                  <a:lnTo>
                    <a:pt x="101" y="206"/>
                  </a:lnTo>
                  <a:lnTo>
                    <a:pt x="82" y="188"/>
                  </a:lnTo>
                  <a:lnTo>
                    <a:pt x="60" y="161"/>
                  </a:lnTo>
                  <a:lnTo>
                    <a:pt x="42" y="129"/>
                  </a:lnTo>
                  <a:lnTo>
                    <a:pt x="30" y="91"/>
                  </a:lnTo>
                  <a:lnTo>
                    <a:pt x="30" y="4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4560" y="4845240"/>
              <a:ext cx="325440" cy="44640"/>
            </a:xfrm>
            <a:custGeom>
              <a:avLst/>
              <a:gdLst/>
              <a:ahLst/>
              <a:rect l="l" t="t" r="r" b="b"/>
              <a:pathLst>
                <a:path w="410" h="55">
                  <a:moveTo>
                    <a:pt x="410" y="33"/>
                  </a:moveTo>
                  <a:lnTo>
                    <a:pt x="408" y="32"/>
                  </a:lnTo>
                  <a:lnTo>
                    <a:pt x="400" y="30"/>
                  </a:lnTo>
                  <a:lnTo>
                    <a:pt x="387" y="26"/>
                  </a:lnTo>
                  <a:lnTo>
                    <a:pt x="371" y="21"/>
                  </a:lnTo>
                  <a:lnTo>
                    <a:pt x="350" y="16"/>
                  </a:lnTo>
                  <a:lnTo>
                    <a:pt x="327" y="11"/>
                  </a:lnTo>
                  <a:lnTo>
                    <a:pt x="301" y="7"/>
                  </a:lnTo>
                  <a:lnTo>
                    <a:pt x="272" y="2"/>
                  </a:lnTo>
                  <a:lnTo>
                    <a:pt x="241" y="0"/>
                  </a:lnTo>
                  <a:lnTo>
                    <a:pt x="207" y="0"/>
                  </a:lnTo>
                  <a:lnTo>
                    <a:pt x="174" y="1"/>
                  </a:lnTo>
                  <a:lnTo>
                    <a:pt x="140" y="6"/>
                  </a:lnTo>
                  <a:lnTo>
                    <a:pt x="104" y="13"/>
                  </a:lnTo>
                  <a:lnTo>
                    <a:pt x="69" y="23"/>
                  </a:lnTo>
                  <a:lnTo>
                    <a:pt x="34" y="37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12" y="53"/>
                  </a:lnTo>
                  <a:lnTo>
                    <a:pt x="24" y="51"/>
                  </a:lnTo>
                  <a:lnTo>
                    <a:pt x="42" y="47"/>
                  </a:lnTo>
                  <a:lnTo>
                    <a:pt x="62" y="44"/>
                  </a:lnTo>
                  <a:lnTo>
                    <a:pt x="88" y="39"/>
                  </a:lnTo>
                  <a:lnTo>
                    <a:pt x="115" y="36"/>
                  </a:lnTo>
                  <a:lnTo>
                    <a:pt x="145" y="32"/>
                  </a:lnTo>
                  <a:lnTo>
                    <a:pt x="176" y="29"/>
                  </a:lnTo>
                  <a:lnTo>
                    <a:pt x="210" y="25"/>
                  </a:lnTo>
                  <a:lnTo>
                    <a:pt x="243" y="24"/>
                  </a:lnTo>
                  <a:lnTo>
                    <a:pt x="278" y="23"/>
                  </a:lnTo>
                  <a:lnTo>
                    <a:pt x="312" y="23"/>
                  </a:lnTo>
                  <a:lnTo>
                    <a:pt x="347" y="24"/>
                  </a:lnTo>
                  <a:lnTo>
                    <a:pt x="379" y="28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71800" y="4881960"/>
              <a:ext cx="81000" cy="9180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0"/>
                  </a:moveTo>
                  <a:lnTo>
                    <a:pt x="3" y="1"/>
                  </a:lnTo>
                  <a:lnTo>
                    <a:pt x="14" y="7"/>
                  </a:lnTo>
                  <a:lnTo>
                    <a:pt x="28" y="15"/>
                  </a:lnTo>
                  <a:lnTo>
                    <a:pt x="44" y="26"/>
                  </a:lnTo>
                  <a:lnTo>
                    <a:pt x="59" y="42"/>
                  </a:lnTo>
                  <a:lnTo>
                    <a:pt x="72" y="63"/>
                  </a:lnTo>
                  <a:lnTo>
                    <a:pt x="81" y="87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92" y="99"/>
                  </a:lnTo>
                  <a:lnTo>
                    <a:pt x="99" y="81"/>
                  </a:lnTo>
                  <a:lnTo>
                    <a:pt x="101" y="60"/>
                  </a:lnTo>
                  <a:lnTo>
                    <a:pt x="97" y="39"/>
                  </a:lnTo>
                  <a:lnTo>
                    <a:pt x="81" y="21"/>
                  </a:lnTo>
                  <a:lnTo>
                    <a:pt x="4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2573280" cy="1272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200400" y="4343400"/>
            <a:ext cx="22273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features influenced Virginia by provi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lent source of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way for further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825560" cy="130320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962520" y="5029200"/>
            <a:ext cx="1836720" cy="1157400"/>
            <a:chOff x="3962520" y="5029200"/>
            <a:chExt cx="1836720" cy="1157400"/>
          </a:xfrm>
        </p:grpSpPr>
        <p:sp>
          <p:nvSpPr>
            <p:cNvPr id="85" name=""/>
            <p:cNvSpPr/>
            <p:nvPr/>
          </p:nvSpPr>
          <p:spPr>
            <a:xfrm>
              <a:off x="3962520" y="5029200"/>
              <a:ext cx="1773360" cy="1065240"/>
            </a:xfrm>
            <a:custGeom>
              <a:avLst/>
              <a:gdLst/>
              <a:ahLst/>
              <a:rect l="l" t="t" r="r" b="b"/>
              <a:pathLst>
                <a:path w="2234" h="1341">
                  <a:moveTo>
                    <a:pt x="601" y="1152"/>
                  </a:moveTo>
                  <a:lnTo>
                    <a:pt x="627" y="1165"/>
                  </a:lnTo>
                  <a:lnTo>
                    <a:pt x="654" y="1176"/>
                  </a:lnTo>
                  <a:lnTo>
                    <a:pt x="681" y="1188"/>
                  </a:lnTo>
                  <a:lnTo>
                    <a:pt x="708" y="1198"/>
                  </a:lnTo>
                  <a:lnTo>
                    <a:pt x="737" y="1210"/>
                  </a:lnTo>
                  <a:lnTo>
                    <a:pt x="764" y="1220"/>
                  </a:lnTo>
                  <a:lnTo>
                    <a:pt x="793" y="1230"/>
                  </a:lnTo>
                  <a:lnTo>
                    <a:pt x="822" y="1240"/>
                  </a:lnTo>
                  <a:lnTo>
                    <a:pt x="851" y="1249"/>
                  </a:lnTo>
                  <a:lnTo>
                    <a:pt x="881" y="1258"/>
                  </a:lnTo>
                  <a:lnTo>
                    <a:pt x="911" y="1266"/>
                  </a:lnTo>
                  <a:lnTo>
                    <a:pt x="941" y="1274"/>
                  </a:lnTo>
                  <a:lnTo>
                    <a:pt x="970" y="1282"/>
                  </a:lnTo>
                  <a:lnTo>
                    <a:pt x="1002" y="1289"/>
                  </a:lnTo>
                  <a:lnTo>
                    <a:pt x="1033" y="1296"/>
                  </a:lnTo>
                  <a:lnTo>
                    <a:pt x="1064" y="1303"/>
                  </a:lnTo>
                  <a:lnTo>
                    <a:pt x="1094" y="1309"/>
                  </a:lnTo>
                  <a:lnTo>
                    <a:pt x="1125" y="1315"/>
                  </a:lnTo>
                  <a:lnTo>
                    <a:pt x="1155" y="1319"/>
                  </a:lnTo>
                  <a:lnTo>
                    <a:pt x="1185" y="1324"/>
                  </a:lnTo>
                  <a:lnTo>
                    <a:pt x="1215" y="1327"/>
                  </a:lnTo>
                  <a:lnTo>
                    <a:pt x="1243" y="1331"/>
                  </a:lnTo>
                  <a:lnTo>
                    <a:pt x="1273" y="1333"/>
                  </a:lnTo>
                  <a:lnTo>
                    <a:pt x="1302" y="1335"/>
                  </a:lnTo>
                  <a:lnTo>
                    <a:pt x="1331" y="1338"/>
                  </a:lnTo>
                  <a:lnTo>
                    <a:pt x="1360" y="1339"/>
                  </a:lnTo>
                  <a:lnTo>
                    <a:pt x="1388" y="1340"/>
                  </a:lnTo>
                  <a:lnTo>
                    <a:pt x="1416" y="1341"/>
                  </a:lnTo>
                  <a:lnTo>
                    <a:pt x="1444" y="1341"/>
                  </a:lnTo>
                  <a:lnTo>
                    <a:pt x="1471" y="1341"/>
                  </a:lnTo>
                  <a:lnTo>
                    <a:pt x="1499" y="1340"/>
                  </a:lnTo>
                  <a:lnTo>
                    <a:pt x="1525" y="1339"/>
                  </a:lnTo>
                  <a:lnTo>
                    <a:pt x="1552" y="1337"/>
                  </a:lnTo>
                  <a:lnTo>
                    <a:pt x="1578" y="1334"/>
                  </a:lnTo>
                  <a:lnTo>
                    <a:pt x="1604" y="1332"/>
                  </a:lnTo>
                  <a:lnTo>
                    <a:pt x="1629" y="1330"/>
                  </a:lnTo>
                  <a:lnTo>
                    <a:pt x="1654" y="1326"/>
                  </a:lnTo>
                  <a:lnTo>
                    <a:pt x="1680" y="1322"/>
                  </a:lnTo>
                  <a:lnTo>
                    <a:pt x="1704" y="1318"/>
                  </a:lnTo>
                  <a:lnTo>
                    <a:pt x="1728" y="1313"/>
                  </a:lnTo>
                  <a:lnTo>
                    <a:pt x="1751" y="1308"/>
                  </a:lnTo>
                  <a:lnTo>
                    <a:pt x="1774" y="1303"/>
                  </a:lnTo>
                  <a:lnTo>
                    <a:pt x="1797" y="1297"/>
                  </a:lnTo>
                  <a:lnTo>
                    <a:pt x="1820" y="1290"/>
                  </a:lnTo>
                  <a:lnTo>
                    <a:pt x="1842" y="1284"/>
                  </a:lnTo>
                  <a:lnTo>
                    <a:pt x="1863" y="1277"/>
                  </a:lnTo>
                  <a:lnTo>
                    <a:pt x="1884" y="1270"/>
                  </a:lnTo>
                  <a:lnTo>
                    <a:pt x="1904" y="1262"/>
                  </a:lnTo>
                  <a:lnTo>
                    <a:pt x="1939" y="1247"/>
                  </a:lnTo>
                  <a:lnTo>
                    <a:pt x="1972" y="1230"/>
                  </a:lnTo>
                  <a:lnTo>
                    <a:pt x="2005" y="1213"/>
                  </a:lnTo>
                  <a:lnTo>
                    <a:pt x="2034" y="1195"/>
                  </a:lnTo>
                  <a:lnTo>
                    <a:pt x="2062" y="1175"/>
                  </a:lnTo>
                  <a:lnTo>
                    <a:pt x="2089" y="1154"/>
                  </a:lnTo>
                  <a:lnTo>
                    <a:pt x="2113" y="1134"/>
                  </a:lnTo>
                  <a:lnTo>
                    <a:pt x="2135" y="1111"/>
                  </a:lnTo>
                  <a:lnTo>
                    <a:pt x="2155" y="1086"/>
                  </a:lnTo>
                  <a:lnTo>
                    <a:pt x="2173" y="1062"/>
                  </a:lnTo>
                  <a:lnTo>
                    <a:pt x="2189" y="1036"/>
                  </a:lnTo>
                  <a:lnTo>
                    <a:pt x="2203" y="1009"/>
                  </a:lnTo>
                  <a:lnTo>
                    <a:pt x="2213" y="982"/>
                  </a:lnTo>
                  <a:lnTo>
                    <a:pt x="2222" y="953"/>
                  </a:lnTo>
                  <a:lnTo>
                    <a:pt x="2229" y="923"/>
                  </a:lnTo>
                  <a:lnTo>
                    <a:pt x="2233" y="893"/>
                  </a:lnTo>
                  <a:lnTo>
                    <a:pt x="2234" y="861"/>
                  </a:lnTo>
                  <a:lnTo>
                    <a:pt x="2233" y="827"/>
                  </a:lnTo>
                  <a:lnTo>
                    <a:pt x="2228" y="794"/>
                  </a:lnTo>
                  <a:lnTo>
                    <a:pt x="2221" y="761"/>
                  </a:lnTo>
                  <a:lnTo>
                    <a:pt x="2211" y="728"/>
                  </a:lnTo>
                  <a:lnTo>
                    <a:pt x="2198" y="695"/>
                  </a:lnTo>
                  <a:lnTo>
                    <a:pt x="2183" y="662"/>
                  </a:lnTo>
                  <a:lnTo>
                    <a:pt x="2166" y="629"/>
                  </a:lnTo>
                  <a:lnTo>
                    <a:pt x="2146" y="597"/>
                  </a:lnTo>
                  <a:lnTo>
                    <a:pt x="2123" y="564"/>
                  </a:lnTo>
                  <a:lnTo>
                    <a:pt x="2099" y="533"/>
                  </a:lnTo>
                  <a:lnTo>
                    <a:pt x="2071" y="501"/>
                  </a:lnTo>
                  <a:lnTo>
                    <a:pt x="2043" y="470"/>
                  </a:lnTo>
                  <a:lnTo>
                    <a:pt x="2011" y="440"/>
                  </a:lnTo>
                  <a:lnTo>
                    <a:pt x="1978" y="410"/>
                  </a:lnTo>
                  <a:lnTo>
                    <a:pt x="1943" y="380"/>
                  </a:lnTo>
                  <a:lnTo>
                    <a:pt x="1907" y="352"/>
                  </a:lnTo>
                  <a:lnTo>
                    <a:pt x="1867" y="324"/>
                  </a:lnTo>
                  <a:lnTo>
                    <a:pt x="1827" y="297"/>
                  </a:lnTo>
                  <a:lnTo>
                    <a:pt x="1785" y="271"/>
                  </a:lnTo>
                  <a:lnTo>
                    <a:pt x="1741" y="245"/>
                  </a:lnTo>
                  <a:lnTo>
                    <a:pt x="1695" y="220"/>
                  </a:lnTo>
                  <a:lnTo>
                    <a:pt x="1649" y="197"/>
                  </a:lnTo>
                  <a:lnTo>
                    <a:pt x="1600" y="174"/>
                  </a:lnTo>
                  <a:lnTo>
                    <a:pt x="1550" y="153"/>
                  </a:lnTo>
                  <a:lnTo>
                    <a:pt x="1499" y="132"/>
                  </a:lnTo>
                  <a:lnTo>
                    <a:pt x="1447" y="114"/>
                  </a:lnTo>
                  <a:lnTo>
                    <a:pt x="1393" y="95"/>
                  </a:lnTo>
                  <a:lnTo>
                    <a:pt x="1339" y="79"/>
                  </a:lnTo>
                  <a:lnTo>
                    <a:pt x="1284" y="64"/>
                  </a:lnTo>
                  <a:lnTo>
                    <a:pt x="1227" y="51"/>
                  </a:lnTo>
                  <a:lnTo>
                    <a:pt x="1170" y="38"/>
                  </a:lnTo>
                  <a:lnTo>
                    <a:pt x="1139" y="32"/>
                  </a:lnTo>
                  <a:lnTo>
                    <a:pt x="1107" y="26"/>
                  </a:lnTo>
                  <a:lnTo>
                    <a:pt x="1076" y="22"/>
                  </a:lnTo>
                  <a:lnTo>
                    <a:pt x="1045" y="17"/>
                  </a:lnTo>
                  <a:lnTo>
                    <a:pt x="1015" y="14"/>
                  </a:lnTo>
                  <a:lnTo>
                    <a:pt x="985" y="10"/>
                  </a:lnTo>
                  <a:lnTo>
                    <a:pt x="954" y="7"/>
                  </a:lnTo>
                  <a:lnTo>
                    <a:pt x="926" y="4"/>
                  </a:lnTo>
                  <a:lnTo>
                    <a:pt x="896" y="2"/>
                  </a:lnTo>
                  <a:lnTo>
                    <a:pt x="866" y="1"/>
                  </a:lnTo>
                  <a:lnTo>
                    <a:pt x="837" y="0"/>
                  </a:lnTo>
                  <a:lnTo>
                    <a:pt x="808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1"/>
                  </a:lnTo>
                  <a:lnTo>
                    <a:pt x="696" y="3"/>
                  </a:lnTo>
                  <a:lnTo>
                    <a:pt x="669" y="4"/>
                  </a:lnTo>
                  <a:lnTo>
                    <a:pt x="642" y="8"/>
                  </a:lnTo>
                  <a:lnTo>
                    <a:pt x="616" y="10"/>
                  </a:lnTo>
                  <a:lnTo>
                    <a:pt x="589" y="14"/>
                  </a:lnTo>
                  <a:lnTo>
                    <a:pt x="564" y="17"/>
                  </a:lnTo>
                  <a:lnTo>
                    <a:pt x="539" y="22"/>
                  </a:lnTo>
                  <a:lnTo>
                    <a:pt x="514" y="26"/>
                  </a:lnTo>
                  <a:lnTo>
                    <a:pt x="490" y="31"/>
                  </a:lnTo>
                  <a:lnTo>
                    <a:pt x="466" y="37"/>
                  </a:lnTo>
                  <a:lnTo>
                    <a:pt x="442" y="42"/>
                  </a:lnTo>
                  <a:lnTo>
                    <a:pt x="419" y="49"/>
                  </a:lnTo>
                  <a:lnTo>
                    <a:pt x="397" y="56"/>
                  </a:lnTo>
                  <a:lnTo>
                    <a:pt x="375" y="63"/>
                  </a:lnTo>
                  <a:lnTo>
                    <a:pt x="353" y="71"/>
                  </a:lnTo>
                  <a:lnTo>
                    <a:pt x="333" y="79"/>
                  </a:lnTo>
                  <a:lnTo>
                    <a:pt x="312" y="87"/>
                  </a:lnTo>
                  <a:lnTo>
                    <a:pt x="278" y="102"/>
                  </a:lnTo>
                  <a:lnTo>
                    <a:pt x="247" y="118"/>
                  </a:lnTo>
                  <a:lnTo>
                    <a:pt x="217" y="136"/>
                  </a:lnTo>
                  <a:lnTo>
                    <a:pt x="189" y="154"/>
                  </a:lnTo>
                  <a:lnTo>
                    <a:pt x="162" y="174"/>
                  </a:lnTo>
                  <a:lnTo>
                    <a:pt x="138" y="193"/>
                  </a:lnTo>
                  <a:lnTo>
                    <a:pt x="115" y="215"/>
                  </a:lnTo>
                  <a:lnTo>
                    <a:pt x="94" y="237"/>
                  </a:lnTo>
                  <a:lnTo>
                    <a:pt x="75" y="260"/>
                  </a:lnTo>
                  <a:lnTo>
                    <a:pt x="57" y="284"/>
                  </a:lnTo>
                  <a:lnTo>
                    <a:pt x="42" y="310"/>
                  </a:lnTo>
                  <a:lnTo>
                    <a:pt x="30" y="336"/>
                  </a:lnTo>
                  <a:lnTo>
                    <a:pt x="19" y="363"/>
                  </a:lnTo>
                  <a:lnTo>
                    <a:pt x="11" y="390"/>
                  </a:lnTo>
                  <a:lnTo>
                    <a:pt x="4" y="419"/>
                  </a:lnTo>
                  <a:lnTo>
                    <a:pt x="1" y="449"/>
                  </a:lnTo>
                  <a:lnTo>
                    <a:pt x="0" y="498"/>
                  </a:lnTo>
                  <a:lnTo>
                    <a:pt x="5" y="545"/>
                  </a:lnTo>
                  <a:lnTo>
                    <a:pt x="16" y="593"/>
                  </a:lnTo>
                  <a:lnTo>
                    <a:pt x="33" y="642"/>
                  </a:lnTo>
                  <a:lnTo>
                    <a:pt x="55" y="690"/>
                  </a:lnTo>
                  <a:lnTo>
                    <a:pt x="83" y="737"/>
                  </a:lnTo>
                  <a:lnTo>
                    <a:pt x="115" y="783"/>
                  </a:lnTo>
                  <a:lnTo>
                    <a:pt x="153" y="829"/>
                  </a:lnTo>
                  <a:lnTo>
                    <a:pt x="194" y="876"/>
                  </a:lnTo>
                  <a:lnTo>
                    <a:pt x="240" y="919"/>
                  </a:lnTo>
                  <a:lnTo>
                    <a:pt x="291" y="962"/>
                  </a:lnTo>
                  <a:lnTo>
                    <a:pt x="346" y="1003"/>
                  </a:lnTo>
                  <a:lnTo>
                    <a:pt x="405" y="1044"/>
                  </a:lnTo>
                  <a:lnTo>
                    <a:pt x="467" y="1082"/>
                  </a:lnTo>
                  <a:lnTo>
                    <a:pt x="532" y="1118"/>
                  </a:lnTo>
                  <a:lnTo>
                    <a:pt x="601" y="115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83400" y="5189760"/>
              <a:ext cx="1815840" cy="996840"/>
            </a:xfrm>
            <a:custGeom>
              <a:avLst/>
              <a:gdLst/>
              <a:ahLst/>
              <a:rect l="l" t="t" r="r" b="b"/>
              <a:pathLst>
                <a:path w="2288" h="1257">
                  <a:moveTo>
                    <a:pt x="2284" y="196"/>
                  </a:moveTo>
                  <a:lnTo>
                    <a:pt x="2279" y="197"/>
                  </a:lnTo>
                  <a:lnTo>
                    <a:pt x="2272" y="200"/>
                  </a:lnTo>
                  <a:lnTo>
                    <a:pt x="2262" y="207"/>
                  </a:lnTo>
                  <a:lnTo>
                    <a:pt x="2249" y="216"/>
                  </a:lnTo>
                  <a:lnTo>
                    <a:pt x="2232" y="227"/>
                  </a:lnTo>
                  <a:lnTo>
                    <a:pt x="2211" y="239"/>
                  </a:lnTo>
                  <a:lnTo>
                    <a:pt x="2186" y="253"/>
                  </a:lnTo>
                  <a:lnTo>
                    <a:pt x="2155" y="268"/>
                  </a:lnTo>
                  <a:lnTo>
                    <a:pt x="2134" y="276"/>
                  </a:lnTo>
                  <a:lnTo>
                    <a:pt x="2117" y="282"/>
                  </a:lnTo>
                  <a:lnTo>
                    <a:pt x="2102" y="285"/>
                  </a:lnTo>
                  <a:lnTo>
                    <a:pt x="2088" y="287"/>
                  </a:lnTo>
                  <a:lnTo>
                    <a:pt x="2078" y="285"/>
                  </a:lnTo>
                  <a:lnTo>
                    <a:pt x="2068" y="281"/>
                  </a:lnTo>
                  <a:lnTo>
                    <a:pt x="2063" y="275"/>
                  </a:lnTo>
                  <a:lnTo>
                    <a:pt x="2058" y="266"/>
                  </a:lnTo>
                  <a:lnTo>
                    <a:pt x="2063" y="266"/>
                  </a:lnTo>
                  <a:lnTo>
                    <a:pt x="2068" y="265"/>
                  </a:lnTo>
                  <a:lnTo>
                    <a:pt x="2073" y="265"/>
                  </a:lnTo>
                  <a:lnTo>
                    <a:pt x="2080" y="264"/>
                  </a:lnTo>
                  <a:lnTo>
                    <a:pt x="2086" y="261"/>
                  </a:lnTo>
                  <a:lnTo>
                    <a:pt x="2093" y="259"/>
                  </a:lnTo>
                  <a:lnTo>
                    <a:pt x="2100" y="255"/>
                  </a:lnTo>
                  <a:lnTo>
                    <a:pt x="2106" y="251"/>
                  </a:lnTo>
                  <a:lnTo>
                    <a:pt x="2121" y="237"/>
                  </a:lnTo>
                  <a:lnTo>
                    <a:pt x="2136" y="222"/>
                  </a:lnTo>
                  <a:lnTo>
                    <a:pt x="2149" y="207"/>
                  </a:lnTo>
                  <a:lnTo>
                    <a:pt x="2162" y="192"/>
                  </a:lnTo>
                  <a:lnTo>
                    <a:pt x="2174" y="178"/>
                  </a:lnTo>
                  <a:lnTo>
                    <a:pt x="2187" y="167"/>
                  </a:lnTo>
                  <a:lnTo>
                    <a:pt x="2200" y="156"/>
                  </a:lnTo>
                  <a:lnTo>
                    <a:pt x="2212" y="148"/>
                  </a:lnTo>
                  <a:lnTo>
                    <a:pt x="2225" y="145"/>
                  </a:lnTo>
                  <a:lnTo>
                    <a:pt x="2234" y="143"/>
                  </a:lnTo>
                  <a:lnTo>
                    <a:pt x="2242" y="143"/>
                  </a:lnTo>
                  <a:lnTo>
                    <a:pt x="2248" y="144"/>
                  </a:lnTo>
                  <a:lnTo>
                    <a:pt x="2254" y="146"/>
                  </a:lnTo>
                  <a:lnTo>
                    <a:pt x="2257" y="147"/>
                  </a:lnTo>
                  <a:lnTo>
                    <a:pt x="2262" y="148"/>
                  </a:lnTo>
                  <a:lnTo>
                    <a:pt x="2265" y="149"/>
                  </a:lnTo>
                  <a:lnTo>
                    <a:pt x="2271" y="146"/>
                  </a:lnTo>
                  <a:lnTo>
                    <a:pt x="2273" y="137"/>
                  </a:lnTo>
                  <a:lnTo>
                    <a:pt x="2269" y="126"/>
                  </a:lnTo>
                  <a:lnTo>
                    <a:pt x="2254" y="115"/>
                  </a:lnTo>
                  <a:lnTo>
                    <a:pt x="2247" y="111"/>
                  </a:lnTo>
                  <a:lnTo>
                    <a:pt x="2239" y="107"/>
                  </a:lnTo>
                  <a:lnTo>
                    <a:pt x="2230" y="103"/>
                  </a:lnTo>
                  <a:lnTo>
                    <a:pt x="2219" y="99"/>
                  </a:lnTo>
                  <a:lnTo>
                    <a:pt x="2208" y="94"/>
                  </a:lnTo>
                  <a:lnTo>
                    <a:pt x="2196" y="91"/>
                  </a:lnTo>
                  <a:lnTo>
                    <a:pt x="2184" y="86"/>
                  </a:lnTo>
                  <a:lnTo>
                    <a:pt x="2170" y="81"/>
                  </a:lnTo>
                  <a:lnTo>
                    <a:pt x="2156" y="77"/>
                  </a:lnTo>
                  <a:lnTo>
                    <a:pt x="2142" y="72"/>
                  </a:lnTo>
                  <a:lnTo>
                    <a:pt x="2128" y="69"/>
                  </a:lnTo>
                  <a:lnTo>
                    <a:pt x="2115" y="64"/>
                  </a:lnTo>
                  <a:lnTo>
                    <a:pt x="2101" y="61"/>
                  </a:lnTo>
                  <a:lnTo>
                    <a:pt x="2088" y="58"/>
                  </a:lnTo>
                  <a:lnTo>
                    <a:pt x="2075" y="55"/>
                  </a:lnTo>
                  <a:lnTo>
                    <a:pt x="2063" y="53"/>
                  </a:lnTo>
                  <a:lnTo>
                    <a:pt x="2053" y="52"/>
                  </a:lnTo>
                  <a:lnTo>
                    <a:pt x="2043" y="49"/>
                  </a:lnTo>
                  <a:lnTo>
                    <a:pt x="2033" y="48"/>
                  </a:lnTo>
                  <a:lnTo>
                    <a:pt x="2021" y="46"/>
                  </a:lnTo>
                  <a:lnTo>
                    <a:pt x="2009" y="43"/>
                  </a:lnTo>
                  <a:lnTo>
                    <a:pt x="1996" y="41"/>
                  </a:lnTo>
                  <a:lnTo>
                    <a:pt x="1982" y="39"/>
                  </a:lnTo>
                  <a:lnTo>
                    <a:pt x="1968" y="37"/>
                  </a:lnTo>
                  <a:lnTo>
                    <a:pt x="1953" y="35"/>
                  </a:lnTo>
                  <a:lnTo>
                    <a:pt x="1937" y="32"/>
                  </a:lnTo>
                  <a:lnTo>
                    <a:pt x="1921" y="30"/>
                  </a:lnTo>
                  <a:lnTo>
                    <a:pt x="1904" y="27"/>
                  </a:lnTo>
                  <a:lnTo>
                    <a:pt x="1885" y="25"/>
                  </a:lnTo>
                  <a:lnTo>
                    <a:pt x="1867" y="23"/>
                  </a:lnTo>
                  <a:lnTo>
                    <a:pt x="1849" y="20"/>
                  </a:lnTo>
                  <a:lnTo>
                    <a:pt x="1829" y="18"/>
                  </a:lnTo>
                  <a:lnTo>
                    <a:pt x="1809" y="16"/>
                  </a:lnTo>
                  <a:lnTo>
                    <a:pt x="1789" y="13"/>
                  </a:lnTo>
                  <a:lnTo>
                    <a:pt x="1768" y="11"/>
                  </a:lnTo>
                  <a:lnTo>
                    <a:pt x="1747" y="9"/>
                  </a:lnTo>
                  <a:lnTo>
                    <a:pt x="1726" y="8"/>
                  </a:lnTo>
                  <a:lnTo>
                    <a:pt x="1705" y="5"/>
                  </a:lnTo>
                  <a:lnTo>
                    <a:pt x="1682" y="4"/>
                  </a:lnTo>
                  <a:lnTo>
                    <a:pt x="1660" y="2"/>
                  </a:lnTo>
                  <a:lnTo>
                    <a:pt x="1637" y="1"/>
                  </a:lnTo>
                  <a:lnTo>
                    <a:pt x="1612" y="1"/>
                  </a:lnTo>
                  <a:lnTo>
                    <a:pt x="1589" y="0"/>
                  </a:lnTo>
                  <a:lnTo>
                    <a:pt x="1565" y="0"/>
                  </a:lnTo>
                  <a:lnTo>
                    <a:pt x="1540" y="0"/>
                  </a:lnTo>
                  <a:lnTo>
                    <a:pt x="1516" y="0"/>
                  </a:lnTo>
                  <a:lnTo>
                    <a:pt x="1490" y="0"/>
                  </a:lnTo>
                  <a:lnTo>
                    <a:pt x="1464" y="1"/>
                  </a:lnTo>
                  <a:lnTo>
                    <a:pt x="1451" y="2"/>
                  </a:lnTo>
                  <a:lnTo>
                    <a:pt x="1437" y="3"/>
                  </a:lnTo>
                  <a:lnTo>
                    <a:pt x="1422" y="4"/>
                  </a:lnTo>
                  <a:lnTo>
                    <a:pt x="1409" y="5"/>
                  </a:lnTo>
                  <a:lnTo>
                    <a:pt x="1393" y="8"/>
                  </a:lnTo>
                  <a:lnTo>
                    <a:pt x="1378" y="10"/>
                  </a:lnTo>
                  <a:lnTo>
                    <a:pt x="1361" y="13"/>
                  </a:lnTo>
                  <a:lnTo>
                    <a:pt x="1345" y="16"/>
                  </a:lnTo>
                  <a:lnTo>
                    <a:pt x="1328" y="20"/>
                  </a:lnTo>
                  <a:lnTo>
                    <a:pt x="1311" y="24"/>
                  </a:lnTo>
                  <a:lnTo>
                    <a:pt x="1293" y="28"/>
                  </a:lnTo>
                  <a:lnTo>
                    <a:pt x="1275" y="33"/>
                  </a:lnTo>
                  <a:lnTo>
                    <a:pt x="1257" y="38"/>
                  </a:lnTo>
                  <a:lnTo>
                    <a:pt x="1238" y="43"/>
                  </a:lnTo>
                  <a:lnTo>
                    <a:pt x="1220" y="49"/>
                  </a:lnTo>
                  <a:lnTo>
                    <a:pt x="1200" y="56"/>
                  </a:lnTo>
                  <a:lnTo>
                    <a:pt x="1181" y="63"/>
                  </a:lnTo>
                  <a:lnTo>
                    <a:pt x="1161" y="71"/>
                  </a:lnTo>
                  <a:lnTo>
                    <a:pt x="1143" y="78"/>
                  </a:lnTo>
                  <a:lnTo>
                    <a:pt x="1123" y="87"/>
                  </a:lnTo>
                  <a:lnTo>
                    <a:pt x="1103" y="95"/>
                  </a:lnTo>
                  <a:lnTo>
                    <a:pt x="1084" y="105"/>
                  </a:lnTo>
                  <a:lnTo>
                    <a:pt x="1063" y="114"/>
                  </a:lnTo>
                  <a:lnTo>
                    <a:pt x="1044" y="124"/>
                  </a:lnTo>
                  <a:lnTo>
                    <a:pt x="1024" y="133"/>
                  </a:lnTo>
                  <a:lnTo>
                    <a:pt x="1004" y="145"/>
                  </a:lnTo>
                  <a:lnTo>
                    <a:pt x="985" y="155"/>
                  </a:lnTo>
                  <a:lnTo>
                    <a:pt x="965" y="167"/>
                  </a:lnTo>
                  <a:lnTo>
                    <a:pt x="945" y="178"/>
                  </a:lnTo>
                  <a:lnTo>
                    <a:pt x="925" y="191"/>
                  </a:lnTo>
                  <a:lnTo>
                    <a:pt x="905" y="204"/>
                  </a:lnTo>
                  <a:lnTo>
                    <a:pt x="886" y="216"/>
                  </a:lnTo>
                  <a:lnTo>
                    <a:pt x="847" y="243"/>
                  </a:lnTo>
                  <a:lnTo>
                    <a:pt x="809" y="270"/>
                  </a:lnTo>
                  <a:lnTo>
                    <a:pt x="773" y="299"/>
                  </a:lnTo>
                  <a:lnTo>
                    <a:pt x="737" y="328"/>
                  </a:lnTo>
                  <a:lnTo>
                    <a:pt x="703" y="358"/>
                  </a:lnTo>
                  <a:lnTo>
                    <a:pt x="671" y="387"/>
                  </a:lnTo>
                  <a:lnTo>
                    <a:pt x="638" y="417"/>
                  </a:lnTo>
                  <a:lnTo>
                    <a:pt x="608" y="446"/>
                  </a:lnTo>
                  <a:lnTo>
                    <a:pt x="581" y="474"/>
                  </a:lnTo>
                  <a:lnTo>
                    <a:pt x="554" y="502"/>
                  </a:lnTo>
                  <a:lnTo>
                    <a:pt x="529" y="529"/>
                  </a:lnTo>
                  <a:lnTo>
                    <a:pt x="506" y="555"/>
                  </a:lnTo>
                  <a:lnTo>
                    <a:pt x="485" y="579"/>
                  </a:lnTo>
                  <a:lnTo>
                    <a:pt x="466" y="602"/>
                  </a:lnTo>
                  <a:lnTo>
                    <a:pt x="449" y="623"/>
                  </a:lnTo>
                  <a:lnTo>
                    <a:pt x="434" y="642"/>
                  </a:lnTo>
                  <a:lnTo>
                    <a:pt x="421" y="658"/>
                  </a:lnTo>
                  <a:lnTo>
                    <a:pt x="406" y="673"/>
                  </a:lnTo>
                  <a:lnTo>
                    <a:pt x="391" y="686"/>
                  </a:lnTo>
                  <a:lnTo>
                    <a:pt x="376" y="699"/>
                  </a:lnTo>
                  <a:lnTo>
                    <a:pt x="360" y="709"/>
                  </a:lnTo>
                  <a:lnTo>
                    <a:pt x="343" y="720"/>
                  </a:lnTo>
                  <a:lnTo>
                    <a:pt x="327" y="728"/>
                  </a:lnTo>
                  <a:lnTo>
                    <a:pt x="310" y="736"/>
                  </a:lnTo>
                  <a:lnTo>
                    <a:pt x="293" y="743"/>
                  </a:lnTo>
                  <a:lnTo>
                    <a:pt x="276" y="749"/>
                  </a:lnTo>
                  <a:lnTo>
                    <a:pt x="258" y="753"/>
                  </a:lnTo>
                  <a:lnTo>
                    <a:pt x="241" y="759"/>
                  </a:lnTo>
                  <a:lnTo>
                    <a:pt x="224" y="762"/>
                  </a:lnTo>
                  <a:lnTo>
                    <a:pt x="206" y="766"/>
                  </a:lnTo>
                  <a:lnTo>
                    <a:pt x="189" y="769"/>
                  </a:lnTo>
                  <a:lnTo>
                    <a:pt x="172" y="773"/>
                  </a:lnTo>
                  <a:lnTo>
                    <a:pt x="137" y="779"/>
                  </a:lnTo>
                  <a:lnTo>
                    <a:pt x="105" y="784"/>
                  </a:lnTo>
                  <a:lnTo>
                    <a:pt x="75" y="789"/>
                  </a:lnTo>
                  <a:lnTo>
                    <a:pt x="50" y="794"/>
                  </a:lnTo>
                  <a:lnTo>
                    <a:pt x="28" y="798"/>
                  </a:lnTo>
                  <a:lnTo>
                    <a:pt x="13" y="803"/>
                  </a:lnTo>
                  <a:lnTo>
                    <a:pt x="3" y="807"/>
                  </a:lnTo>
                  <a:lnTo>
                    <a:pt x="0" y="812"/>
                  </a:lnTo>
                  <a:lnTo>
                    <a:pt x="3" y="814"/>
                  </a:lnTo>
                  <a:lnTo>
                    <a:pt x="6" y="816"/>
                  </a:lnTo>
                  <a:lnTo>
                    <a:pt x="12" y="818"/>
                  </a:lnTo>
                  <a:lnTo>
                    <a:pt x="20" y="819"/>
                  </a:lnTo>
                  <a:lnTo>
                    <a:pt x="28" y="819"/>
                  </a:lnTo>
                  <a:lnTo>
                    <a:pt x="38" y="820"/>
                  </a:lnTo>
                  <a:lnTo>
                    <a:pt x="50" y="820"/>
                  </a:lnTo>
                  <a:lnTo>
                    <a:pt x="63" y="820"/>
                  </a:lnTo>
                  <a:lnTo>
                    <a:pt x="75" y="820"/>
                  </a:lnTo>
                  <a:lnTo>
                    <a:pt x="90" y="820"/>
                  </a:lnTo>
                  <a:lnTo>
                    <a:pt x="105" y="819"/>
                  </a:lnTo>
                  <a:lnTo>
                    <a:pt x="121" y="818"/>
                  </a:lnTo>
                  <a:lnTo>
                    <a:pt x="137" y="817"/>
                  </a:lnTo>
                  <a:lnTo>
                    <a:pt x="155" y="816"/>
                  </a:lnTo>
                  <a:lnTo>
                    <a:pt x="172" y="813"/>
                  </a:lnTo>
                  <a:lnTo>
                    <a:pt x="189" y="811"/>
                  </a:lnTo>
                  <a:lnTo>
                    <a:pt x="206" y="809"/>
                  </a:lnTo>
                  <a:lnTo>
                    <a:pt x="225" y="805"/>
                  </a:lnTo>
                  <a:lnTo>
                    <a:pt x="242" y="802"/>
                  </a:lnTo>
                  <a:lnTo>
                    <a:pt x="261" y="798"/>
                  </a:lnTo>
                  <a:lnTo>
                    <a:pt x="278" y="794"/>
                  </a:lnTo>
                  <a:lnTo>
                    <a:pt x="295" y="789"/>
                  </a:lnTo>
                  <a:lnTo>
                    <a:pt x="312" y="783"/>
                  </a:lnTo>
                  <a:lnTo>
                    <a:pt x="330" y="776"/>
                  </a:lnTo>
                  <a:lnTo>
                    <a:pt x="346" y="769"/>
                  </a:lnTo>
                  <a:lnTo>
                    <a:pt x="363" y="760"/>
                  </a:lnTo>
                  <a:lnTo>
                    <a:pt x="379" y="751"/>
                  </a:lnTo>
                  <a:lnTo>
                    <a:pt x="395" y="741"/>
                  </a:lnTo>
                  <a:lnTo>
                    <a:pt x="410" y="728"/>
                  </a:lnTo>
                  <a:lnTo>
                    <a:pt x="425" y="715"/>
                  </a:lnTo>
                  <a:lnTo>
                    <a:pt x="440" y="700"/>
                  </a:lnTo>
                  <a:lnTo>
                    <a:pt x="454" y="684"/>
                  </a:lnTo>
                  <a:lnTo>
                    <a:pt x="469" y="667"/>
                  </a:lnTo>
                  <a:lnTo>
                    <a:pt x="486" y="646"/>
                  </a:lnTo>
                  <a:lnTo>
                    <a:pt x="505" y="625"/>
                  </a:lnTo>
                  <a:lnTo>
                    <a:pt x="527" y="602"/>
                  </a:lnTo>
                  <a:lnTo>
                    <a:pt x="550" y="578"/>
                  </a:lnTo>
                  <a:lnTo>
                    <a:pt x="574" y="553"/>
                  </a:lnTo>
                  <a:lnTo>
                    <a:pt x="601" y="526"/>
                  </a:lnTo>
                  <a:lnTo>
                    <a:pt x="630" y="500"/>
                  </a:lnTo>
                  <a:lnTo>
                    <a:pt x="660" y="472"/>
                  </a:lnTo>
                  <a:lnTo>
                    <a:pt x="691" y="444"/>
                  </a:lnTo>
                  <a:lnTo>
                    <a:pt x="725" y="417"/>
                  </a:lnTo>
                  <a:lnTo>
                    <a:pt x="759" y="389"/>
                  </a:lnTo>
                  <a:lnTo>
                    <a:pt x="795" y="363"/>
                  </a:lnTo>
                  <a:lnTo>
                    <a:pt x="832" y="335"/>
                  </a:lnTo>
                  <a:lnTo>
                    <a:pt x="870" y="310"/>
                  </a:lnTo>
                  <a:lnTo>
                    <a:pt x="909" y="284"/>
                  </a:lnTo>
                  <a:lnTo>
                    <a:pt x="948" y="260"/>
                  </a:lnTo>
                  <a:lnTo>
                    <a:pt x="988" y="238"/>
                  </a:lnTo>
                  <a:lnTo>
                    <a:pt x="1029" y="216"/>
                  </a:lnTo>
                  <a:lnTo>
                    <a:pt x="1069" y="197"/>
                  </a:lnTo>
                  <a:lnTo>
                    <a:pt x="1109" y="179"/>
                  </a:lnTo>
                  <a:lnTo>
                    <a:pt x="1148" y="162"/>
                  </a:lnTo>
                  <a:lnTo>
                    <a:pt x="1188" y="147"/>
                  </a:lnTo>
                  <a:lnTo>
                    <a:pt x="1226" y="132"/>
                  </a:lnTo>
                  <a:lnTo>
                    <a:pt x="1264" y="119"/>
                  </a:lnTo>
                  <a:lnTo>
                    <a:pt x="1299" y="109"/>
                  </a:lnTo>
                  <a:lnTo>
                    <a:pt x="1335" y="99"/>
                  </a:lnTo>
                  <a:lnTo>
                    <a:pt x="1368" y="91"/>
                  </a:lnTo>
                  <a:lnTo>
                    <a:pt x="1401" y="83"/>
                  </a:lnTo>
                  <a:lnTo>
                    <a:pt x="1432" y="77"/>
                  </a:lnTo>
                  <a:lnTo>
                    <a:pt x="1460" y="73"/>
                  </a:lnTo>
                  <a:lnTo>
                    <a:pt x="1487" y="70"/>
                  </a:lnTo>
                  <a:lnTo>
                    <a:pt x="1538" y="66"/>
                  </a:lnTo>
                  <a:lnTo>
                    <a:pt x="1586" y="63"/>
                  </a:lnTo>
                  <a:lnTo>
                    <a:pt x="1634" y="62"/>
                  </a:lnTo>
                  <a:lnTo>
                    <a:pt x="1680" y="61"/>
                  </a:lnTo>
                  <a:lnTo>
                    <a:pt x="1724" y="61"/>
                  </a:lnTo>
                  <a:lnTo>
                    <a:pt x="1767" y="61"/>
                  </a:lnTo>
                  <a:lnTo>
                    <a:pt x="1807" y="62"/>
                  </a:lnTo>
                  <a:lnTo>
                    <a:pt x="1845" y="64"/>
                  </a:lnTo>
                  <a:lnTo>
                    <a:pt x="1882" y="66"/>
                  </a:lnTo>
                  <a:lnTo>
                    <a:pt x="1915" y="69"/>
                  </a:lnTo>
                  <a:lnTo>
                    <a:pt x="1948" y="71"/>
                  </a:lnTo>
                  <a:lnTo>
                    <a:pt x="1977" y="75"/>
                  </a:lnTo>
                  <a:lnTo>
                    <a:pt x="2004" y="77"/>
                  </a:lnTo>
                  <a:lnTo>
                    <a:pt x="2028" y="79"/>
                  </a:lnTo>
                  <a:lnTo>
                    <a:pt x="2050" y="83"/>
                  </a:lnTo>
                  <a:lnTo>
                    <a:pt x="2070" y="85"/>
                  </a:lnTo>
                  <a:lnTo>
                    <a:pt x="2087" y="88"/>
                  </a:lnTo>
                  <a:lnTo>
                    <a:pt x="2106" y="92"/>
                  </a:lnTo>
                  <a:lnTo>
                    <a:pt x="2125" y="96"/>
                  </a:lnTo>
                  <a:lnTo>
                    <a:pt x="2144" y="101"/>
                  </a:lnTo>
                  <a:lnTo>
                    <a:pt x="2163" y="107"/>
                  </a:lnTo>
                  <a:lnTo>
                    <a:pt x="2181" y="113"/>
                  </a:lnTo>
                  <a:lnTo>
                    <a:pt x="2199" y="117"/>
                  </a:lnTo>
                  <a:lnTo>
                    <a:pt x="2215" y="122"/>
                  </a:lnTo>
                  <a:lnTo>
                    <a:pt x="2210" y="123"/>
                  </a:lnTo>
                  <a:lnTo>
                    <a:pt x="2204" y="125"/>
                  </a:lnTo>
                  <a:lnTo>
                    <a:pt x="2199" y="128"/>
                  </a:lnTo>
                  <a:lnTo>
                    <a:pt x="2194" y="129"/>
                  </a:lnTo>
                  <a:lnTo>
                    <a:pt x="2179" y="137"/>
                  </a:lnTo>
                  <a:lnTo>
                    <a:pt x="2166" y="146"/>
                  </a:lnTo>
                  <a:lnTo>
                    <a:pt x="2156" y="158"/>
                  </a:lnTo>
                  <a:lnTo>
                    <a:pt x="2146" y="170"/>
                  </a:lnTo>
                  <a:lnTo>
                    <a:pt x="2136" y="184"/>
                  </a:lnTo>
                  <a:lnTo>
                    <a:pt x="2126" y="198"/>
                  </a:lnTo>
                  <a:lnTo>
                    <a:pt x="2115" y="213"/>
                  </a:lnTo>
                  <a:lnTo>
                    <a:pt x="2101" y="227"/>
                  </a:lnTo>
                  <a:lnTo>
                    <a:pt x="2086" y="238"/>
                  </a:lnTo>
                  <a:lnTo>
                    <a:pt x="2073" y="245"/>
                  </a:lnTo>
                  <a:lnTo>
                    <a:pt x="2062" y="249"/>
                  </a:lnTo>
                  <a:lnTo>
                    <a:pt x="2052" y="250"/>
                  </a:lnTo>
                  <a:lnTo>
                    <a:pt x="2044" y="251"/>
                  </a:lnTo>
                  <a:lnTo>
                    <a:pt x="2039" y="251"/>
                  </a:lnTo>
                  <a:lnTo>
                    <a:pt x="2034" y="252"/>
                  </a:lnTo>
                  <a:lnTo>
                    <a:pt x="2032" y="254"/>
                  </a:lnTo>
                  <a:lnTo>
                    <a:pt x="2030" y="262"/>
                  </a:lnTo>
                  <a:lnTo>
                    <a:pt x="2029" y="275"/>
                  </a:lnTo>
                  <a:lnTo>
                    <a:pt x="2030" y="290"/>
                  </a:lnTo>
                  <a:lnTo>
                    <a:pt x="2036" y="305"/>
                  </a:lnTo>
                  <a:lnTo>
                    <a:pt x="2048" y="317"/>
                  </a:lnTo>
                  <a:lnTo>
                    <a:pt x="2066" y="322"/>
                  </a:lnTo>
                  <a:lnTo>
                    <a:pt x="2095" y="319"/>
                  </a:lnTo>
                  <a:lnTo>
                    <a:pt x="2135" y="303"/>
                  </a:lnTo>
                  <a:lnTo>
                    <a:pt x="2161" y="290"/>
                  </a:lnTo>
                  <a:lnTo>
                    <a:pt x="2185" y="277"/>
                  </a:lnTo>
                  <a:lnTo>
                    <a:pt x="2207" y="266"/>
                  </a:lnTo>
                  <a:lnTo>
                    <a:pt x="2226" y="255"/>
                  </a:lnTo>
                  <a:lnTo>
                    <a:pt x="2241" y="246"/>
                  </a:lnTo>
                  <a:lnTo>
                    <a:pt x="2254" y="239"/>
                  </a:lnTo>
                  <a:lnTo>
                    <a:pt x="2262" y="235"/>
                  </a:lnTo>
                  <a:lnTo>
                    <a:pt x="2264" y="234"/>
                  </a:lnTo>
                  <a:lnTo>
                    <a:pt x="2263" y="235"/>
                  </a:lnTo>
                  <a:lnTo>
                    <a:pt x="2262" y="237"/>
                  </a:lnTo>
                  <a:lnTo>
                    <a:pt x="2258" y="242"/>
                  </a:lnTo>
                  <a:lnTo>
                    <a:pt x="2254" y="249"/>
                  </a:lnTo>
                  <a:lnTo>
                    <a:pt x="2247" y="255"/>
                  </a:lnTo>
                  <a:lnTo>
                    <a:pt x="2239" y="265"/>
                  </a:lnTo>
                  <a:lnTo>
                    <a:pt x="2229" y="276"/>
                  </a:lnTo>
                  <a:lnTo>
                    <a:pt x="2217" y="288"/>
                  </a:lnTo>
                  <a:lnTo>
                    <a:pt x="2203" y="300"/>
                  </a:lnTo>
                  <a:lnTo>
                    <a:pt x="2187" y="314"/>
                  </a:lnTo>
                  <a:lnTo>
                    <a:pt x="2170" y="329"/>
                  </a:lnTo>
                  <a:lnTo>
                    <a:pt x="2149" y="344"/>
                  </a:lnTo>
                  <a:lnTo>
                    <a:pt x="2127" y="359"/>
                  </a:lnTo>
                  <a:lnTo>
                    <a:pt x="2103" y="374"/>
                  </a:lnTo>
                  <a:lnTo>
                    <a:pt x="2077" y="388"/>
                  </a:lnTo>
                  <a:lnTo>
                    <a:pt x="2047" y="402"/>
                  </a:lnTo>
                  <a:lnTo>
                    <a:pt x="2027" y="409"/>
                  </a:lnTo>
                  <a:lnTo>
                    <a:pt x="2007" y="414"/>
                  </a:lnTo>
                  <a:lnTo>
                    <a:pt x="1989" y="418"/>
                  </a:lnTo>
                  <a:lnTo>
                    <a:pt x="1972" y="419"/>
                  </a:lnTo>
                  <a:lnTo>
                    <a:pt x="1954" y="420"/>
                  </a:lnTo>
                  <a:lnTo>
                    <a:pt x="1939" y="419"/>
                  </a:lnTo>
                  <a:lnTo>
                    <a:pt x="1925" y="418"/>
                  </a:lnTo>
                  <a:lnTo>
                    <a:pt x="1911" y="416"/>
                  </a:lnTo>
                  <a:lnTo>
                    <a:pt x="1898" y="413"/>
                  </a:lnTo>
                  <a:lnTo>
                    <a:pt x="1887" y="411"/>
                  </a:lnTo>
                  <a:lnTo>
                    <a:pt x="1877" y="408"/>
                  </a:lnTo>
                  <a:lnTo>
                    <a:pt x="1869" y="404"/>
                  </a:lnTo>
                  <a:lnTo>
                    <a:pt x="1862" y="402"/>
                  </a:lnTo>
                  <a:lnTo>
                    <a:pt x="1858" y="400"/>
                  </a:lnTo>
                  <a:lnTo>
                    <a:pt x="1854" y="398"/>
                  </a:lnTo>
                  <a:lnTo>
                    <a:pt x="1853" y="398"/>
                  </a:lnTo>
                  <a:lnTo>
                    <a:pt x="1847" y="401"/>
                  </a:lnTo>
                  <a:lnTo>
                    <a:pt x="1838" y="405"/>
                  </a:lnTo>
                  <a:lnTo>
                    <a:pt x="1827" y="412"/>
                  </a:lnTo>
                  <a:lnTo>
                    <a:pt x="1812" y="421"/>
                  </a:lnTo>
                  <a:lnTo>
                    <a:pt x="1793" y="432"/>
                  </a:lnTo>
                  <a:lnTo>
                    <a:pt x="1773" y="443"/>
                  </a:lnTo>
                  <a:lnTo>
                    <a:pt x="1748" y="457"/>
                  </a:lnTo>
                  <a:lnTo>
                    <a:pt x="1721" y="471"/>
                  </a:lnTo>
                  <a:lnTo>
                    <a:pt x="1690" y="485"/>
                  </a:lnTo>
                  <a:lnTo>
                    <a:pt x="1655" y="500"/>
                  </a:lnTo>
                  <a:lnTo>
                    <a:pt x="1617" y="515"/>
                  </a:lnTo>
                  <a:lnTo>
                    <a:pt x="1576" y="530"/>
                  </a:lnTo>
                  <a:lnTo>
                    <a:pt x="1530" y="545"/>
                  </a:lnTo>
                  <a:lnTo>
                    <a:pt x="1480" y="559"/>
                  </a:lnTo>
                  <a:lnTo>
                    <a:pt x="1427" y="572"/>
                  </a:lnTo>
                  <a:lnTo>
                    <a:pt x="1369" y="585"/>
                  </a:lnTo>
                  <a:lnTo>
                    <a:pt x="1345" y="590"/>
                  </a:lnTo>
                  <a:lnTo>
                    <a:pt x="1321" y="594"/>
                  </a:lnTo>
                  <a:lnTo>
                    <a:pt x="1298" y="598"/>
                  </a:lnTo>
                  <a:lnTo>
                    <a:pt x="1276" y="602"/>
                  </a:lnTo>
                  <a:lnTo>
                    <a:pt x="1254" y="606"/>
                  </a:lnTo>
                  <a:lnTo>
                    <a:pt x="1232" y="609"/>
                  </a:lnTo>
                  <a:lnTo>
                    <a:pt x="1212" y="613"/>
                  </a:lnTo>
                  <a:lnTo>
                    <a:pt x="1192" y="616"/>
                  </a:lnTo>
                  <a:lnTo>
                    <a:pt x="1171" y="620"/>
                  </a:lnTo>
                  <a:lnTo>
                    <a:pt x="1152" y="623"/>
                  </a:lnTo>
                  <a:lnTo>
                    <a:pt x="1132" y="627"/>
                  </a:lnTo>
                  <a:lnTo>
                    <a:pt x="1114" y="630"/>
                  </a:lnTo>
                  <a:lnTo>
                    <a:pt x="1095" y="632"/>
                  </a:lnTo>
                  <a:lnTo>
                    <a:pt x="1077" y="636"/>
                  </a:lnTo>
                  <a:lnTo>
                    <a:pt x="1059" y="639"/>
                  </a:lnTo>
                  <a:lnTo>
                    <a:pt x="1041" y="643"/>
                  </a:lnTo>
                  <a:lnTo>
                    <a:pt x="1024" y="646"/>
                  </a:lnTo>
                  <a:lnTo>
                    <a:pt x="1007" y="650"/>
                  </a:lnTo>
                  <a:lnTo>
                    <a:pt x="989" y="653"/>
                  </a:lnTo>
                  <a:lnTo>
                    <a:pt x="973" y="656"/>
                  </a:lnTo>
                  <a:lnTo>
                    <a:pt x="957" y="660"/>
                  </a:lnTo>
                  <a:lnTo>
                    <a:pt x="941" y="663"/>
                  </a:lnTo>
                  <a:lnTo>
                    <a:pt x="926" y="668"/>
                  </a:lnTo>
                  <a:lnTo>
                    <a:pt x="910" y="671"/>
                  </a:lnTo>
                  <a:lnTo>
                    <a:pt x="895" y="675"/>
                  </a:lnTo>
                  <a:lnTo>
                    <a:pt x="880" y="678"/>
                  </a:lnTo>
                  <a:lnTo>
                    <a:pt x="865" y="683"/>
                  </a:lnTo>
                  <a:lnTo>
                    <a:pt x="851" y="688"/>
                  </a:lnTo>
                  <a:lnTo>
                    <a:pt x="836" y="691"/>
                  </a:lnTo>
                  <a:lnTo>
                    <a:pt x="823" y="696"/>
                  </a:lnTo>
                  <a:lnTo>
                    <a:pt x="809" y="700"/>
                  </a:lnTo>
                  <a:lnTo>
                    <a:pt x="795" y="705"/>
                  </a:lnTo>
                  <a:lnTo>
                    <a:pt x="767" y="714"/>
                  </a:lnTo>
                  <a:lnTo>
                    <a:pt x="741" y="724"/>
                  </a:lnTo>
                  <a:lnTo>
                    <a:pt x="714" y="735"/>
                  </a:lnTo>
                  <a:lnTo>
                    <a:pt x="689" y="745"/>
                  </a:lnTo>
                  <a:lnTo>
                    <a:pt x="665" y="756"/>
                  </a:lnTo>
                  <a:lnTo>
                    <a:pt x="641" y="767"/>
                  </a:lnTo>
                  <a:lnTo>
                    <a:pt x="618" y="779"/>
                  </a:lnTo>
                  <a:lnTo>
                    <a:pt x="595" y="791"/>
                  </a:lnTo>
                  <a:lnTo>
                    <a:pt x="573" y="805"/>
                  </a:lnTo>
                  <a:lnTo>
                    <a:pt x="552" y="819"/>
                  </a:lnTo>
                  <a:lnTo>
                    <a:pt x="531" y="834"/>
                  </a:lnTo>
                  <a:lnTo>
                    <a:pt x="512" y="850"/>
                  </a:lnTo>
                  <a:lnTo>
                    <a:pt x="492" y="866"/>
                  </a:lnTo>
                  <a:lnTo>
                    <a:pt x="474" y="885"/>
                  </a:lnTo>
                  <a:lnTo>
                    <a:pt x="455" y="903"/>
                  </a:lnTo>
                  <a:lnTo>
                    <a:pt x="438" y="924"/>
                  </a:lnTo>
                  <a:lnTo>
                    <a:pt x="423" y="946"/>
                  </a:lnTo>
                  <a:lnTo>
                    <a:pt x="411" y="969"/>
                  </a:lnTo>
                  <a:lnTo>
                    <a:pt x="402" y="993"/>
                  </a:lnTo>
                  <a:lnTo>
                    <a:pt x="395" y="1017"/>
                  </a:lnTo>
                  <a:lnTo>
                    <a:pt x="392" y="1044"/>
                  </a:lnTo>
                  <a:lnTo>
                    <a:pt x="390" y="1070"/>
                  </a:lnTo>
                  <a:lnTo>
                    <a:pt x="390" y="1096"/>
                  </a:lnTo>
                  <a:lnTo>
                    <a:pt x="392" y="1122"/>
                  </a:lnTo>
                  <a:lnTo>
                    <a:pt x="396" y="1147"/>
                  </a:lnTo>
                  <a:lnTo>
                    <a:pt x="402" y="1173"/>
                  </a:lnTo>
                  <a:lnTo>
                    <a:pt x="408" y="1195"/>
                  </a:lnTo>
                  <a:lnTo>
                    <a:pt x="415" y="1214"/>
                  </a:lnTo>
                  <a:lnTo>
                    <a:pt x="422" y="1231"/>
                  </a:lnTo>
                  <a:lnTo>
                    <a:pt x="429" y="1244"/>
                  </a:lnTo>
                  <a:lnTo>
                    <a:pt x="434" y="1253"/>
                  </a:lnTo>
                  <a:lnTo>
                    <a:pt x="438" y="1257"/>
                  </a:lnTo>
                  <a:lnTo>
                    <a:pt x="439" y="1249"/>
                  </a:lnTo>
                  <a:lnTo>
                    <a:pt x="432" y="1223"/>
                  </a:lnTo>
                  <a:lnTo>
                    <a:pt x="423" y="1187"/>
                  </a:lnTo>
                  <a:lnTo>
                    <a:pt x="415" y="1140"/>
                  </a:lnTo>
                  <a:lnTo>
                    <a:pt x="413" y="1115"/>
                  </a:lnTo>
                  <a:lnTo>
                    <a:pt x="413" y="1090"/>
                  </a:lnTo>
                  <a:lnTo>
                    <a:pt x="415" y="1063"/>
                  </a:lnTo>
                  <a:lnTo>
                    <a:pt x="418" y="1038"/>
                  </a:lnTo>
                  <a:lnTo>
                    <a:pt x="425" y="1011"/>
                  </a:lnTo>
                  <a:lnTo>
                    <a:pt x="436" y="985"/>
                  </a:lnTo>
                  <a:lnTo>
                    <a:pt x="448" y="960"/>
                  </a:lnTo>
                  <a:lnTo>
                    <a:pt x="466" y="935"/>
                  </a:lnTo>
                  <a:lnTo>
                    <a:pt x="475" y="924"/>
                  </a:lnTo>
                  <a:lnTo>
                    <a:pt x="486" y="912"/>
                  </a:lnTo>
                  <a:lnTo>
                    <a:pt x="499" y="900"/>
                  </a:lnTo>
                  <a:lnTo>
                    <a:pt x="513" y="887"/>
                  </a:lnTo>
                  <a:lnTo>
                    <a:pt x="529" y="874"/>
                  </a:lnTo>
                  <a:lnTo>
                    <a:pt x="546" y="860"/>
                  </a:lnTo>
                  <a:lnTo>
                    <a:pt x="563" y="848"/>
                  </a:lnTo>
                  <a:lnTo>
                    <a:pt x="583" y="834"/>
                  </a:lnTo>
                  <a:lnTo>
                    <a:pt x="603" y="821"/>
                  </a:lnTo>
                  <a:lnTo>
                    <a:pt x="623" y="807"/>
                  </a:lnTo>
                  <a:lnTo>
                    <a:pt x="644" y="795"/>
                  </a:lnTo>
                  <a:lnTo>
                    <a:pt x="665" y="783"/>
                  </a:lnTo>
                  <a:lnTo>
                    <a:pt x="687" y="772"/>
                  </a:lnTo>
                  <a:lnTo>
                    <a:pt x="709" y="760"/>
                  </a:lnTo>
                  <a:lnTo>
                    <a:pt x="729" y="750"/>
                  </a:lnTo>
                  <a:lnTo>
                    <a:pt x="751" y="741"/>
                  </a:lnTo>
                  <a:lnTo>
                    <a:pt x="741" y="749"/>
                  </a:lnTo>
                  <a:lnTo>
                    <a:pt x="730" y="759"/>
                  </a:lnTo>
                  <a:lnTo>
                    <a:pt x="720" y="771"/>
                  </a:lnTo>
                  <a:lnTo>
                    <a:pt x="710" y="782"/>
                  </a:lnTo>
                  <a:lnTo>
                    <a:pt x="699" y="795"/>
                  </a:lnTo>
                  <a:lnTo>
                    <a:pt x="690" y="807"/>
                  </a:lnTo>
                  <a:lnTo>
                    <a:pt x="683" y="818"/>
                  </a:lnTo>
                  <a:lnTo>
                    <a:pt x="676" y="828"/>
                  </a:lnTo>
                  <a:lnTo>
                    <a:pt x="666" y="844"/>
                  </a:lnTo>
                  <a:lnTo>
                    <a:pt x="654" y="858"/>
                  </a:lnTo>
                  <a:lnTo>
                    <a:pt x="644" y="869"/>
                  </a:lnTo>
                  <a:lnTo>
                    <a:pt x="634" y="878"/>
                  </a:lnTo>
                  <a:lnTo>
                    <a:pt x="624" y="885"/>
                  </a:lnTo>
                  <a:lnTo>
                    <a:pt x="618" y="889"/>
                  </a:lnTo>
                  <a:lnTo>
                    <a:pt x="613" y="892"/>
                  </a:lnTo>
                  <a:lnTo>
                    <a:pt x="612" y="893"/>
                  </a:lnTo>
                  <a:lnTo>
                    <a:pt x="611" y="893"/>
                  </a:lnTo>
                  <a:lnTo>
                    <a:pt x="609" y="893"/>
                  </a:lnTo>
                  <a:lnTo>
                    <a:pt x="606" y="889"/>
                  </a:lnTo>
                  <a:lnTo>
                    <a:pt x="600" y="881"/>
                  </a:lnTo>
                  <a:lnTo>
                    <a:pt x="596" y="871"/>
                  </a:lnTo>
                  <a:lnTo>
                    <a:pt x="595" y="862"/>
                  </a:lnTo>
                  <a:lnTo>
                    <a:pt x="593" y="856"/>
                  </a:lnTo>
                  <a:lnTo>
                    <a:pt x="591" y="854"/>
                  </a:lnTo>
                  <a:lnTo>
                    <a:pt x="585" y="859"/>
                  </a:lnTo>
                  <a:lnTo>
                    <a:pt x="581" y="872"/>
                  </a:lnTo>
                  <a:lnTo>
                    <a:pt x="581" y="888"/>
                  </a:lnTo>
                  <a:lnTo>
                    <a:pt x="585" y="903"/>
                  </a:lnTo>
                  <a:lnTo>
                    <a:pt x="593" y="919"/>
                  </a:lnTo>
                  <a:lnTo>
                    <a:pt x="600" y="935"/>
                  </a:lnTo>
                  <a:lnTo>
                    <a:pt x="605" y="948"/>
                  </a:lnTo>
                  <a:lnTo>
                    <a:pt x="606" y="953"/>
                  </a:lnTo>
                  <a:lnTo>
                    <a:pt x="609" y="950"/>
                  </a:lnTo>
                  <a:lnTo>
                    <a:pt x="616" y="946"/>
                  </a:lnTo>
                  <a:lnTo>
                    <a:pt x="628" y="937"/>
                  </a:lnTo>
                  <a:lnTo>
                    <a:pt x="643" y="924"/>
                  </a:lnTo>
                  <a:lnTo>
                    <a:pt x="659" y="909"/>
                  </a:lnTo>
                  <a:lnTo>
                    <a:pt x="674" y="892"/>
                  </a:lnTo>
                  <a:lnTo>
                    <a:pt x="690" y="871"/>
                  </a:lnTo>
                  <a:lnTo>
                    <a:pt x="703" y="849"/>
                  </a:lnTo>
                  <a:lnTo>
                    <a:pt x="711" y="833"/>
                  </a:lnTo>
                  <a:lnTo>
                    <a:pt x="722" y="816"/>
                  </a:lnTo>
                  <a:lnTo>
                    <a:pt x="734" y="797"/>
                  </a:lnTo>
                  <a:lnTo>
                    <a:pt x="747" y="779"/>
                  </a:lnTo>
                  <a:lnTo>
                    <a:pt x="758" y="761"/>
                  </a:lnTo>
                  <a:lnTo>
                    <a:pt x="771" y="746"/>
                  </a:lnTo>
                  <a:lnTo>
                    <a:pt x="781" y="734"/>
                  </a:lnTo>
                  <a:lnTo>
                    <a:pt x="789" y="727"/>
                  </a:lnTo>
                  <a:lnTo>
                    <a:pt x="794" y="724"/>
                  </a:lnTo>
                  <a:lnTo>
                    <a:pt x="798" y="722"/>
                  </a:lnTo>
                  <a:lnTo>
                    <a:pt x="805" y="720"/>
                  </a:lnTo>
                  <a:lnTo>
                    <a:pt x="813" y="718"/>
                  </a:lnTo>
                  <a:lnTo>
                    <a:pt x="823" y="714"/>
                  </a:lnTo>
                  <a:lnTo>
                    <a:pt x="833" y="711"/>
                  </a:lnTo>
                  <a:lnTo>
                    <a:pt x="843" y="708"/>
                  </a:lnTo>
                  <a:lnTo>
                    <a:pt x="856" y="705"/>
                  </a:lnTo>
                  <a:lnTo>
                    <a:pt x="869" y="701"/>
                  </a:lnTo>
                  <a:lnTo>
                    <a:pt x="884" y="698"/>
                  </a:lnTo>
                  <a:lnTo>
                    <a:pt x="899" y="695"/>
                  </a:lnTo>
                  <a:lnTo>
                    <a:pt x="915" y="692"/>
                  </a:lnTo>
                  <a:lnTo>
                    <a:pt x="931" y="689"/>
                  </a:lnTo>
                  <a:lnTo>
                    <a:pt x="949" y="685"/>
                  </a:lnTo>
                  <a:lnTo>
                    <a:pt x="968" y="683"/>
                  </a:lnTo>
                  <a:lnTo>
                    <a:pt x="987" y="680"/>
                  </a:lnTo>
                  <a:lnTo>
                    <a:pt x="1007" y="677"/>
                  </a:lnTo>
                  <a:lnTo>
                    <a:pt x="1027" y="675"/>
                  </a:lnTo>
                  <a:lnTo>
                    <a:pt x="1048" y="673"/>
                  </a:lnTo>
                  <a:lnTo>
                    <a:pt x="1070" y="671"/>
                  </a:lnTo>
                  <a:lnTo>
                    <a:pt x="1092" y="670"/>
                  </a:lnTo>
                  <a:lnTo>
                    <a:pt x="1115" y="669"/>
                  </a:lnTo>
                  <a:lnTo>
                    <a:pt x="1138" y="667"/>
                  </a:lnTo>
                  <a:lnTo>
                    <a:pt x="1162" y="666"/>
                  </a:lnTo>
                  <a:lnTo>
                    <a:pt x="1186" y="665"/>
                  </a:lnTo>
                  <a:lnTo>
                    <a:pt x="1212" y="662"/>
                  </a:lnTo>
                  <a:lnTo>
                    <a:pt x="1237" y="661"/>
                  </a:lnTo>
                  <a:lnTo>
                    <a:pt x="1264" y="659"/>
                  </a:lnTo>
                  <a:lnTo>
                    <a:pt x="1290" y="656"/>
                  </a:lnTo>
                  <a:lnTo>
                    <a:pt x="1317" y="653"/>
                  </a:lnTo>
                  <a:lnTo>
                    <a:pt x="1344" y="650"/>
                  </a:lnTo>
                  <a:lnTo>
                    <a:pt x="1373" y="646"/>
                  </a:lnTo>
                  <a:lnTo>
                    <a:pt x="1406" y="640"/>
                  </a:lnTo>
                  <a:lnTo>
                    <a:pt x="1439" y="635"/>
                  </a:lnTo>
                  <a:lnTo>
                    <a:pt x="1470" y="628"/>
                  </a:lnTo>
                  <a:lnTo>
                    <a:pt x="1498" y="621"/>
                  </a:lnTo>
                  <a:lnTo>
                    <a:pt x="1526" y="614"/>
                  </a:lnTo>
                  <a:lnTo>
                    <a:pt x="1553" y="606"/>
                  </a:lnTo>
                  <a:lnTo>
                    <a:pt x="1578" y="598"/>
                  </a:lnTo>
                  <a:lnTo>
                    <a:pt x="1602" y="588"/>
                  </a:lnTo>
                  <a:lnTo>
                    <a:pt x="1624" y="580"/>
                  </a:lnTo>
                  <a:lnTo>
                    <a:pt x="1646" y="571"/>
                  </a:lnTo>
                  <a:lnTo>
                    <a:pt x="1665" y="562"/>
                  </a:lnTo>
                  <a:lnTo>
                    <a:pt x="1684" y="553"/>
                  </a:lnTo>
                  <a:lnTo>
                    <a:pt x="1702" y="544"/>
                  </a:lnTo>
                  <a:lnTo>
                    <a:pt x="1718" y="534"/>
                  </a:lnTo>
                  <a:lnTo>
                    <a:pt x="1735" y="524"/>
                  </a:lnTo>
                  <a:lnTo>
                    <a:pt x="1748" y="515"/>
                  </a:lnTo>
                  <a:lnTo>
                    <a:pt x="1774" y="496"/>
                  </a:lnTo>
                  <a:lnTo>
                    <a:pt x="1796" y="480"/>
                  </a:lnTo>
                  <a:lnTo>
                    <a:pt x="1813" y="466"/>
                  </a:lnTo>
                  <a:lnTo>
                    <a:pt x="1827" y="455"/>
                  </a:lnTo>
                  <a:lnTo>
                    <a:pt x="1837" y="444"/>
                  </a:lnTo>
                  <a:lnTo>
                    <a:pt x="1846" y="435"/>
                  </a:lnTo>
                  <a:lnTo>
                    <a:pt x="1852" y="428"/>
                  </a:lnTo>
                  <a:lnTo>
                    <a:pt x="1855" y="421"/>
                  </a:lnTo>
                  <a:lnTo>
                    <a:pt x="1858" y="427"/>
                  </a:lnTo>
                  <a:lnTo>
                    <a:pt x="1861" y="434"/>
                  </a:lnTo>
                  <a:lnTo>
                    <a:pt x="1865" y="441"/>
                  </a:lnTo>
                  <a:lnTo>
                    <a:pt x="1870" y="447"/>
                  </a:lnTo>
                  <a:lnTo>
                    <a:pt x="1877" y="454"/>
                  </a:lnTo>
                  <a:lnTo>
                    <a:pt x="1885" y="459"/>
                  </a:lnTo>
                  <a:lnTo>
                    <a:pt x="1895" y="464"/>
                  </a:lnTo>
                  <a:lnTo>
                    <a:pt x="1906" y="469"/>
                  </a:lnTo>
                  <a:lnTo>
                    <a:pt x="1918" y="472"/>
                  </a:lnTo>
                  <a:lnTo>
                    <a:pt x="1931" y="473"/>
                  </a:lnTo>
                  <a:lnTo>
                    <a:pt x="1946" y="473"/>
                  </a:lnTo>
                  <a:lnTo>
                    <a:pt x="1964" y="472"/>
                  </a:lnTo>
                  <a:lnTo>
                    <a:pt x="1982" y="469"/>
                  </a:lnTo>
                  <a:lnTo>
                    <a:pt x="2002" y="464"/>
                  </a:lnTo>
                  <a:lnTo>
                    <a:pt x="2022" y="456"/>
                  </a:lnTo>
                  <a:lnTo>
                    <a:pt x="2045" y="446"/>
                  </a:lnTo>
                  <a:lnTo>
                    <a:pt x="2070" y="433"/>
                  </a:lnTo>
                  <a:lnTo>
                    <a:pt x="2093" y="419"/>
                  </a:lnTo>
                  <a:lnTo>
                    <a:pt x="2115" y="406"/>
                  </a:lnTo>
                  <a:lnTo>
                    <a:pt x="2134" y="394"/>
                  </a:lnTo>
                  <a:lnTo>
                    <a:pt x="2151" y="381"/>
                  </a:lnTo>
                  <a:lnTo>
                    <a:pt x="2167" y="368"/>
                  </a:lnTo>
                  <a:lnTo>
                    <a:pt x="2182" y="357"/>
                  </a:lnTo>
                  <a:lnTo>
                    <a:pt x="2196" y="344"/>
                  </a:lnTo>
                  <a:lnTo>
                    <a:pt x="2208" y="333"/>
                  </a:lnTo>
                  <a:lnTo>
                    <a:pt x="2218" y="322"/>
                  </a:lnTo>
                  <a:lnTo>
                    <a:pt x="2229" y="312"/>
                  </a:lnTo>
                  <a:lnTo>
                    <a:pt x="2238" y="303"/>
                  </a:lnTo>
                  <a:lnTo>
                    <a:pt x="2245" y="294"/>
                  </a:lnTo>
                  <a:lnTo>
                    <a:pt x="2252" y="284"/>
                  </a:lnTo>
                  <a:lnTo>
                    <a:pt x="2257" y="277"/>
                  </a:lnTo>
                  <a:lnTo>
                    <a:pt x="2263" y="270"/>
                  </a:lnTo>
                  <a:lnTo>
                    <a:pt x="2279" y="243"/>
                  </a:lnTo>
                  <a:lnTo>
                    <a:pt x="2287" y="220"/>
                  </a:lnTo>
                  <a:lnTo>
                    <a:pt x="2288" y="204"/>
                  </a:lnTo>
                  <a:lnTo>
                    <a:pt x="228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8440" y="5911920"/>
              <a:ext cx="190440" cy="212760"/>
            </a:xfrm>
            <a:custGeom>
              <a:avLst/>
              <a:gdLst/>
              <a:ahLst/>
              <a:rect l="l" t="t" r="r" b="b"/>
              <a:pathLst>
                <a:path w="241" h="268">
                  <a:moveTo>
                    <a:pt x="147" y="194"/>
                  </a:moveTo>
                  <a:lnTo>
                    <a:pt x="136" y="154"/>
                  </a:lnTo>
                  <a:lnTo>
                    <a:pt x="135" y="119"/>
                  </a:lnTo>
                  <a:lnTo>
                    <a:pt x="136" y="93"/>
                  </a:lnTo>
                  <a:lnTo>
                    <a:pt x="138" y="83"/>
                  </a:lnTo>
                  <a:lnTo>
                    <a:pt x="137" y="84"/>
                  </a:lnTo>
                  <a:lnTo>
                    <a:pt x="133" y="86"/>
                  </a:lnTo>
                  <a:lnTo>
                    <a:pt x="126" y="89"/>
                  </a:lnTo>
                  <a:lnTo>
                    <a:pt x="115" y="91"/>
                  </a:lnTo>
                  <a:lnTo>
                    <a:pt x="104" y="91"/>
                  </a:lnTo>
                  <a:lnTo>
                    <a:pt x="89" y="90"/>
                  </a:lnTo>
                  <a:lnTo>
                    <a:pt x="73" y="85"/>
                  </a:lnTo>
                  <a:lnTo>
                    <a:pt x="54" y="76"/>
                  </a:lnTo>
                  <a:lnTo>
                    <a:pt x="42" y="66"/>
                  </a:lnTo>
                  <a:lnTo>
                    <a:pt x="30" y="54"/>
                  </a:lnTo>
                  <a:lnTo>
                    <a:pt x="21" y="41"/>
                  </a:lnTo>
                  <a:lnTo>
                    <a:pt x="13" y="29"/>
                  </a:lnTo>
                  <a:lnTo>
                    <a:pt x="7" y="18"/>
                  </a:lnTo>
                  <a:lnTo>
                    <a:pt x="4" y="8"/>
                  </a:lnTo>
                  <a:lnTo>
                    <a:pt x="1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5"/>
                  </a:lnTo>
                  <a:lnTo>
                    <a:pt x="16" y="10"/>
                  </a:lnTo>
                  <a:lnTo>
                    <a:pt x="27" y="17"/>
                  </a:lnTo>
                  <a:lnTo>
                    <a:pt x="39" y="24"/>
                  </a:lnTo>
                  <a:lnTo>
                    <a:pt x="53" y="32"/>
                  </a:lnTo>
                  <a:lnTo>
                    <a:pt x="68" y="39"/>
                  </a:lnTo>
                  <a:lnTo>
                    <a:pt x="83" y="46"/>
                  </a:lnTo>
                  <a:lnTo>
                    <a:pt x="98" y="51"/>
                  </a:lnTo>
                  <a:lnTo>
                    <a:pt x="112" y="53"/>
                  </a:lnTo>
                  <a:lnTo>
                    <a:pt x="126" y="55"/>
                  </a:lnTo>
                  <a:lnTo>
                    <a:pt x="138" y="55"/>
                  </a:lnTo>
                  <a:lnTo>
                    <a:pt x="150" y="55"/>
                  </a:lnTo>
                  <a:lnTo>
                    <a:pt x="158" y="54"/>
                  </a:lnTo>
                  <a:lnTo>
                    <a:pt x="162" y="53"/>
                  </a:lnTo>
                  <a:lnTo>
                    <a:pt x="165" y="53"/>
                  </a:lnTo>
                  <a:lnTo>
                    <a:pt x="165" y="65"/>
                  </a:lnTo>
                  <a:lnTo>
                    <a:pt x="165" y="91"/>
                  </a:lnTo>
                  <a:lnTo>
                    <a:pt x="167" y="124"/>
                  </a:lnTo>
                  <a:lnTo>
                    <a:pt x="173" y="157"/>
                  </a:lnTo>
                  <a:lnTo>
                    <a:pt x="180" y="172"/>
                  </a:lnTo>
                  <a:lnTo>
                    <a:pt x="189" y="190"/>
                  </a:lnTo>
                  <a:lnTo>
                    <a:pt x="200" y="209"/>
                  </a:lnTo>
                  <a:lnTo>
                    <a:pt x="212" y="226"/>
                  </a:lnTo>
                  <a:lnTo>
                    <a:pt x="222" y="243"/>
                  </a:lnTo>
                  <a:lnTo>
                    <a:pt x="232" y="256"/>
                  </a:lnTo>
                  <a:lnTo>
                    <a:pt x="238" y="265"/>
                  </a:lnTo>
                  <a:lnTo>
                    <a:pt x="241" y="268"/>
                  </a:lnTo>
                  <a:lnTo>
                    <a:pt x="237" y="267"/>
                  </a:lnTo>
                  <a:lnTo>
                    <a:pt x="228" y="262"/>
                  </a:lnTo>
                  <a:lnTo>
                    <a:pt x="215" y="255"/>
                  </a:lnTo>
                  <a:lnTo>
                    <a:pt x="200" y="244"/>
                  </a:lnTo>
                  <a:lnTo>
                    <a:pt x="184" y="234"/>
                  </a:lnTo>
                  <a:lnTo>
                    <a:pt x="169" y="221"/>
                  </a:lnTo>
                  <a:lnTo>
                    <a:pt x="157" y="207"/>
                  </a:lnTo>
                  <a:lnTo>
                    <a:pt x="147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45440" y="5289840"/>
              <a:ext cx="44280" cy="5544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29" y="36"/>
                  </a:moveTo>
                  <a:lnTo>
                    <a:pt x="28" y="26"/>
                  </a:lnTo>
                  <a:lnTo>
                    <a:pt x="30" y="15"/>
                  </a:lnTo>
                  <a:lnTo>
                    <a:pt x="34" y="7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18" y="5"/>
                  </a:lnTo>
                  <a:lnTo>
                    <a:pt x="7" y="15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3" y="69"/>
                  </a:lnTo>
                  <a:lnTo>
                    <a:pt x="40" y="71"/>
                  </a:lnTo>
                  <a:lnTo>
                    <a:pt x="46" y="69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5" y="66"/>
                  </a:lnTo>
                  <a:lnTo>
                    <a:pt x="57" y="65"/>
                  </a:lnTo>
                  <a:lnTo>
                    <a:pt x="48" y="61"/>
                  </a:lnTo>
                  <a:lnTo>
                    <a:pt x="40" y="56"/>
                  </a:lnTo>
                  <a:lnTo>
                    <a:pt x="34" y="46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2080" y="5354640"/>
              <a:ext cx="176400" cy="20664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122" y="0"/>
                  </a:moveTo>
                  <a:lnTo>
                    <a:pt x="117" y="0"/>
                  </a:lnTo>
                  <a:lnTo>
                    <a:pt x="102" y="3"/>
                  </a:lnTo>
                  <a:lnTo>
                    <a:pt x="81" y="11"/>
                  </a:lnTo>
                  <a:lnTo>
                    <a:pt x="57" y="28"/>
                  </a:lnTo>
                  <a:lnTo>
                    <a:pt x="34" y="58"/>
                  </a:lnTo>
                  <a:lnTo>
                    <a:pt x="14" y="103"/>
                  </a:lnTo>
                  <a:lnTo>
                    <a:pt x="3" y="167"/>
                  </a:lnTo>
                  <a:lnTo>
                    <a:pt x="0" y="255"/>
                  </a:lnTo>
                  <a:lnTo>
                    <a:pt x="3" y="255"/>
                  </a:lnTo>
                  <a:lnTo>
                    <a:pt x="8" y="257"/>
                  </a:lnTo>
                  <a:lnTo>
                    <a:pt x="18" y="258"/>
                  </a:lnTo>
                  <a:lnTo>
                    <a:pt x="29" y="260"/>
                  </a:lnTo>
                  <a:lnTo>
                    <a:pt x="44" y="261"/>
                  </a:lnTo>
                  <a:lnTo>
                    <a:pt x="60" y="261"/>
                  </a:lnTo>
                  <a:lnTo>
                    <a:pt x="78" y="260"/>
                  </a:lnTo>
                  <a:lnTo>
                    <a:pt x="97" y="256"/>
                  </a:lnTo>
                  <a:lnTo>
                    <a:pt x="116" y="250"/>
                  </a:lnTo>
                  <a:lnTo>
                    <a:pt x="135" y="243"/>
                  </a:lnTo>
                  <a:lnTo>
                    <a:pt x="154" y="232"/>
                  </a:lnTo>
                  <a:lnTo>
                    <a:pt x="171" y="218"/>
                  </a:lnTo>
                  <a:lnTo>
                    <a:pt x="187" y="200"/>
                  </a:lnTo>
                  <a:lnTo>
                    <a:pt x="201" y="177"/>
                  </a:lnTo>
                  <a:lnTo>
                    <a:pt x="212" y="149"/>
                  </a:lnTo>
                  <a:lnTo>
                    <a:pt x="222" y="117"/>
                  </a:lnTo>
                  <a:lnTo>
                    <a:pt x="217" y="121"/>
                  </a:lnTo>
                  <a:lnTo>
                    <a:pt x="205" y="134"/>
                  </a:lnTo>
                  <a:lnTo>
                    <a:pt x="188" y="150"/>
                  </a:lnTo>
                  <a:lnTo>
                    <a:pt x="164" y="167"/>
                  </a:lnTo>
                  <a:lnTo>
                    <a:pt x="137" y="185"/>
                  </a:lnTo>
                  <a:lnTo>
                    <a:pt x="108" y="196"/>
                  </a:lnTo>
                  <a:lnTo>
                    <a:pt x="76" y="200"/>
                  </a:lnTo>
                  <a:lnTo>
                    <a:pt x="44" y="194"/>
                  </a:lnTo>
                  <a:lnTo>
                    <a:pt x="43" y="188"/>
                  </a:lnTo>
                  <a:lnTo>
                    <a:pt x="41" y="171"/>
                  </a:lnTo>
                  <a:lnTo>
                    <a:pt x="40" y="147"/>
                  </a:lnTo>
                  <a:lnTo>
                    <a:pt x="42" y="118"/>
                  </a:lnTo>
                  <a:lnTo>
                    <a:pt x="49" y="86"/>
                  </a:lnTo>
                  <a:lnTo>
                    <a:pt x="63" y="53"/>
                  </a:lnTo>
                  <a:lnTo>
                    <a:pt x="87" y="2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2680" y="5288040"/>
              <a:ext cx="98280" cy="17640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46" y="0"/>
                  </a:moveTo>
                  <a:lnTo>
                    <a:pt x="45" y="1"/>
                  </a:lnTo>
                  <a:lnTo>
                    <a:pt x="40" y="6"/>
                  </a:lnTo>
                  <a:lnTo>
                    <a:pt x="35" y="12"/>
                  </a:lnTo>
                  <a:lnTo>
                    <a:pt x="27" y="21"/>
                  </a:lnTo>
                  <a:lnTo>
                    <a:pt x="20" y="31"/>
                  </a:lnTo>
                  <a:lnTo>
                    <a:pt x="13" y="44"/>
                  </a:lnTo>
                  <a:lnTo>
                    <a:pt x="6" y="58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1" y="108"/>
                  </a:lnTo>
                  <a:lnTo>
                    <a:pt x="7" y="127"/>
                  </a:lnTo>
                  <a:lnTo>
                    <a:pt x="19" y="145"/>
                  </a:lnTo>
                  <a:lnTo>
                    <a:pt x="35" y="165"/>
                  </a:lnTo>
                  <a:lnTo>
                    <a:pt x="57" y="184"/>
                  </a:lnTo>
                  <a:lnTo>
                    <a:pt x="86" y="203"/>
                  </a:lnTo>
                  <a:lnTo>
                    <a:pt x="123" y="223"/>
                  </a:lnTo>
                  <a:lnTo>
                    <a:pt x="118" y="218"/>
                  </a:lnTo>
                  <a:lnTo>
                    <a:pt x="101" y="206"/>
                  </a:lnTo>
                  <a:lnTo>
                    <a:pt x="82" y="188"/>
                  </a:lnTo>
                  <a:lnTo>
                    <a:pt x="60" y="161"/>
                  </a:lnTo>
                  <a:lnTo>
                    <a:pt x="42" y="129"/>
                  </a:lnTo>
                  <a:lnTo>
                    <a:pt x="30" y="91"/>
                  </a:lnTo>
                  <a:lnTo>
                    <a:pt x="30" y="49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43560" y="5226120"/>
              <a:ext cx="325440" cy="44640"/>
            </a:xfrm>
            <a:custGeom>
              <a:avLst/>
              <a:gdLst/>
              <a:ahLst/>
              <a:rect l="l" t="t" r="r" b="b"/>
              <a:pathLst>
                <a:path w="410" h="55">
                  <a:moveTo>
                    <a:pt x="410" y="33"/>
                  </a:moveTo>
                  <a:lnTo>
                    <a:pt x="408" y="32"/>
                  </a:lnTo>
                  <a:lnTo>
                    <a:pt x="400" y="30"/>
                  </a:lnTo>
                  <a:lnTo>
                    <a:pt x="387" y="26"/>
                  </a:lnTo>
                  <a:lnTo>
                    <a:pt x="371" y="21"/>
                  </a:lnTo>
                  <a:lnTo>
                    <a:pt x="350" y="16"/>
                  </a:lnTo>
                  <a:lnTo>
                    <a:pt x="327" y="11"/>
                  </a:lnTo>
                  <a:lnTo>
                    <a:pt x="301" y="7"/>
                  </a:lnTo>
                  <a:lnTo>
                    <a:pt x="272" y="2"/>
                  </a:lnTo>
                  <a:lnTo>
                    <a:pt x="241" y="0"/>
                  </a:lnTo>
                  <a:lnTo>
                    <a:pt x="207" y="0"/>
                  </a:lnTo>
                  <a:lnTo>
                    <a:pt x="174" y="1"/>
                  </a:lnTo>
                  <a:lnTo>
                    <a:pt x="140" y="6"/>
                  </a:lnTo>
                  <a:lnTo>
                    <a:pt x="104" y="13"/>
                  </a:lnTo>
                  <a:lnTo>
                    <a:pt x="69" y="23"/>
                  </a:lnTo>
                  <a:lnTo>
                    <a:pt x="34" y="37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12" y="53"/>
                  </a:lnTo>
                  <a:lnTo>
                    <a:pt x="24" y="51"/>
                  </a:lnTo>
                  <a:lnTo>
                    <a:pt x="42" y="47"/>
                  </a:lnTo>
                  <a:lnTo>
                    <a:pt x="62" y="44"/>
                  </a:lnTo>
                  <a:lnTo>
                    <a:pt x="88" y="39"/>
                  </a:lnTo>
                  <a:lnTo>
                    <a:pt x="115" y="36"/>
                  </a:lnTo>
                  <a:lnTo>
                    <a:pt x="145" y="32"/>
                  </a:lnTo>
                  <a:lnTo>
                    <a:pt x="176" y="29"/>
                  </a:lnTo>
                  <a:lnTo>
                    <a:pt x="210" y="25"/>
                  </a:lnTo>
                  <a:lnTo>
                    <a:pt x="243" y="24"/>
                  </a:lnTo>
                  <a:lnTo>
                    <a:pt x="278" y="23"/>
                  </a:lnTo>
                  <a:lnTo>
                    <a:pt x="312" y="23"/>
                  </a:lnTo>
                  <a:lnTo>
                    <a:pt x="347" y="24"/>
                  </a:lnTo>
                  <a:lnTo>
                    <a:pt x="379" y="28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0800" y="5262840"/>
              <a:ext cx="81000" cy="9180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0" y="0"/>
                  </a:moveTo>
                  <a:lnTo>
                    <a:pt x="3" y="1"/>
                  </a:lnTo>
                  <a:lnTo>
                    <a:pt x="14" y="7"/>
                  </a:lnTo>
                  <a:lnTo>
                    <a:pt x="28" y="15"/>
                  </a:lnTo>
                  <a:lnTo>
                    <a:pt x="44" y="26"/>
                  </a:lnTo>
                  <a:lnTo>
                    <a:pt x="59" y="42"/>
                  </a:lnTo>
                  <a:lnTo>
                    <a:pt x="72" y="63"/>
                  </a:lnTo>
                  <a:lnTo>
                    <a:pt x="81" y="87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92" y="99"/>
                  </a:lnTo>
                  <a:lnTo>
                    <a:pt x="99" y="81"/>
                  </a:lnTo>
                  <a:lnTo>
                    <a:pt x="101" y="60"/>
                  </a:lnTo>
                  <a:lnTo>
                    <a:pt x="97" y="39"/>
                  </a:lnTo>
                  <a:lnTo>
                    <a:pt x="81" y="21"/>
                  </a:lnTo>
                  <a:lnTo>
                    <a:pt x="4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4800600"/>
            <a:ext cx="257328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2732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462"/>
            </a:gs>
            <a:gs pos="100000">
              <a:srgbClr val="002e2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 VS.2 Geograph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rginia rivers flow into the Chesapeake B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1532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8b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8:19:05Z</dcterms:created>
  <dc:creator>FRANKLIN COUNTY SCHOOLS</dc:creator>
  <dc:description/>
  <dc:language>en-US</dc:language>
  <cp:lastModifiedBy>GrantBB</cp:lastModifiedBy>
  <dcterms:modified xsi:type="dcterms:W3CDTF">2007-09-10T19:55:45Z</dcterms:modified>
  <cp:revision>58</cp:revision>
  <dc:subject/>
  <dc:title>Virginia SOL Review</dc:title>
</cp:coreProperties>
</file>